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94.xml" ContentType="application/vnd.openxmlformats-officedocument.theme+xml"/>
  <Override PartName="/ppt/theme/theme29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62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85.xml" ContentType="application/vnd.openxmlformats-officedocument.theme+xml"/>
  <Override PartName="/ppt/theme/theme61.xml" ContentType="application/vnd.openxmlformats-officedocument.theme+xml"/>
  <Override PartName="/ppt/theme/theme96.xml" ContentType="application/vnd.openxmlformats-officedocument.theme+xml"/>
  <Override PartName="/ppt/theme/theme95.xml" ContentType="application/vnd.openxmlformats-officedocument.theme+xml"/>
  <Override PartName="/ppt/theme/theme89.xml" ContentType="application/vnd.openxmlformats-officedocument.theme+xml"/>
  <Override PartName="/ppt/theme/theme77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media/image11.png" ContentType="image/png"/>
  <Override PartName="/ppt/media/image14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</p:sldMasterIdLst>
  <p:notesMasterIdLst>
    <p:notesMasterId r:id="rId98"/>
  </p:notesMasterIdLst>
  <p:sldIdLst>
    <p:sldId id="256" r:id="rId99"/>
    <p:sldId id="257" r:id="rId100"/>
    <p:sldId id="258" r:id="rId101"/>
    <p:sldId id="259" r:id="rId102"/>
    <p:sldId id="260" r:id="rId103"/>
    <p:sldId id="261" r:id="rId104"/>
    <p:sldId id="262" r:id="rId105"/>
    <p:sldId id="263" r:id="rId106"/>
    <p:sldId id="264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notesMaster" Target="notesMasters/notesMaster1.xml"/><Relationship Id="rId99" Type="http://schemas.openxmlformats.org/officeDocument/2006/relationships/slide" Target="slides/slide1.xml"/><Relationship Id="rId100" Type="http://schemas.openxmlformats.org/officeDocument/2006/relationships/slide" Target="slides/slide2.xml"/><Relationship Id="rId101" Type="http://schemas.openxmlformats.org/officeDocument/2006/relationships/slide" Target="slides/slide3.xml"/><Relationship Id="rId102" Type="http://schemas.openxmlformats.org/officeDocument/2006/relationships/slide" Target="slides/slide4.xml"/><Relationship Id="rId103" Type="http://schemas.openxmlformats.org/officeDocument/2006/relationships/slide" Target="slides/slide5.xml"/><Relationship Id="rId104" Type="http://schemas.openxmlformats.org/officeDocument/2006/relationships/slide" Target="slides/slide6.xml"/><Relationship Id="rId105" Type="http://schemas.openxmlformats.org/officeDocument/2006/relationships/slide" Target="slides/slide7.xml"/><Relationship Id="rId106" Type="http://schemas.openxmlformats.org/officeDocument/2006/relationships/slide" Target="slides/slide8.xml"/><Relationship Id="rId107" Type="http://schemas.openxmlformats.org/officeDocument/2006/relationships/slide" Target="slides/slide9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 type="dt" idx="2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PlaceHolder 5"/>
          <p:cNvSpPr>
            <a:spLocks noGrp="1"/>
          </p:cNvSpPr>
          <p:nvPr>
            <p:ph type="ftr" idx="2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PlaceHolder 6"/>
          <p:cNvSpPr>
            <a:spLocks noGrp="1"/>
          </p:cNvSpPr>
          <p:nvPr>
            <p:ph type="sldNum" idx="2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CFC5-6C4C-4A2D-9947-DD8BCEE826F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4CF0-DA20-484E-955D-7CBE22FEF85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35648-0028-4667-8E61-B0959ED9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B37D2-6B98-4D32-A663-8E97CB8E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6EF599-1FB5-4252-A0AB-AFD86F82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D8AB48D-BC4D-4400-8A25-23C721D0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6777FC4-EA80-4CA5-A28B-8694825C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24CBB0D-B380-47C2-A34E-A756EFB0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C51AC79-276C-4A54-A9A4-40C6DC27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75FC465-8C62-42BD-8C91-FC49B128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BE5105F-1160-46C6-8CE0-78075465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A001113-671F-48A9-9EC8-33A466CD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7897689-3BB6-43FE-A6B5-E414B130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1C3F9EF-E910-4F71-9B35-5E8C5287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1493032-D718-4882-AEE0-3B0C91E4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B591B9-409D-47A0-A9AE-EEDB6C5E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554CB52-E2AC-49E5-B10B-BBE5BEEC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B237956-F5C5-44D4-8A13-7040656A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F2C2492-477A-4D09-9815-D3E42DF6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406812E-0A6C-4D59-89F1-938DFA83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A3A4DB5-FDFC-4CB4-B5FC-C4E069F2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141F753-23A4-4D56-80CE-5999612D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B08923F-883B-4587-97BB-0F33C5B7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3FCB9E7-268F-430E-8773-6342293A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A87F1E4-56F2-4F02-B217-D79F56FB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30B8B80-E0E2-4F6F-9A62-9903412F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C11EDD-2CED-4D70-8F03-FC458AA4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DB923A8-991E-4B9C-AAE4-93C36056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555BD63-3B4A-4A1C-A6FC-3375DA604E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FA79FE6-A3C4-4CF0-9925-0F1D75D8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1353A23-2706-4CC1-8B7E-95E3C162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063A531-9417-4A0E-9DF5-78383178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CCA79F3-BDC4-473B-A40B-DFA8D9A4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54BCA41-F034-45D9-89C6-EF0F6252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29189D8-BD5F-4252-9688-0613A41C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C439598-FC40-4511-9805-FE63D55F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98BFAC4-FFA0-4198-A48E-0BB6783F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35F83B-70A0-4D5D-B2D2-03E84536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C3D252F-DE35-489C-A2BE-F804B107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91F06EC-8ED5-4641-B727-71ED1706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168F6B5-DFB2-4969-9C07-126CDE1CA5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A68FE4FA-CCA0-4EC4-A10D-30A83D1FFB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01F1689A-A01C-4288-A81C-579EFDF7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CA4E7CCE-7F3A-4BC8-ABAE-B19D64A1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DB20AE8B-E3E1-4F16-819B-CFB65A29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383F8E90-F151-414B-AFF6-52595841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3A851448-C9B8-401F-AA95-B10734D5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05CEE7CB-E5F0-413E-9D0B-50CB51DB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1040CF-5D90-44BA-865D-F176E084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EE6C3701-F5B6-4FB3-8EF4-1020AADD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7110B44A-C048-4246-BFE1-BD08AD22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309B98FF-8B9B-48C1-B88D-5C8914BF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39D259E7-1EA6-40C5-9EE4-B09094F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86360EFC-F208-4E6F-9766-0969628B7A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AAE8CB9D-89CC-42B0-8E60-F57E8F00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9567113-C2A5-42F9-91A5-01747527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618FEC13-C396-4D6F-BB7A-1E9F04CE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66F5C043-110B-4F55-A373-6B33113F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D6915FDA-F09B-484F-B24E-2B1D48B4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74D749-C3EA-45D0-8D40-A04E8A90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11B3E801-158C-4BC4-A15A-8A18224F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8A27E33-33F8-42B0-AC19-53EBF278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305A2B1-9D62-4681-AD75-4192E6A9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423B9ED4-C457-49C9-A048-32438606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5AED61BD-2CFF-43E9-AD62-F6E63E4B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54579C7B-D276-40D0-9D70-44C9E86C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1DBB844C-BD3A-444B-83C6-D9C52074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27B9443-02D7-4FAA-AC56-A82509B9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45A8FD16-E55A-4B7A-AFB9-1322EA78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51BD47FD-F3BE-4006-B131-35352D15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C8E4EF-EBA7-405E-99EC-8A81F217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200BB91-5724-4AFA-9ECA-D1D34963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0F973A96-7DCE-4B63-B6D9-24CD1A05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7141703-870A-4F47-9DC8-E93FA236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9C7F59A-7B7E-455F-8156-EB09F896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FDE4B90-B015-47A5-A7A7-BD838B98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3E4B073-1627-4D67-9174-64527A99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A30EF90-2FC3-4A1A-B162-9D4351A7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B2913DF9-D467-4497-A0A1-6CE519E3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75943520-B97F-49BD-9FAA-597D99EF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A42E62D-E505-4E3A-8DD8-A87B1048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C5FC51-6306-49E1-ACB2-F133E91F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E8543667-37CB-4115-B51F-38AA107C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C9AEA1EB-3F75-402E-B184-F44DD3EE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6294BEE6-E1DA-43AD-B53F-55C0D1FA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1ECD6111-73B4-4458-9472-B2F9BB11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BF2AEB9-9A31-44F6-98BC-7B30DCB4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05F8B79D-98D8-4F4B-826C-A405694B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D01F6F2B-6DE3-4467-97BE-D1A827A9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4FFF2FE-A002-4384-BA00-EF5617B8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1668FFEC-963E-4C39-B350-61A01A26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C9DF969E-2BC8-43E4-AA05-34EC867E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1B69EE-0BF5-441C-8C8D-39B6685D63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69A10EA4-F104-499F-B072-63FF0CEC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3A9547F-2219-4562-B073-29517698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14B8FB0-A445-40D6-BEB3-3746EE63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1E36450A-C1FE-44CB-B747-3DBDE9FC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C15D8F04-D0C8-47BB-8EB5-FA249277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165DDBDD-F8D6-466C-A1A5-7FD86708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524147E6-B28F-4FA5-ACD0-3326FEDD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E08FB60E-E689-4867-9C47-B8607BE7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275B5CA5-0BD8-4EF6-9FCF-CD2C5284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096D4BA6-34CD-4967-8666-FA10A468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2490A-852F-49AC-B41A-16EC64C9E7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E58E425-0889-41DC-901B-AB8B8B56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77F2406-9BBA-4989-96B7-8E3E229C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E6D363C-4D18-4200-BE7F-E2E6F914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CF65D97-40CF-4BF2-AC17-7B13D73A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A446B9B-CAA2-4FC1-A66C-5DB70093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27F4BEC-4BE9-4495-B6CD-5A7E694B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46E0DC1B-0215-40E4-9C24-8BA105F6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2A3B59F-BE1D-4969-9FF4-C804D700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60EB490-D8FB-47A7-AF7B-CC540735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6B487C6-922B-421E-9109-EBF06F4B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530A9-9CA1-49F1-9BB5-C9723875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7F2C5F-D34D-4E8A-9599-CB5683E7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4A39151F-ABC3-4A7D-B1A1-4B92058E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0F69A8F-894B-40C6-93BE-B01D5EE2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B37D05EF-F08D-4A3B-8469-DFDC1EBB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0982117-C26A-47B9-A7EA-2D45053C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D6D25E5C-E4AC-4864-8033-021956A2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C71C76C8-F090-4086-B9A1-35852FED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036B05F2-E5D4-480B-BC4D-7296B248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5B671B48-8E45-47CE-8EA2-6EC3104D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703A74D-3EE2-4B92-BF4D-272B3BF0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CAB2009-F4F6-4F82-93FB-F9AD4585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7B288-FC5F-4A66-9482-F16DE3C2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FCD0296-4B32-4A50-9BE0-DF20785B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26EB0FD-5624-43C8-A04E-197BCD08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53BE1408-1191-4075-A0E4-E98E519A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3C92A9C-75FE-4EA7-AE65-FDB4365E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B4EF148D-04F5-47EF-86F3-E8580D72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89D56480-DFF0-47C5-A883-4E6D0DC4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BEACCC6-158F-48A3-B9E9-EE2ACF20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8E1D80FF-B044-4DA3-85CF-76AF70B4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5C310BD4-A629-4401-ABF6-EDC39A5F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037E0204-819B-414A-9EFB-E36E9CB4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0EFC1-AC65-42D0-993A-8915C771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C8800C90-31CE-47AE-ACA5-7E150D72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8F095137-D89D-4F97-AE4B-6CFAE946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E5DE9196-15E2-415F-A874-684427C6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F8E4EE07-1AAE-4351-8A4D-54577BBA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3D69318E-4417-41D7-BBA6-F3740E50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BFB88117-3C3E-4181-B3CB-325AE0B7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7B3F9CE5-497B-4CAF-802C-DC60EE3E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DFF6B36F-4F9E-4999-A6C3-3F4BED82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C00D492D-1B5B-4C89-ABE2-802C3E6E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84B0ED64-CD28-467B-91C6-3C28FD30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D448B-5653-45AF-BD98-0DE471AD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11F1FABD-13B4-4058-A028-4F38A939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60E7BAE7-89CA-4A85-ABC0-16BF4C67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BE6E3555-7CD5-4F0F-9AE3-27E0FCCA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E8292EDB-8B75-4D06-BCDC-3253CF35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D602F3DD-547B-45B8-A824-BC803EBC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001B2F76-CBCE-416F-A0ED-1BD3B2BE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BCE7BFCE-2B4B-4002-8A78-43B3007E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453328ED-2322-40EE-AAED-522007C2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0B7FFA5A-1261-4147-8950-5A16DB45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15ABCD6E-0F1B-4574-B117-C420476E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6B7ED5-936C-4804-ACE1-D6AA747F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59EA619E-72E5-4C27-859D-A3C1C92D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290C2651-0028-49BB-8424-F3E3058A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6C7BCB6A-D940-418E-8A78-3D229E88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ED60E303-7533-4476-86E5-E73C4C9B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30C71610-2FA4-4FB1-8AA6-1A75B2C0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3426BAA0-3309-4225-8129-4887DD36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4DADF293-87F9-44D3-B3EB-B9A857E1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79A42E17-9E2F-4B35-9E47-021BBAB7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098C01A1-3385-4FC4-9049-2B125210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9F5B2823-764C-46E6-B685-E6393C5D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FF353-9653-43F4-8DFB-D5662000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F7A0DB89-F120-4A46-8E47-0ADE0712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CAA67B0D-253A-4F27-B717-7AA4FC90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A8F10AEA-988A-4BBF-869F-196B106E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6078C-B003-4214-8F81-713F59ED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5E707-D0E5-45E7-8F71-D2AB6467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C8C4B-FE0C-4051-958E-C48FF83C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23066-9A0A-45A6-8127-9DFBCB53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F5AD-FF73-4E33-A40B-9E80100A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D2D62-AA1D-489C-BA07-09685C621C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1C773-81DB-4BE2-9789-436FD679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F2EA4-1567-4F01-B31D-2C89534F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48E1B-B080-4DDA-8C32-9FAEE585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67E8F-D2A0-4D2C-8F5E-EEE66D56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C4EC8-B748-4EA7-90DB-066CDC64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12C13-6EBD-400F-B493-16524172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A2AE2-5724-4933-B13A-15AEF468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5B657-9B35-4940-812C-70D99609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BCFC6-7C31-4E35-B871-C3E83FA8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01017-A748-4137-A4AC-B7F25602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02359-CE94-4170-A04F-152C35AD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44CAB-B421-4FB4-9D39-EAD7F7D1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7E01B-A1FB-487A-82F5-DA02C0D5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9E835-1C7B-4946-963B-3CBADC19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BB140-29C2-4780-9EE5-EB4645E2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C7BDB-9CE0-41AA-BCD4-2D6B7261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78D9D-53F7-4663-BA8A-AF9E5E91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D237D-30F4-47E8-8411-EB4481EE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92626-E82A-4D71-9FB7-77D5484D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0DAFE-31D3-4B1F-A83E-1A91FACB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8BD73-E6F5-49DB-B485-F283494F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420D3-C099-4A49-AE97-81802A73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1E5CE-91DF-42AA-814E-81B92063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01451-86E0-42F1-8F8A-1B29DCDE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51387-BEBB-4C72-8E8E-CEBFC790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D72D1-9F9D-4E86-B6F4-C8DFB308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FB1F6-6AF6-49C8-BE77-95FC5991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8B53F-9909-4112-AD9B-1F712300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D7617-CE0A-4767-BBE0-49FF33B8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5FA76-438C-4B7E-9C65-B30C5D9A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078B0-A0E8-4339-B7A8-6C05EE6A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43C6D-3700-4CA8-921F-2FF5718E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1F9E8-70AB-47D6-9EE0-5E0DFC96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DAE0C-9B82-4A1C-9556-B2B7890F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19173-B172-4A63-8E77-0DCB06FE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20E29-663F-4A3C-9037-EA2A6CDC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779DE-F44C-46A0-8524-F2B3796F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16DAF-2596-454E-B35D-2129061D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94B89-EDBD-4528-9801-C305A836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5F941-B7A2-4BAC-9975-ED471604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956FEE-0C83-40F2-A7E2-6693644E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D828A-016A-4CE4-A330-4D9E7629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22F4A-C7AF-42C5-8E45-967E1AA0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FCC78-594B-487B-BBF3-700A5F39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6F1CE-5733-4D47-9B88-25596047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A12E9-C111-44BD-A68E-09C4BB9F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73BA6-1039-40D4-9822-DE57AFF7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6919F-31EC-49C0-8892-EFC54AE7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8CB96-B5EE-41A0-8CBA-DE150E9C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45F2E-DFB4-4966-9CFC-124F9AC9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1A9DB-E50E-4050-AEF1-7463DB8C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7454A-235D-4FE6-9464-F9FE7108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D8E37-A89B-4545-9AB3-8BACB018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CA9FF-271C-4976-A8AA-5E075AC8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C25D6-78B6-4F4B-9779-ACF00B8C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9302A-6C31-428A-9E05-A9D801D8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24016-4C98-4A55-A7B2-47D75CB2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1BD2AA-C235-43C2-BDC6-23A027E2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902538-B1B5-4A41-8730-035E5F28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DC7EB6-9391-419E-887F-5F6636C9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913F6-3030-41A0-BB25-43D23AE3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EDF04-CEB1-45C8-A03D-8E9672FF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723F18-C0F9-413B-9284-40CC498E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EE224-714B-4FF3-B73A-4EB5C731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AB06E-D9F7-4F13-88F1-9CAC521A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39FB5-98C0-49BF-95CE-C89472F3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1523F9-487E-431E-9C24-A773BA05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A8176-E654-4C6D-AFF3-0A7CA53A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42426-67BC-4564-A703-691B98BA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D14960-08EC-44B6-A021-A1DF6DE7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93753D-3693-4997-814E-E2A00CDA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CE37D-8B79-4A90-8913-3101ED15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A49497-352A-4AC6-BB9C-353B8373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691D8A-65C5-4947-B4FB-BBB47222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CCD28-3D3B-46DF-A45E-897755D9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67A4C-6277-418A-82DA-0B44AF4B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95E774-AB95-49C1-8169-5EB4A3B2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84E98-858B-4BBB-B1F6-02FCF47C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6CA791-57CD-4645-9BF4-23CE9787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76745-5886-4CE2-AFEB-3DC07445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48A0A1-6856-4760-AD05-3C0E5456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36F1C1-8E54-4031-B728-43FAD845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B4AC84-ABBE-499D-B81A-9BF881D5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47ACC-4F6A-4371-BB89-A15A7239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9E2ED-59DB-4D50-AA57-0AB97BB8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55335-2EF6-44B4-AF4B-13D87180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AC9C-42CA-4B5D-BBE9-0548EFD7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345E8-2426-46F0-A103-AEFA925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9C3D76-BC9A-4F31-8067-ADD705E6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7446EE-E401-4FD9-A30F-24BC1E0D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72C31-2788-4493-A443-EAA07B2C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1F15BF-111B-401E-8357-0425961F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6BD32A-5B2B-45C4-B081-7886A005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5AD2D5-0222-43EC-BF94-D8158C35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404BCA-A3BD-47BC-8DE7-4D3CEF70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352A6B-1AF4-4494-B4F7-E496942C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1F725-F3BD-4DFE-BEAF-6DEA79FF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95BC24-A200-4DCC-ACCE-D343B80A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0EF9B-DE73-4F44-B75A-F1FECB8A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5CDF8C-2B02-4AB0-8C53-82C06A78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13CB03-77C3-45C5-B751-86F47F02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B84844-E9A7-4ED9-8F7E-32084397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F746A-910B-4ADC-B9B0-A00F4244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7DAFA4-85FA-4B6C-987F-E17DBEB0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44A15-7384-438E-B925-FBF5E6A3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16746F-3C53-45A3-983B-16869F30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018FC5-ED5B-4DA7-A86A-569A7489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802057-3C13-4156-BF67-5EFA1AB6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553AD-9D2A-4C2B-8FD7-F0E7D5C5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F7687-9973-4B95-A0B6-E031A059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DD30F-4485-4170-9FE2-C908975A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7986F0-4E70-4274-B2A6-BE7D5287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D6AA76-7AD2-4BB8-B1D4-B45739F2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585014-A74F-4840-80BB-75DC0532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7F18B3-AF9A-4466-9383-A577B904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76A4C-6580-41C7-9DF7-AC684DBD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4EB5E4-B205-4F3F-AD3A-8EA427AB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BD84D4-E2FB-4DE3-BC65-A3B7F41E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73D2EF-0207-4F58-8393-609FF4A7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358215-6ABF-4238-9BA3-2BA56182FC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94C5F-8DF5-481C-A301-7095BD36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ED4E6-1C95-4DF6-AE52-6C3A04A8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E7F311-E635-4BE4-9115-1969B68B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5AFCA3-4EF9-4E59-9537-E53055AD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C0CF67-A29C-46EE-83EF-02069D74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75C3DE-AD47-4E7E-9A32-EF26CDFA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055CA5-69B2-4742-9E45-3596828F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77E1BD-9BCE-45C2-97F2-57008FE2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6EE1C-A489-4C31-A796-8DB2F441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E302E2-F643-4C5D-9656-7489AD95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C876D7-AA6E-4DCF-8FD8-FC5AB566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C1A9C-8463-49F0-941F-A09D6870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A1AA28-6336-413D-A1BF-F91FFCE39F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DE0B87D-1D28-4147-AE13-F1CC89AE45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13314B-C8B3-4E61-A397-1CE5143B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A50362F-0F8A-41E0-96AB-72B32DA9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EBDE00E-5995-4DB4-85FC-A44F42F4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744C67B-3D03-4303-BE49-F3C66E50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DB8D51-D081-4B32-BD69-08403FCC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1E9CA2F-D612-404E-9FDD-B12F38C8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EECE372-92F1-462C-A5DE-19A4F899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9F63256-7B01-4382-8A4B-EEF4C2CE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FA2F5-7F79-4C6E-A4EF-8136B916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8B5B046-1CDC-4700-B930-BE7947CD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F97B98-DE5C-4F13-9ECE-B790923F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AF164C-EFD3-4A53-90DB-093075A1B0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6FE567A-4C39-4003-A3D2-6A4D88D1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A2BFA2F-9AAC-4F5F-877A-8FC25DE3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31A7920-0FBF-4E93-8FD0-BC806062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F3D2D59-D7D2-49C6-9B7C-19174157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53BF44E-79B9-41A2-B0B0-D1C1F3B1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3D6952B-4380-49D9-A2D8-CBAA44B9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2A60BBC-C67F-481A-BFB7-747F0BBC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FB11A-DC77-4B6D-B1AA-DC2A43AD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C1E010B-8208-44FD-B9A7-89BA4253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56D920A-741A-4812-BD04-0E0C5551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B06BD36-C5BA-40A4-8738-3FCFAD16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9A8D983-DB91-4D05-B9B0-B53B50C5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ED30D98-B182-4E16-8663-1FD50B54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17741D4-102B-452C-8161-BC439DEA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36E67BC-20FD-4B4C-91E7-21577F1A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D52905E-EC21-44A0-BCAC-53225888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AC028FE-70B0-4EA1-92D0-463ECD21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04AD172-7869-4BEC-A417-EF7BCE28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318B4-5415-41AF-9ACD-63DE406C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47358EB-5CCF-4E0B-8722-04D24E84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09EE515-26C4-41AA-B156-2F45EAF9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9BF5C27-07E0-4799-A27B-A0BCBE26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0A9DFC3-875C-43BB-9346-73A20C87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613005A-42B4-4C16-8E7A-2DD48D5E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7F21680-5F69-49C1-8D27-F00F8955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EEC1DD0-F5EB-42CF-86D5-8774057F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DCFB8D3-9A4F-4792-923F-2F78BFF3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5FCF24E-C453-40FE-AD0C-4FD9F332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6EE5E96-E3C9-4A88-A037-073A5D3F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85B80-EFFA-4E87-8035-1DCB8890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84D54EA-1C16-4BD7-B495-A7CD0FBC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8C7F2D5-3516-48CE-A19D-DDD9BFF6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F382C11-C64D-4D37-A351-FFC9CBBB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1E7643D-364B-4E29-A4D4-4263CC3F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2B489F8-0F36-4C63-A762-84709A00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A5FF77B-084F-466A-9938-B5BD43A7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3F7C2BC-1208-45A1-9683-B89E3FE6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62ED162-09AD-45CC-BB73-E552648F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0BA3F46-950D-4514-BD7E-9F26D6A5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9ACE2DF-4B04-4723-B010-2E57DC70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C2EF3-1262-4CA0-BC93-7D4DA25D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7CC8C13-BF01-4195-B1A9-3864E3C0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F290427-AA0A-4B18-A33A-75DB36EA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01AC737-B393-45D9-9240-065966DA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D56BFCE-BE71-4BC8-85D7-1D328B78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C534C69-423F-4472-A7D2-1B64BB1A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802CD5E-B42C-4AC6-83A2-56C23336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BE40983-CA31-41FA-9AA2-EC7E5882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2D07ACE-7CB2-481F-A968-F36B0EF3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F29DB31-79F2-4437-A1AF-37E27B60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6161181-3A57-498B-86E8-CF208005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AA23B-E825-4457-BF97-776E1D8E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E2577-144E-4727-95EA-8824C981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2FAF629-FF6B-440D-9B26-DBF7A49E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05B237C-AA7C-4FE3-BE50-6C5C0255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8E1BDFC-228F-4B47-AAA8-EBC19D4A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5F40F33-B27B-48D7-B6EE-0B008585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4CCA995-A654-4EB2-BFF6-8C611B48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292AEEF-C40F-439E-9A74-9AAAD2AD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F3FF4A8-4EA1-48FE-96CC-613348C4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5149D6C-BF0F-418C-B196-E793DA1F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9F6B58B-0770-4D4E-B30F-331AA97E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2CA53DC-EF3A-4260-86F8-E46DDEE1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E82B1-5602-419F-A183-34A6EBF1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BADB479-A03E-4D62-8D9E-E4041AE0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FB06034-D224-4183-A625-615D7282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D4B07AC-2EEF-4415-97F2-07CC82EF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BAF37FD-61A6-4A48-87F7-F2DD6D80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F2E3A55-59F1-4E71-B745-596FA387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EDFF4A7-8977-4133-AF04-C5BB39B8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2B89F1E-8D96-4F3A-B9E0-8EDE3D6E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DD0175D-08F1-4C25-8933-6182286D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1AB0581-1021-4D3A-AA60-5C7129A5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20B2840-A438-417E-A1B4-B99AFD32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23F0A-A6DE-4C42-924F-362F83BA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3A977E4-F7FF-4469-8256-D8EF773C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6D48E57-FDA1-47C1-9E95-AD88BB86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C9E4D2B-4562-4130-852B-30C02EE3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8028E11-72AB-4B30-B928-C1899A4F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57E42DA-5594-4A09-AA87-47344B94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58BD8CA-C8F6-4BE4-8FFD-99FFB945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F373B8C-5A04-4DDC-B15E-534D38C1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85DDD6F-F55C-45C5-8E92-A5A8D6EB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89B547E-13E2-4DA8-82F2-233DD5DA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37AAAFE-6BB3-4450-85D9-060181F8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78780-9D80-497D-8954-D5976840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3345198-6932-4CA8-B9DD-5F0F2D31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A4B111C-085A-4D0F-8B18-3AE22CF7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C8A9B81-29E1-4400-B0B3-5FBF0C21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26045CD-878F-4218-8103-F737360C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80894DA-0C53-4D73-AA7F-5F6C4379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C904BB5-A77D-4601-94FE-D0B641A6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F5E5CA8-B08A-4419-824E-80313913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9EB697A-5822-4047-8124-4D293913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7420C26-A3CE-4120-BC91-790913DD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3D2EE57-3BA1-4970-A23F-CF24A85D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48DD0-F622-44B9-8E9C-96833202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B11F439-AE73-4DCB-BF43-5C48BC5A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B0CB075-FF0B-435E-8C17-D3238A16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857ED64-345A-4812-8D0C-AAF944C7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E0F7078-7F27-41A8-8F71-A1E5D0B1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C6AFF73-2EC1-45EA-96BA-68160A85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4DEA810-E4FD-44FE-9522-60736426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42F47F9-D456-4BA1-BED8-8CB76254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6DB176F-A4FC-4C27-8D64-B5454221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47FD209-4303-442F-9A59-F4F89983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87B09BE-4E33-4A50-A707-13DC2546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63A3F-1C72-4F37-B171-A2952B88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3E0B5EB-D45A-43CF-8E4B-D8F4B455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9D416AA-1FB7-4384-BE8F-0CB956AA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9D8A2DD-AB70-44F9-88D9-20D0EB0F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EFEDFDA-6788-4DC7-994B-A04A287E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0B3625A-5544-4AEE-98DE-A5671DB8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366796B-7A09-473A-9B90-C380A1D6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A6F9186-AEAD-4E00-A542-34A105F4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D3BDBAD-0DE0-4F3D-822D-0ADCEF25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070CD13-200C-4726-B210-72DF32C5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5C55009-BB6D-4C4C-92EC-94397B36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C8A16-EA10-4994-BD93-D2EEF1BD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D80581D-08B4-44C6-B0D6-249A1056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820FFE9-9F29-49BF-A98C-6D977687A9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52F1DEA-BB5B-4726-B1EB-AF608C99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E217AFB-2E92-450E-AE17-442CE8AF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EAD00ED-0140-4153-9D0F-9F30EC81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71DDE58-20AF-4D04-AD4B-28842902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84A7B21-5622-4B61-BCE2-529BF920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CA9BC46-1130-43B7-A7B3-7482D4AE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E46502A-723B-4C35-AA5A-17FBBE90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E1DA9EB-2A37-4229-B9B6-49B8E92D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77333-2419-4B11-AC63-344F2D5B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CDC88C5-B85F-48C6-B6DC-805B6E42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33CF336-C4A3-405E-B510-08F960F9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DEFD427-F54B-4754-BAF5-1A290AF2B5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683B7E-2928-4183-99B4-177A330588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3C88D3-00FF-4848-863A-659A1E65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3E6FB9-C1D5-4869-85E2-FD503B2A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E7949E-FD31-4275-B8DC-C4926C95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C4AB57-DF49-41D8-BE1A-1A13F404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070EC3-BED2-4281-B132-BC22136C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1E271E-CF71-41CD-A357-3D5ED40A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BFB325-1694-4770-AFA7-32F09A29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3A0A75-0B41-485D-945B-F691435B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8478EB-CDA6-4E73-BE9F-D1BE4036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EE7209-F487-409F-B5AA-EFE67A7F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976CDD-256A-40E4-B96E-8406FC12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D706FB-C264-490E-B601-62C9968333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9599C5C-BF5D-4BFD-8A2C-D61A2BA6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E5970A2-4D10-48B0-9ACF-21C1A545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4D95A0A-46B4-487E-8D87-821F31BF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C021517-B39B-40A4-B419-774339E6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F4411F8-D597-4CF4-BB11-32493D5E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63E56-4919-49DD-B6AB-D10D3D21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683148A-0D1C-45FE-A144-81CF8049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63F5918-28F8-4621-BB26-369D8101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2C7CF6E-B7DE-42C5-9174-705CB4B5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F74B901-A7DC-429B-BBF7-476AF1CD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3768D18-FB3B-4E49-ADB9-2EB4E7A7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B2D17FA-4F91-4FFE-AC6D-D137ECA9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4009C58-1947-4670-B45C-B700E4AA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9CC2BEA-D5EE-47BB-BFDD-347E7DCD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25F6576-3F34-4811-B5BF-6D915E08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E6965CA-F7E0-4305-9B78-837C4FAE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69B02-242D-4A4D-AC9B-D0272FF4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13FB6B-1497-404E-84C4-CB7862F0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2FC09B3-819B-4877-846B-DCFAC271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5DCCD98-308B-4FFB-BC17-DAFB3773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CC4298B-8D82-43F2-9F0B-DD428779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E38A204-FB9F-401F-8061-477B85E7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17CC06E-7187-48DB-A49E-594A0C80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8A7B671-6805-42C3-9BD7-B3E9A2D3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18DD92E-5078-4C41-9C49-84183567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EB5DDD8-9356-419A-A874-0B90BF7B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D96E23C-CA08-402B-9AA2-1F7358A7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ABE1D28-4A0D-4906-A6EC-BD9A0483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C3DAA-C0CC-4A10-B8F0-6575FC13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1C68867-C4B4-4849-B8A7-6C9ED8C1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8B1CFAB-1E9A-486A-9571-0423A099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3125312-66AB-4293-87F5-90B4363C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5CF5735-2621-4DE4-AC26-A9D91D52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8F42E52-A493-4DD4-91AA-4ACA5CDA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FA29CB7-B4E0-482C-B18D-FCABB7CB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A063249-DFBB-47AA-8D57-267356DD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FD0B364-F9DB-409E-B899-4475DE1A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E39C117-0E60-4A47-899D-7EF1BD09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E195FEB-D094-481E-A73F-1C5F4DB1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E8D02-8278-4397-8B4F-708770CE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A6A9004-CBB5-47A5-AECF-6565A69F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B34A56A-975D-4329-8A7D-508D3F21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9DB773C-D127-4DE3-A0CB-009F8B8B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0E16EAD-9FD9-4888-8648-4056A741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C755435-AFDB-411B-9602-A9B545B0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7D2161C-0525-4533-A9B1-E677C4B7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CAACD1C-FDCF-422F-99DF-A6915193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84BB6D3-1036-45EB-8888-A21BBE31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17C6DE8-6BEB-4D30-A73C-B80EB902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3337603-CA6B-4050-9E5F-AD8A9D2C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0EDD05-1CDD-4DE6-87BA-27A9D701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B806EA4-A49E-49FA-8A13-49995E96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6DE3AC5-54FE-46A9-87E7-CBB2C0E8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8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9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F8A5AB1-8E2C-49AC-8F13-6E0B7C84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ABEF9AC-3964-4FD8-A8A6-4B145112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626E807-C40A-4AEF-9B2D-F66AE485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80D0B7F-FF61-4F66-B856-5A910B90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AF62837-B81F-437E-93A2-FF93779E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2B59C00-C2F5-472F-831A-1DEABBEE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9D3BECC-5A29-4461-A537-6CBC3B04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681B97D-6744-4F82-B303-A8FEF87A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5F13EB-96A4-4CF0-9F83-D35F6EBE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A8B92AB-EA13-4F8E-9B91-0892A31C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900DFA7-7EB5-43B4-B281-B5B9FA17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B182A59-F947-40C1-AF0C-A2383097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6322EDF-C647-425B-8879-0F463145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6655EE1-6EB4-4DEE-AB63-82E80F36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124B33E-0A0A-47E6-8903-D7A12C1F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F0223B5-F33D-4F86-B67E-8F0D6570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7D08A36-B387-4378-97DA-40B9922D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374E995-4663-4977-8352-99B17395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B982A62-2281-4CB8-8276-461C82B4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C1441-10FD-4A0B-A0FA-88338F48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BDE1099-6749-40E5-9F54-1DCB9B44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F3AF59A-AAFD-483F-9B29-5D5AE795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EE63E48-B4BE-4731-8724-33430CE1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3014CEC-5C6B-4C2A-A983-89BA3465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940C098-1FC6-4738-A525-987767CE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39F38FC-19B3-4319-93FF-97B35C38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A8FF4B5-0F66-45C0-A28B-48F92CDA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6AA14EE-6F4A-42B3-AB51-754EE8EC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81CFB4E-B6EB-44AF-B597-F16AC91F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62F71C1-0E76-4BE0-9C51-89CE83FE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701B8-E37B-486B-BC37-EE56BE63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C282372-B4C4-438C-B92F-34391D45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62BCC98-2557-4053-A407-C0BBFE2A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4802733-B8DB-4270-BF5A-8E8807A5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E60DFCC-3A3D-4044-B3FB-0D8293D7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93C17A1-C811-4CDA-A98B-D42A8AAA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91DDF40-9055-4A01-8767-FA6863FE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B455032-10DE-4649-9834-4EF68D5C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FFB94B2-7A09-4259-944E-40A24E4F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A7EACE1-974F-43C9-B0AB-D91E10F5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DD456BC-BA8C-47A6-9364-5348BB5F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3AB70-ADB2-4C1C-B3F9-835AFA97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6D8225E-6759-4DED-8D47-9DEEE8D5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6CA3EA3-6365-4D2C-980D-EB3FB92D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AEAB942-BA45-4212-AE40-70FAFBF2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44E1782-034C-4DDE-B3D3-DFE0D9C0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01876E7-7873-4A2D-BE66-059F06DD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344C37C-29F6-4190-9F1C-1044378E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A1B3D69-2C7E-4FC3-82CC-0B74F272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A2E1B92-6EB9-44E6-AAC4-D567BEA3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3D3DA47-DD3B-4745-ACAA-065AF45E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293E3B6-CA57-43EC-A267-8BEA08E4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36023-1C78-44B6-989D-0592B830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8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9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1CE8111-82DC-4C91-BEA5-839C58C2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A79C8FF-C362-405C-92F5-38FE4982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BE193DC-56F4-44C8-BE96-1FD679FE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F1A77B0-4A50-448F-BFDE-245882AC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61E5292-56A8-4FAE-874A-04FB58A3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7218624-3A19-48E6-B64C-7806B451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8E73984-B3B2-4898-92D5-08673BD0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BDEE185-F071-4C5D-80B1-FDB1AD37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E91EB78-15BB-4EB9-98FB-4481EA2A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063FB1C-FD53-4BE9-9DFB-FE9633A6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95C0A-FCBF-456A-9BFD-45AC6D28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6678C75-C282-4CC9-A3D4-25E5AB3D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DAB56E2-DE1B-4A35-9CBB-BC0DC34B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585B925-B54C-4AE2-BA8C-055DD11A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88FDFC5-B36C-4594-82FD-4B08202842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FB0C241-4DED-4B98-9E7F-E21FBA8E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B6A5AA7-0705-4DB1-95C7-A0CF3E0C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A83A218-389A-4F1B-AE39-3DB8D097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9AC04C3-B5EA-426E-A1CC-4B9F0564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50B2407-5215-4A83-A943-E9EAF57F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6032A3A-83C5-4ED8-8C26-1304D5F1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89CC9-0502-420E-9F3C-606DDF38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3A56C-EFC6-4899-ADC3-BE75AA8D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E811F7F-A430-46C5-90FB-98406F36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23C6E91-ACA7-4A6B-BF2E-E76A2684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333F2F2-ECB7-4D46-B1C8-1E299432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6E9A4D8-2176-48B2-B285-BAC7F433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1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2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246E5C8-9EF2-4DC6-A5EC-4AB8CF1EC0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5D1176D-B003-4345-8470-17AB030FEB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A1A3CB1-3D16-41F0-BF25-0D68EF14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CCAF749-164D-43C4-8078-D4C2930B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4AB24CE-6F7E-47E5-8630-48F0F2CF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052822C-5B73-4344-8722-FE59DC50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3E3164-E02A-41F0-9631-D4E92E82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6EC8146-0175-48FD-92A5-4BFD295A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02D9D90-6A17-48BB-B4BB-E692AD50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89B1AA1-1830-42F6-9840-23E2DD5C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F26A9D3-C03A-41BA-BE3D-55BAAACB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FB6829CD-0FD9-4E8B-92D0-1CEE1923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F30E5D26-BEE3-45A0-9A2D-32BF2555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A2C6537-3B31-4801-8B36-2ABA75C842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E1595C-7FA6-4AAB-B5E4-96DF95E1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B1F1FC6-579B-4507-BD21-D930833D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7863DBC-9D69-4916-B683-9E54E474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D8275-6C76-4B6B-AC42-8C773CEB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C592C0-A168-40A4-9383-DAFF9707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239B0E7-63E5-44A7-B0BE-AB849E23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67E1079-F839-4851-BBF0-4A982534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52B91B4-9EB3-4356-B9F5-1E76755C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659E4E2-F681-402E-B338-1ABC67E4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BD3B468-88AB-47AA-B093-DB98B824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9336FBD-BF30-4B8C-8E44-B587D298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284B12-351C-4AEE-82C8-013D7648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E14995B-D013-4953-BE40-2433E8AA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AEF4D36-1956-470A-9526-B64A211E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FC76F-4E7B-4176-8D8C-564335DE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9F17DD8-0673-49A8-8E56-EF58AB83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417CBA0-1128-460E-A246-6FDE7FDF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1AFB875-DE3B-4387-9173-305BCF02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392A3F-58CD-4C54-A46A-A6BA0FB3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E993FF4-B2D0-44A1-B661-151B1D52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8ACF0FD-1D22-42AE-9F03-AB65881F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95D5381-7595-42DD-8CDA-D3C7F2CA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43750D-B937-4EC2-B570-A30E425C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6D8A1F7-ADFB-4D07-A597-DF8B44A6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8EB69CD-17F8-405E-993A-35751EC2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3C823-DDC7-4FE7-B365-81D1E025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53FEB4F-C408-4B82-9B78-643A26D0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6C370AD-D8FA-43C9-8C04-E3D3DE3D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2355254-5A38-47BD-AE15-6FE1F1AA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41719A1-6AA5-4DF6-86F8-36D9C479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2AD7BC1-1D88-48A7-88B8-9E6BE0E2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2261F65-C1E5-4F51-8428-0DD041E8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9AE8E4C-6116-43D6-A1F7-CE8F4008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078CEF4-547E-42A7-B312-AA5876D1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2C69C9F-6CA8-454F-A2DB-96B36443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53FB7A1-736B-409A-BCE9-08E8625F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C8DB1-F006-4DF4-B034-10D2AAF7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B32EFD9-5A7F-43BB-AD8C-395B70AE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D7857CD-6EC0-4EAD-ADAB-9825CF5A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DE5979C-06D6-44AD-9C47-A31C969F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6A2CF44-7353-4B59-859E-1AD204F3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E6EA185-AFF2-402F-AC5B-60B925F3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196245-3DC7-4563-831C-2D303D53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C399CAF-EE0D-4AC8-8988-06936637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CDCD5BF-0FF2-48A8-89EF-F711D7DB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C5BCB27-AA32-4FDC-8E9E-A2CFF72D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74D28E7-4D16-47BA-8497-1DAE9D05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0E63C6-173F-431F-BDBD-7A19601A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015164D-A611-40C3-B9F0-06BBDE85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E5F75B4-D8F2-4993-A364-074D0843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39B0258-D6D4-449B-B820-FC4029F3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887C050-9CD1-440E-AE56-C5D06051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CA6CCF2-B396-41FF-94EB-6D3F1C0F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4014E83-10EB-4EC1-9CA9-A36E3EB7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8E6B291-C7C6-4A46-96A1-6C549140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523FD96-2B41-445D-9DC3-7ACEA5FD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1AC9C1C-8A55-4EC4-A691-EE1E6166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DC9151-B5A2-44D7-8534-ABD1D2F2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DE5B5-4E72-41D4-B91B-5A0EB9C6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69D0C90-EC33-4928-B904-B5CE75AE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DD8FCE4-C8E1-4AF0-A7BC-4DD8D8F2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F351552-694B-4701-AC0E-BE96E474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B368867-8FA9-4DF5-BF8F-4653F602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B74727C-B04E-459B-BDA4-76E4BC64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8C9F174-8380-4F97-9D0D-D1EF9A25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056B1DF-6BF7-4AF0-8A22-97270E43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20C1A12-4F0D-4426-B140-C2111C1A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F4049C7-5F6A-4B64-A9E7-54012A2B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067F309-E6D2-468E-834D-938A6B06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6C6027-DD20-410C-AF17-3F3B680A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9C57FDD-EC8C-43CF-AC78-A1E44904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A9E388C-4128-4C84-BFE2-3476415C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41CA92A-ACAC-4D53-9DA5-64F9AC08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7FF3F70-1B7C-4817-9F4E-2742E7F0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73B697A-E438-40E6-B0F8-17F21497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E1530E8-0673-4D8C-AF4B-1E3AD60E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58381C5-5409-436C-8FE7-BC689442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333086D-B693-4FBC-B9DA-CCE62F5A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748463A-0CA5-4B0D-AA89-8A4D3B40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1BBD963-83A2-49D4-9FA6-CB791B65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36642-1BBE-4B0E-A4BB-12BF6280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3EF7D65-9B78-4B3C-9D05-39D82E68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39B1FB2-93E3-4220-A9F3-90FA0A5D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F9D436F-8ACF-426C-A38E-9944E462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08D0A2B-0356-44ED-A085-368A3F81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A4D7802-026E-4237-BCE9-28193062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18F4E15-BD2F-45DC-89BC-40603E09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77ACA1B-8C06-46E9-8B03-80E7D56E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10AF8E9-CF25-4AB1-BC1C-F030477A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9049E1D-9427-4C97-8C7C-35CD2381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9F48077-4A8E-4614-9EAB-4A27E328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4E8F-8031-4E35-B0D8-B60766A1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474BA-296C-4BD9-A879-D4140742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F55A234-4046-433D-A210-ED05C539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B4BDA04-3AAE-438C-BA4E-12EFBFAD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3DF2373-6D9F-41C8-88AF-BBB140B4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EB17D73-E594-4023-BA31-F9F74B83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2AACE60-313A-4EB5-B31B-74305200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EA75172-3E88-4F26-BF86-C98E8A8E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5408E3B-351C-430F-BFB0-CE282E70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FF0E8C3-0AEE-43F6-9AF2-1BC6E217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141765B-FFC7-464A-95CA-CF69CC87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1953DB6-3625-4F60-A2B5-64D7FB76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1C3BD2-C590-47B0-A24D-C0262218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08117D2-16C0-4439-AC14-068A44F1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6AD6982-5F5E-4CD5-9C2A-F21AF68C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3C08DB6-5A12-4C32-95E8-B52EBD6F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D0F62DC-EC62-49A3-AC7D-263B7ADF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B438A6F-D240-4820-B0D0-F1D46161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0ABAE82-05CF-4918-971A-733A246F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042DA4A-6FDA-47D4-9653-3DEEFFF1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B37CDDD-8BF1-4A6F-AEFD-69E4940B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022535D-8061-4F83-9179-D41AD08D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7243EA4-2C4B-4223-8A40-F878AE38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A04CE9-A9A4-4533-A9DF-551124B4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18E971E-C508-4D89-8FAF-32344F35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B52017D-1674-4206-9139-9E394168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32C792C-F49D-474A-B245-7D9B98E2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4074611-7151-40B8-9FF6-7AA8416D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8436C06-D264-41D4-99BC-A6A4A6E7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C320314-F3C7-4DD4-BF0B-7C08505418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DD54084-13AB-43AA-B7B7-7DB0294A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954686D-129A-4520-BC3B-A9DC65E4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DBD4566-F560-449F-8CEA-D28D8595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E21BD10-3CFB-415B-8440-5CF94D71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A86D1-D906-4438-8AB8-ED09F31F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A1FFAEA-372C-4F3B-8E1A-037B84FC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C323238-0BBA-4A22-8E2C-6CD53F7C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EDE871A-5DB0-4A4E-A7AC-36B0A7F3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983250B-27B9-4164-8EB9-03671DE8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124C890-6DA2-438E-A776-0AEFA55F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79BB93F-6132-4DB1-BC8A-07DDD69A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036753C-0385-4C46-9B27-3EE02D5218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18467B1-A7AD-46EB-BEBA-1C4E28000D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5070247-DFE3-4459-B711-40D27AC4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5A73A76-2D1A-43D6-829C-7A1420BF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C6FA32-033F-455F-BB4F-EDD42910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92800AD-3CED-4969-9AD2-82A72A3F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3028CB1-26DA-43E0-845E-1967C628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AA0CB43-6389-4894-8DFA-FE8A924E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05BD5A3-33AE-47A8-A84A-4E70B3B3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AB14B93-3717-45FC-A0A4-11CD890A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3E2F44F-A785-4F76-B775-5E4BA50E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62943B0-F3F2-4B3C-80E2-EE6516F9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005B85D-07A9-4A8D-861F-56A67239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324AE94-D581-4AD4-A8BF-BE1283E313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5399DA5-7208-4A19-BC3D-5C2F9630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05D5FD-E190-49C9-96D0-A9999519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BE34F62-51CC-41B3-8C68-CD308069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6805194-7489-46E9-A0C8-6D170536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06DD22B-12DD-40CF-BEFA-F9AFAB64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E37695C-D273-4C2F-99AC-E8B95309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DC39964-5503-45EB-A9DA-C4A47182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FAE9DC5-4147-4663-A81F-60E979D7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4195351-5403-4B62-BA1C-316AC3D1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620BC34-F36F-46EE-8FB0-34C5A7FC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CFD9906-50A7-40F4-B078-0EFAA67B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01A93A5-7A7C-4CD3-9D2C-1C919A00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72A46-7E18-43C0-A64B-A3BA9921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4908298-CEF9-4ADF-AE08-CF4BA280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74D8449-7A20-4DB3-AA0E-8CB4FC10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379B10F-5F9F-4BC5-9BD2-5C7054A4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E843C1E-64A2-4C0B-8D7E-F8791B67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DA4DA77-8AE0-44FC-A96A-1F25D8BB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EC1EE82-EA9E-44FE-A618-0AC714A5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D4F224E-4E60-464F-9A6C-A5DAB5A5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68F660F-CBBD-408D-A3D3-01795144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5908E8C-94C7-456D-8E49-08229828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6672F41-E5EF-473D-ABA9-93804649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E3CE08-9754-4E52-A37A-79EFF1D2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E51D1E5-4765-493D-8565-662FEE85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757D5F6-7A76-43A0-8C9C-258B5FF1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24F4CE2-AA8B-44B4-B735-DF70B17E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C355F8D-3A91-4B4F-AD0B-71ED5ABD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4105C62-2455-4EB1-8182-5C85661B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4C2DC32-322B-4F72-93CF-5C38E8F1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E957DF2-45DA-46B9-848F-307CCA21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A1FDD5E-2FE3-4EBD-A3E8-B2E88B34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423A331-6A4E-4695-A08F-9F39361A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609DBDB-2D7D-498A-B5B8-B63A2C8E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B24B0-2FF6-4938-B4CC-21F7BCB0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5145E7B-0B77-433A-9D2A-9B0430EC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DA221A6-453F-4C3D-90E6-402C02A9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19955CA-68DC-4C8B-BCF0-C8A64E79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0AB5E96-EE9E-4F10-B82B-9BBD986C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9C9940F-45AB-4DB4-AD66-DBDFCD58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2920361-9CAC-4FD7-8BF9-88499B94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1463E2B-48B0-475A-838A-A8009BEC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30B7887-A3C6-4D4A-B206-9EE55764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ED17EA5-5140-4FE1-8452-4084F930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B2320C3-24C6-4AD6-885C-52C6993B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9B7D9F-E16B-4825-A8D4-83A53A09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D1033F2-C924-4A30-91A1-2BF14A01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911988C-4D25-4C0C-AB5E-78E8A565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990D214-653E-47B9-AFE8-9CE256A5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E3265A4-8C92-45E8-A489-0CD3D821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9E08BB83-CAB7-4169-8D97-2D653F51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B471918-ACDF-4AC6-8930-414E21F5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7D561F6-A826-4DC6-A981-9DE2B2F0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E51C8B3-A144-4FB8-9C37-D6C4B694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D2CA59B-1B71-4FE2-B419-F64FBBC4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5B652CA-F489-4CE4-89CC-378EBA0B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5AF85-3ABC-4A71-8BF7-E35057CB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77543D-AC9C-4156-8C42-DF7C41F1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20309BD-F164-4AD7-B11F-34078E27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4D983DC-D889-4D1B-89C2-5615E3EC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F825AF6-E543-45EB-94AD-7EF87A8D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D0B4786-6A90-46F6-9882-2F1B56F0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DFF203C-0D4A-422C-8699-B87F5358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31D86DA-63D1-422B-A052-CB7B087E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0B8468F-356E-405A-A849-828A14A7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658F9F9-B34E-4BD9-A401-31918EA0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ACCC693-D289-4E0A-A426-CA024406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12E909D-2F36-4095-B886-80D9B696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C0AA8-24DB-43DD-B046-80C163E3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5EFEF85-15AE-4BB0-AD8D-5D0A509F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11CF942-BEAA-449A-8730-E703D82A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09343AF-8E5E-46BD-B150-C4AEAB85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27015FD-7852-4880-9192-943DF3F2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553670B-79A6-4E9C-A0C3-0266A22B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E487CDA-B0AA-475D-A774-CCC1EF9F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7D53E47-575C-4DC2-8DFF-D2829514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BA0BAC1-22F0-4972-92D8-B118FE2C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84776F0-ED39-4B93-A612-490930BE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75BF0A7-B827-482C-92F5-D0551049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082C6D-CD2F-4821-87BF-AC24A19D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6058B46-7398-4230-BCF8-9CF7E2DA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3FD393B-08F1-4472-A4C9-398EE584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588B21B-46A7-4724-ADE7-3E5AD001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06A4229-A458-4FB0-A021-A447A3F5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5C1333B-34D4-42DC-BDD0-E96FA669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094A1CF-23D0-4809-9A30-75E6F841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CF43B90-0546-4778-914D-D7AE3A49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645BACC-D9B3-416E-A04B-5C5C6FB7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D1991E8-B496-40F6-9689-51588C1F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4AEAFD8-9107-4E43-9CDA-2E60F76E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419328-E625-4513-8205-B46EBF02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A9D455B-08EF-40E4-87D5-1C991857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3FE1D6F-87BA-4F70-B040-D6BF007A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A379D33-400D-4399-B519-D1368DDA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406D1ED-E01E-4187-9292-13C40550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C11E39B-B578-446D-B8D6-7FAAA6FD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46CBB881-CB61-4227-BD88-F2EEF813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357AA182-2C75-401D-9839-A1A95017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8398CD8-7D1C-4B2C-AA0D-1CD91903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F8BFD7F-2F8D-4C44-B3F7-2BC3BA23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9778D9A-73A7-4E8C-93EA-BD5B32EA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8BB6FA-12CF-4A6B-98F8-2D1B0F7D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8172D04-031C-4040-A325-711F64A8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62B8510-2156-45F6-8E1F-7BEC4389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053809E-8F39-4103-AEB6-D8D5F647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13EC4D6-FB3F-4D17-AE85-2EA5DA7E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53F997E-23F4-43A2-8624-65DD489E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E851B12-4904-47FF-A7C0-0BED3680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4D7A9CA-F397-413A-8D15-F8D9E2F7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AB6687C-25EA-4B7D-9C39-C26BC31C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5994212-1EB6-4FCF-BB85-33A3DDC1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3EFD33F-5D6E-407C-9DBA-E07E7802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1C54F-2106-4C3C-95FC-60E70869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09FDC86-B041-4AC5-9CA5-78905478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2523364-2469-4801-AC61-BE62B04F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F310740-C5EA-414E-9331-45BD9D97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6AE967D-8C7C-4691-9303-4F72F6C9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D267F14-01F9-4A38-BD85-315C3D13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4735877-F58C-41A3-A193-77AEF3AB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F81E0E5-A221-4D39-A3E5-8F88FFC8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E1ACD52-7A7F-4C59-B4B8-FAAFE7A06B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B766831-B664-4D0F-A5EF-BB0760DF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7D3E981-B4F0-4135-8EE9-970A9CBD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2F5D13-31ED-4161-A0B2-0438A138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4CF4ADC9-1D26-4255-AB8F-C5B17551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FCD0C77-81C2-4197-96BB-C8FFB246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50B1909-5CCD-477E-B2C7-9AB91D92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A2E8879-38BE-4847-A98D-9964F313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62A3E30-5E27-4136-87D0-135391B8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B4B7147-8BBF-4D3D-9C7C-19FB443A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8268E17-093B-4578-882F-5D8402C4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7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C70C878-D897-489D-9AEA-092126D2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2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3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4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4984CF9-833D-40CE-8441-E9510575CB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66035EF-39F4-4475-B118-8E1745DE0D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931729-CBCB-485F-8A99-34D3A655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722BC5E-D985-44E1-9C1C-1BE08F96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950450D-2467-4031-A103-7A022893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94A795F-56D6-4A4B-983B-A7F2CC9B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51D8ACE-DA5A-4992-94BC-011A7952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4632BC0-B82C-4C18-8098-05194B36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F253EEA-5F67-4A6C-AFBE-0EEC2512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C36BA90-0475-48D7-89E0-B88C5DAC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C579B2B-E953-414A-AED5-B54FBBE6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ACA0364-0995-4CD4-A41B-8D04ADDB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0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690B4F8-15C8-48C4-9E1F-5198000D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3F95D1-8B32-400F-A37D-29E82504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4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5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6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7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C0001B8-3F8C-4FA5-AEB7-4400D88207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F783068F-B934-4627-86B9-E054430A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9CA538DC-B71C-400F-BF3D-E726C814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D273DDAF-B315-4DC6-A1CC-9880CBAA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97A03AA2-7E7E-48D8-B588-A257070E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51898232-D96B-461B-BB62-06A9B6B1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D7B07125-46BE-4B69-8A30-4ADFE00E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99D3C633-963E-410E-9D1E-312835CA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2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86DCEBEB-A9FF-40D4-9618-CFAD85C2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0FE86DE7-5425-4FBC-B95C-5B7C9A46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ECB97-738B-4FE3-A094-7698DADA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B93CAD02-0E34-4385-B484-D4D46E11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4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D8F51E20-92FA-42FD-9491-69209E13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9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0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1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D31DA09E-7290-4B08-BF00-2EA16B8B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95097D76-E399-4F26-8BEB-F1F1D72C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58D55B10-5EFE-4CA6-B6E4-F51E9EB3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F3FE8AF6-E8D4-4A30-A337-55A01459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35B703BF-AD92-4634-9AA3-5F4126F8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CC349DE1-0F8B-42D5-B45D-ED6E484D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3107534A-4BC1-49AB-BAE0-3C983505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2B714EC7-BAE2-4760-A728-D6A8BEDB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1D3F7-0F45-4558-865B-6EABC3A5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166C43-A347-4E8A-9C1B-5F92A48F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6C8B8E32-0053-465C-892E-FFF9C2DC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2C4A13A5-2D1B-47C9-858B-00ADA0DD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152D7F0E-DFED-41C9-B702-31477E86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67B081C8-08CA-430D-8003-DC351274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FB36B2BB-E6DA-4830-9D2C-E88D9C13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2F5A7C1-6BB6-44BC-A002-61D8BE37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8D23C0A-7523-4B69-92B6-12E6B78D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378F0A9-7A8F-4D0F-B485-C699E6F8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1FE7EF4-2A2B-41D6-A93F-2B9202C4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F7C12A5-810F-4863-8F9E-CB35A727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E04A88-E650-4916-A8F9-9C924388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F562F9A-4647-499D-9CCD-B1F2AE69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0B1A3178-3F8B-4083-95A2-9554E34C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0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F20EB8B-F072-4710-A685-3AE71A1C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976B0C7-C225-4E53-AFB2-96114B1D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045B06C-1D67-4272-B684-B8B441DC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2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40E0685B-5488-456E-ABFC-69300C52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5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6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7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8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9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89B8BB9-4B0B-46C5-8C29-A203C243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32C46E29-FB89-43D6-B513-1926A80B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4B320462-3906-48DB-815F-DD6A438F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C8837FEF-66DE-4DD8-B884-6125E562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B287D2-5BBB-4020-8E7A-82596F08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F518CEAA-BF05-41AD-9B8E-0691F7BD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E8370938-E540-4B53-98E5-A4A88DD0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5C3EAC75-5BDE-4145-B03D-078D38B2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95028837-510A-4D5D-B337-28A024F5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4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802E92C8-992D-45C4-A0F7-B179E18F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207CC707-B85B-41CB-A62A-39688AE8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C4DBBA3F-35C5-480A-8813-C3A697B2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6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3D5D01C2-9FD5-474A-BF13-C379D473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9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0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1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2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3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6560D04E-BF42-41BD-9B08-74ECAE97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DFAF01E3-3751-4E3E-9732-E5D6673B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87CC9-E6ED-4B6D-B1BE-3F8D10AF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321E99DA-5853-427A-99EC-8462692D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CC775107-31C5-420B-8242-DEEDDB4D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5875A1EC-FA6D-41F2-9DCF-E1400ED4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DA28685B-693E-40CC-A1FB-2966EE59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147BA859-A46C-45D2-A89D-F7A241BE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46DDEDF9-523D-49E9-A33E-6498E182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5DD2B558-3FC4-426C-A8DB-A150F0EB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465744B2-A1DB-4A4A-BEC8-288CE51E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F1D6CEFF-F5B2-4DB2-A808-22908F91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4E39B34E-AF8E-4D8F-852F-8E525ECF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32771-D740-42D2-9799-161D6A76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F8D3D4B8-36E6-46AF-BB9C-E3C6B657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CA28018E-BBD2-4588-89EE-3E645F38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59105846-4CC7-4C45-9ED0-CB2D8704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3CA6682A-3A41-440D-9E15-C3D5E6A1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F9E97184-2EE0-4B08-942D-9166EF08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8C14D998-5339-40D3-8993-E4776923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787A5BB9-74D8-4BAC-8C75-0B0341D6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8DCEDD1C-4A21-4508-ACFA-D6612F29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3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1C225E9C-4BF1-4488-9DDA-79533B4A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EFA0C739-9F75-4982-8B09-02067B74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0499BC-81B5-4800-BC08-19067992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0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D5E9DBCE-E0BC-4BB2-B8DF-9F5401DB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5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F76DF0A1-7980-4C40-A5BD-7EB0B2B7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0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1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2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A4F02100-79E9-4D33-9DDF-28459827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3DD8B202-2AEA-4B41-A502-F07B2554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7510FBDF-13EC-4133-9FF6-468B87D5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C8552733-4747-461B-B01F-2E361315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6A276E8E-A297-4CD4-B806-756A8235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133EBC32-1F32-435E-AE85-D546D459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62074B8-8ABB-435C-8D71-A340C8E6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258667DF-E4C6-4871-AA4A-42AAEBA0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2AEAE5-5A7E-4C7E-9639-0A9A593F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41EBF1DC-5B21-44BD-94EB-8219934E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4CC23DD7-8AFC-4346-9A8C-8364BA9C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4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F479B9C-EDF6-461B-A405-AEFD0290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79875DC8-65CD-4651-94B6-84F3DEA6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4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5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6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55F233A2-9933-49C7-BAD9-C131CF01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00EED54D-327C-44E1-B03F-67097567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0BE95210-ABAB-40B5-8359-AD3FD540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5AA1463E-1094-486E-9606-9B5B9090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0CA8E989-8CE1-4776-BE76-47262C69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CDC6158C-FA0D-480C-B855-55B12937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08DA0D-5D75-4CE3-8232-5B28545C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054C8C1E-BCDA-4702-A952-67DA1BDA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9FF94803-354F-44DE-9774-F0BFACAB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99388A8B-4764-4F86-AC17-4BE8357A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CDD2EFD3-F661-4D1B-9E0B-404B3C13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DA5C108F-1469-435F-846D-E2AA6EFC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C5D4277B-CA0F-4A89-A904-423ED167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7E17878B-0CE1-4375-99DC-86A21613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CEBDF46F-C3B8-4D3F-8265-0FB9ADAB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11868040-BC17-49C1-A16D-310A32D6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3229D0AE-37DA-4051-B741-61972E96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FE5C34-DDA6-4B63-AE35-AC96D905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ED9D25D0-35EF-4F8E-A516-2798EBE9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78D40E78-72A9-47DF-A554-EAB2C260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8A0B5C68-387F-4136-8CBE-2B52392B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C3E0039D-A353-4643-9DEB-558761C0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9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A57D96E7-95C6-4606-AD6D-A168025D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3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3030F674-C860-4F01-842A-608B584A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6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ADF8AE3F-2066-44EF-8C3F-D15E5277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1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524D3147-B2BB-4C20-9125-7776391A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4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5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6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7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8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E8623013-0304-4D32-BF6E-ED2B9094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8D60F968-6800-42DC-A873-066365BC5D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4E6DBD-9328-4D65-82D5-19933947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770B8511-F71B-4ECF-88FC-AE28A12A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BF2C7D3-D91F-4CDA-82E6-37E09536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2F06866E-8D13-445B-A065-3FC55237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6B6D82B-275C-4677-AC92-81E93F96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9C5AD98-275A-470B-ADFF-674D12F8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8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9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3972727A-AD21-4E25-BBCD-5877E2DA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2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3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64980568-762C-42AB-91AD-5B8FF0E5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C2597764-F83A-42DD-8052-CC6356A4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C307822B-E7F1-48D3-8FE7-FD67FA87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4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5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DAB005A0-5DB6-4EED-A01F-4509EEA3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217C3-80D4-452C-B860-597F93F0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570381-BB30-4E5D-AE94-963347D9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1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2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F94248DD-A14F-449C-B453-8A79E22323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BBCE9825-E781-4281-92D4-C180B9550E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97692F70-7838-4605-A4FE-CCF46F61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047599BE-C1CC-4C69-99CB-96891C6B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0AB2A0CF-A52F-479C-BA7E-E405D6AB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E591FA76-86AF-40EE-B550-B511574E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4BB23BDA-9614-4ADD-BDAB-FB2F0C4B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D1B08968-7D21-4697-8B32-42004C09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CFE1A25A-AD0A-4757-B4C3-8434E7BF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E799F804-74F2-4B16-9980-A9B890A6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4DB901-2C07-4245-BF09-58B9DFAA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0D995D78-2E2F-48AB-BD35-7384D66F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96F88B7F-87E9-46CA-A9B4-9F04AE14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D5327C04-17C5-4EFE-AEC9-AC0C0D310E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38E7C9F-F106-434F-B8B6-0DD5EE6F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F465FDD-31EC-4EA1-98A1-EF8F21EB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423BDB4-1C70-4512-BCA3-897AD1E5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D2B096C-843C-437F-99D8-325F23FE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B3F1A08-1AFD-4F0B-896B-7B9A6EE1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BBAC253-ABAC-49EE-8074-F4845996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F172C3D-B495-4EE4-83C9-EF415C36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704F84-BCB4-4D77-9F9C-2507E251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B2181A8-4636-40D9-9803-2D39490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6151A41-75CF-40F0-B3F3-398ED40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AB7BFFB-A423-4560-8E65-0052F475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B941583-E183-4E4A-B692-47653CFC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B452FE7-4937-4BBD-8602-008637B3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61B22A5-EE53-4DB9-ABAF-C65789D6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D11E194-EB32-4787-8C59-65F25CE6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92F7598-2022-4F93-B51B-FF343D43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D45A84B-0FB3-4040-B352-787E3B53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15A55A6-CD9C-418E-8F8C-584267AF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AFCB21-44D5-43A6-B152-1C4789ED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42524CD-5CC8-413A-97AA-EFDACD8C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FAA8F69-744C-4BAC-B205-3C11A808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97B24D0-AB2D-4597-A107-BF0AD9F9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C0AAA53-281C-4A5E-8A7E-0F95D379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9309FE3-F35E-4314-BFB4-0ACDE0FC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A31A6B2-1BB3-46C7-BF47-3E9B60B0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CD7FB7E-B2B5-4AF3-9132-3495E55B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90E1A59-8E79-49BF-A499-734F4191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A4D6F0C-9614-477E-9D84-182869D8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9FF331A-3EC3-49C7-B8E1-64B6E7B2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F1AD00-7999-4359-997E-AF40BEA8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A2D1DF5-B717-4A52-9A26-03BB4EF0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0BEA347-2CAA-43DC-9E34-6FC90CB9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E4609F2-ADB7-4E93-914E-50834A93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ED6B08B-922C-42E7-9CDD-D1CC4E56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23E6A32-8850-4EEE-A8E4-1CCEA7D2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D5895DB-314F-4559-84E0-3900E73A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277BFB0-0418-4EBF-A917-58120716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5BF5C67-1873-4C0F-AAE7-76725F9B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9774A99-433A-41D9-9B77-707F7F21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9A0E4FF-2435-40ED-A406-E6198B64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328C5F-EA8B-47A2-86E2-3027F935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8030022-BC78-4EAC-B962-A63D6712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685D2A2-B752-4DA6-8B59-A68E8F65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D1211D4-BC5D-4223-8C48-2CFE9AF9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40460C4-8BE6-4F08-8D56-B7B77BAC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0650B15-3F76-4F9E-9EB8-F1CA2DD3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80F2E5D-C4B5-4CB3-A79F-1A049D90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3630690-361E-41CB-8CA7-DA8F5E9C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E3E2D92-12D0-4633-880A-E7E8F5F9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E0784BA-7B56-4493-A3DE-59E63361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0619442-87B9-44BA-A3F3-3C4E715A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B90327-7133-4E99-9CFA-85EEDA5F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F80A3CE-BBEE-4B0D-97B5-4D879DB5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B231CB8-A595-4974-AC99-25D6BA2B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D30E356-2ADC-4E78-993C-7E0E9EEC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D5F5D57-E112-4EAB-88A8-FD13E741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ACCC9CF-CF6C-4420-910E-222F22DD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C21B45B-6494-4629-A49C-F44FF57D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539BD0D-F3AC-4CC5-A281-E48E33F0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DBF2118-1279-427F-8ECA-28E15070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F9E69893-1F86-4897-BD14-968946AA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7D806D8-C34F-40F2-A09A-2D382156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ADE949-79EC-4E00-BC92-68AD69A011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5246663-76B6-47C6-8C37-55555363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5D5E5CE-F5B7-42F6-B592-8F98D3CD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4C87928-68A1-4E71-BCCF-576B4918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5630CF3-49F1-4322-9BD3-FCE8DEEB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6F81B2F-575B-45D2-9CF3-4D3D1D31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B99B450-96F1-4004-8848-5D6E0CA7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D34D7C8-45FE-4D59-BDFB-90253353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05D7D9E-1C23-489D-9A0B-6D14DCF5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CF709D4-18A8-489E-B54E-B662A02C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53EB3E6-BF38-43F1-85D0-8C823368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EE8198-502D-478B-A128-D0C46FC1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5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6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C58401B-A677-4DFF-9C84-B375771F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0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FB5D8E3-4CE6-43EF-A1D2-BE85171A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B2767D0-213A-4160-BE07-055C6570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8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7C58808-6708-4B7F-A606-3875C9AC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2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3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4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5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B218F38-E7C2-43EA-8AD9-A35A9C2B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A5057CF-1E23-44BB-BE4F-16F94C71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A303C99-E105-4281-A9C6-B0918E76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CBE3B2C-CD90-4797-91C5-DB1ACAED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49F500D-EB04-41FA-B282-8A37DBA6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C41EF6E-0F9E-473E-936A-DC5A33A3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A96A43-0D78-47FA-B550-C2FE5612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C30A6E8-F660-4FB5-9745-3DEDAD33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6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7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1F45E39-C157-4251-8B2B-0AA13E6E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0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1" name="PlaceHolder 4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D18CA90-F091-4CD7-A766-91A93CFC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CEAD1E3-84D9-493F-BD67-C31628E6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8" name="PlaceHolder 3"/>
          <p:cNvSpPr>
            <a:spLocks noGrp="1"/>
          </p:cNvSpPr>
          <p:nvPr>
            <p:ph/>
          </p:nvPr>
        </p:nvSpPr>
        <p:spPr>
          <a:xfrm>
            <a:off x="468360" y="3771360"/>
            <a:ext cx="597528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508358E-4100-4C27-B40F-3D23FCE7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3530160" y="141264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2" name="PlaceHolder 4"/>
          <p:cNvSpPr>
            <a:spLocks noGrp="1"/>
          </p:cNvSpPr>
          <p:nvPr>
            <p:ph/>
          </p:nvPr>
        </p:nvSpPr>
        <p:spPr>
          <a:xfrm>
            <a:off x="4683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3" name="PlaceHolder 5"/>
          <p:cNvSpPr>
            <a:spLocks noGrp="1"/>
          </p:cNvSpPr>
          <p:nvPr>
            <p:ph/>
          </p:nvPr>
        </p:nvSpPr>
        <p:spPr>
          <a:xfrm>
            <a:off x="3530160" y="3771360"/>
            <a:ext cx="29156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83BBCDF-D38F-4E25-A8CE-180E88E6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6" name="PlaceHolder 3"/>
          <p:cNvSpPr>
            <a:spLocks noGrp="1"/>
          </p:cNvSpPr>
          <p:nvPr>
            <p:ph/>
          </p:nvPr>
        </p:nvSpPr>
        <p:spPr>
          <a:xfrm>
            <a:off x="248868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7" name="PlaceHolder 4"/>
          <p:cNvSpPr>
            <a:spLocks noGrp="1"/>
          </p:cNvSpPr>
          <p:nvPr>
            <p:ph/>
          </p:nvPr>
        </p:nvSpPr>
        <p:spPr>
          <a:xfrm>
            <a:off x="4509360" y="141264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8" name="PlaceHolder 5"/>
          <p:cNvSpPr>
            <a:spLocks noGrp="1"/>
          </p:cNvSpPr>
          <p:nvPr>
            <p:ph/>
          </p:nvPr>
        </p:nvSpPr>
        <p:spPr>
          <a:xfrm>
            <a:off x="468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9" name="PlaceHolder 6"/>
          <p:cNvSpPr>
            <a:spLocks noGrp="1"/>
          </p:cNvSpPr>
          <p:nvPr>
            <p:ph/>
          </p:nvPr>
        </p:nvSpPr>
        <p:spPr>
          <a:xfrm>
            <a:off x="248868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0" name="PlaceHolder 7"/>
          <p:cNvSpPr>
            <a:spLocks noGrp="1"/>
          </p:cNvSpPr>
          <p:nvPr>
            <p:ph/>
          </p:nvPr>
        </p:nvSpPr>
        <p:spPr>
          <a:xfrm>
            <a:off x="4509360" y="3771360"/>
            <a:ext cx="1923840" cy="21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D9286D7-C4F8-4770-AA4D-F3C77B58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F717A8A-6247-4E7B-86AC-D11752DA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8A43B9D-3815-43C4-B7C4-DD107EC9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1B3E442-82BC-4A10-953B-4C735F9C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61.xml"/><Relationship Id="rId7" Type="http://schemas.openxmlformats.org/officeDocument/2006/relationships/slideLayout" Target="../slideLayouts/slideLayout362.xml"/><Relationship Id="rId8" Type="http://schemas.openxmlformats.org/officeDocument/2006/relationships/slideLayout" Target="../slideLayouts/slideLayout363.xml"/><Relationship Id="rId9" Type="http://schemas.openxmlformats.org/officeDocument/2006/relationships/slideLayout" Target="../slideLayouts/slideLayout364.xml"/><Relationship Id="rId10" Type="http://schemas.openxmlformats.org/officeDocument/2006/relationships/slideLayout" Target="../slideLayouts/slideLayout365.xml"/><Relationship Id="rId11" Type="http://schemas.openxmlformats.org/officeDocument/2006/relationships/slideLayout" Target="../slideLayouts/slideLayout366.xml"/><Relationship Id="rId12" Type="http://schemas.openxmlformats.org/officeDocument/2006/relationships/slideLayout" Target="../slideLayouts/slideLayout367.xml"/><Relationship Id="rId13" Type="http://schemas.openxmlformats.org/officeDocument/2006/relationships/slideLayout" Target="../slideLayouts/slideLayout368.xml"/><Relationship Id="rId14" Type="http://schemas.openxmlformats.org/officeDocument/2006/relationships/slideLayout" Target="../slideLayouts/slideLayout369.xml"/><Relationship Id="rId15" Type="http://schemas.openxmlformats.org/officeDocument/2006/relationships/slideLayout" Target="../slideLayouts/slideLayout370.xml"/><Relationship Id="rId16" Type="http://schemas.openxmlformats.org/officeDocument/2006/relationships/slideLayout" Target="../slideLayouts/slideLayout371.xml"/><Relationship Id="rId17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3.xml"/><Relationship Id="rId7" Type="http://schemas.openxmlformats.org/officeDocument/2006/relationships/slideLayout" Target="../slideLayouts/slideLayout494.xml"/><Relationship Id="rId8" Type="http://schemas.openxmlformats.org/officeDocument/2006/relationships/slideLayout" Target="../slideLayouts/slideLayout495.xml"/><Relationship Id="rId9" Type="http://schemas.openxmlformats.org/officeDocument/2006/relationships/slideLayout" Target="../slideLayouts/slideLayout496.xml"/><Relationship Id="rId10" Type="http://schemas.openxmlformats.org/officeDocument/2006/relationships/slideLayout" Target="../slideLayouts/slideLayout497.xml"/><Relationship Id="rId11" Type="http://schemas.openxmlformats.org/officeDocument/2006/relationships/slideLayout" Target="../slideLayouts/slideLayout498.xml"/><Relationship Id="rId12" Type="http://schemas.openxmlformats.org/officeDocument/2006/relationships/slideLayout" Target="../slideLayouts/slideLayout499.xml"/><Relationship Id="rId13" Type="http://schemas.openxmlformats.org/officeDocument/2006/relationships/slideLayout" Target="../slideLayouts/slideLayout500.xml"/><Relationship Id="rId14" Type="http://schemas.openxmlformats.org/officeDocument/2006/relationships/slideLayout" Target="../slideLayouts/slideLayout501.xml"/><Relationship Id="rId15" Type="http://schemas.openxmlformats.org/officeDocument/2006/relationships/slideLayout" Target="../slideLayouts/slideLayout502.xml"/><Relationship Id="rId16" Type="http://schemas.openxmlformats.org/officeDocument/2006/relationships/slideLayout" Target="../slideLayouts/slideLayout503.xml"/><Relationship Id="rId17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25.xml"/><Relationship Id="rId7" Type="http://schemas.openxmlformats.org/officeDocument/2006/relationships/slideLayout" Target="../slideLayouts/slideLayout626.xml"/><Relationship Id="rId8" Type="http://schemas.openxmlformats.org/officeDocument/2006/relationships/slideLayout" Target="../slideLayouts/slideLayout627.xml"/><Relationship Id="rId9" Type="http://schemas.openxmlformats.org/officeDocument/2006/relationships/slideLayout" Target="../slideLayouts/slideLayout628.xml"/><Relationship Id="rId10" Type="http://schemas.openxmlformats.org/officeDocument/2006/relationships/slideLayout" Target="../slideLayouts/slideLayout629.xml"/><Relationship Id="rId11" Type="http://schemas.openxmlformats.org/officeDocument/2006/relationships/slideLayout" Target="../slideLayouts/slideLayout630.xml"/><Relationship Id="rId12" Type="http://schemas.openxmlformats.org/officeDocument/2006/relationships/slideLayout" Target="../slideLayouts/slideLayout631.xml"/><Relationship Id="rId13" Type="http://schemas.openxmlformats.org/officeDocument/2006/relationships/slideLayout" Target="../slideLayouts/slideLayout632.xml"/><Relationship Id="rId14" Type="http://schemas.openxmlformats.org/officeDocument/2006/relationships/slideLayout" Target="../slideLayouts/slideLayout633.xml"/><Relationship Id="rId15" Type="http://schemas.openxmlformats.org/officeDocument/2006/relationships/slideLayout" Target="../slideLayouts/slideLayout634.xml"/><Relationship Id="rId16" Type="http://schemas.openxmlformats.org/officeDocument/2006/relationships/slideLayout" Target="../slideLayouts/slideLayout635.xml"/><Relationship Id="rId17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37.xml"/><Relationship Id="rId6" Type="http://schemas.openxmlformats.org/officeDocument/2006/relationships/slideLayout" Target="../slideLayouts/slideLayout638.xml"/><Relationship Id="rId7" Type="http://schemas.openxmlformats.org/officeDocument/2006/relationships/slideLayout" Target="../slideLayouts/slideLayout639.xml"/><Relationship Id="rId8" Type="http://schemas.openxmlformats.org/officeDocument/2006/relationships/slideLayout" Target="../slideLayouts/slideLayout640.xml"/><Relationship Id="rId9" Type="http://schemas.openxmlformats.org/officeDocument/2006/relationships/slideLayout" Target="../slideLayouts/slideLayout641.xml"/><Relationship Id="rId10" Type="http://schemas.openxmlformats.org/officeDocument/2006/relationships/slideLayout" Target="../slideLayouts/slideLayout642.xml"/><Relationship Id="rId11" Type="http://schemas.openxmlformats.org/officeDocument/2006/relationships/slideLayout" Target="../slideLayouts/slideLayout643.xml"/><Relationship Id="rId12" Type="http://schemas.openxmlformats.org/officeDocument/2006/relationships/slideLayout" Target="../slideLayouts/slideLayout644.xml"/><Relationship Id="rId13" Type="http://schemas.openxmlformats.org/officeDocument/2006/relationships/slideLayout" Target="../slideLayouts/slideLayout645.xml"/><Relationship Id="rId14" Type="http://schemas.openxmlformats.org/officeDocument/2006/relationships/slideLayout" Target="../slideLayouts/slideLayout646.xml"/><Relationship Id="rId15" Type="http://schemas.openxmlformats.org/officeDocument/2006/relationships/slideLayout" Target="../slideLayouts/slideLayout647.xml"/><Relationship Id="rId16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57.xml"/><Relationship Id="rId7" Type="http://schemas.openxmlformats.org/officeDocument/2006/relationships/slideLayout" Target="../slideLayouts/slideLayout758.xml"/><Relationship Id="rId8" Type="http://schemas.openxmlformats.org/officeDocument/2006/relationships/slideLayout" Target="../slideLayouts/slideLayout759.xml"/><Relationship Id="rId9" Type="http://schemas.openxmlformats.org/officeDocument/2006/relationships/slideLayout" Target="../slideLayouts/slideLayout760.xml"/><Relationship Id="rId10" Type="http://schemas.openxmlformats.org/officeDocument/2006/relationships/slideLayout" Target="../slideLayouts/slideLayout761.xml"/><Relationship Id="rId11" Type="http://schemas.openxmlformats.org/officeDocument/2006/relationships/slideLayout" Target="../slideLayouts/slideLayout762.xml"/><Relationship Id="rId12" Type="http://schemas.openxmlformats.org/officeDocument/2006/relationships/slideLayout" Target="../slideLayouts/slideLayout763.xml"/><Relationship Id="rId13" Type="http://schemas.openxmlformats.org/officeDocument/2006/relationships/slideLayout" Target="../slideLayouts/slideLayout764.xml"/><Relationship Id="rId14" Type="http://schemas.openxmlformats.org/officeDocument/2006/relationships/slideLayout" Target="../slideLayouts/slideLayout765.xml"/><Relationship Id="rId15" Type="http://schemas.openxmlformats.org/officeDocument/2006/relationships/slideLayout" Target="../slideLayouts/slideLayout766.xml"/><Relationship Id="rId16" Type="http://schemas.openxmlformats.org/officeDocument/2006/relationships/slideLayout" Target="../slideLayouts/slideLayout767.xml"/><Relationship Id="rId17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69.xml"/><Relationship Id="rId6" Type="http://schemas.openxmlformats.org/officeDocument/2006/relationships/slideLayout" Target="../slideLayouts/slideLayout770.xml"/><Relationship Id="rId7" Type="http://schemas.openxmlformats.org/officeDocument/2006/relationships/slideLayout" Target="../slideLayouts/slideLayout771.xml"/><Relationship Id="rId8" Type="http://schemas.openxmlformats.org/officeDocument/2006/relationships/slideLayout" Target="../slideLayouts/slideLayout772.xml"/><Relationship Id="rId9" Type="http://schemas.openxmlformats.org/officeDocument/2006/relationships/slideLayout" Target="../slideLayouts/slideLayout773.xml"/><Relationship Id="rId10" Type="http://schemas.openxmlformats.org/officeDocument/2006/relationships/slideLayout" Target="../slideLayouts/slideLayout774.xml"/><Relationship Id="rId11" Type="http://schemas.openxmlformats.org/officeDocument/2006/relationships/slideLayout" Target="../slideLayouts/slideLayout775.xml"/><Relationship Id="rId12" Type="http://schemas.openxmlformats.org/officeDocument/2006/relationships/slideLayout" Target="../slideLayouts/slideLayout776.xml"/><Relationship Id="rId13" Type="http://schemas.openxmlformats.org/officeDocument/2006/relationships/slideLayout" Target="../slideLayouts/slideLayout777.xml"/><Relationship Id="rId14" Type="http://schemas.openxmlformats.org/officeDocument/2006/relationships/slideLayout" Target="../slideLayouts/slideLayout778.xml"/><Relationship Id="rId15" Type="http://schemas.openxmlformats.org/officeDocument/2006/relationships/slideLayout" Target="../slideLayouts/slideLayout779.xml"/><Relationship Id="rId16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89.xml"/><Relationship Id="rId7" Type="http://schemas.openxmlformats.org/officeDocument/2006/relationships/slideLayout" Target="../slideLayouts/slideLayout890.xml"/><Relationship Id="rId8" Type="http://schemas.openxmlformats.org/officeDocument/2006/relationships/slideLayout" Target="../slideLayouts/slideLayout891.xml"/><Relationship Id="rId9" Type="http://schemas.openxmlformats.org/officeDocument/2006/relationships/slideLayout" Target="../slideLayouts/slideLayout892.xml"/><Relationship Id="rId10" Type="http://schemas.openxmlformats.org/officeDocument/2006/relationships/slideLayout" Target="../slideLayouts/slideLayout893.xml"/><Relationship Id="rId11" Type="http://schemas.openxmlformats.org/officeDocument/2006/relationships/slideLayout" Target="../slideLayouts/slideLayout894.xml"/><Relationship Id="rId12" Type="http://schemas.openxmlformats.org/officeDocument/2006/relationships/slideLayout" Target="../slideLayouts/slideLayout895.xml"/><Relationship Id="rId13" Type="http://schemas.openxmlformats.org/officeDocument/2006/relationships/slideLayout" Target="../slideLayouts/slideLayout896.xml"/><Relationship Id="rId14" Type="http://schemas.openxmlformats.org/officeDocument/2006/relationships/slideLayout" Target="../slideLayouts/slideLayout897.xml"/><Relationship Id="rId15" Type="http://schemas.openxmlformats.org/officeDocument/2006/relationships/slideLayout" Target="../slideLayouts/slideLayout898.xml"/><Relationship Id="rId16" Type="http://schemas.openxmlformats.org/officeDocument/2006/relationships/slideLayout" Target="../slideLayouts/slideLayout899.xml"/><Relationship Id="rId17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01.xml"/><Relationship Id="rId6" Type="http://schemas.openxmlformats.org/officeDocument/2006/relationships/slideLayout" Target="../slideLayouts/slideLayout902.xml"/><Relationship Id="rId7" Type="http://schemas.openxmlformats.org/officeDocument/2006/relationships/slideLayout" Target="../slideLayouts/slideLayout903.xml"/><Relationship Id="rId8" Type="http://schemas.openxmlformats.org/officeDocument/2006/relationships/slideLayout" Target="../slideLayouts/slideLayout904.xml"/><Relationship Id="rId9" Type="http://schemas.openxmlformats.org/officeDocument/2006/relationships/slideLayout" Target="../slideLayouts/slideLayout905.xml"/><Relationship Id="rId10" Type="http://schemas.openxmlformats.org/officeDocument/2006/relationships/slideLayout" Target="../slideLayouts/slideLayout906.xml"/><Relationship Id="rId11" Type="http://schemas.openxmlformats.org/officeDocument/2006/relationships/slideLayout" Target="../slideLayouts/slideLayout907.xml"/><Relationship Id="rId12" Type="http://schemas.openxmlformats.org/officeDocument/2006/relationships/slideLayout" Target="../slideLayouts/slideLayout908.xml"/><Relationship Id="rId13" Type="http://schemas.openxmlformats.org/officeDocument/2006/relationships/slideLayout" Target="../slideLayouts/slideLayout909.xml"/><Relationship Id="rId14" Type="http://schemas.openxmlformats.org/officeDocument/2006/relationships/slideLayout" Target="../slideLayouts/slideLayout910.xml"/><Relationship Id="rId15" Type="http://schemas.openxmlformats.org/officeDocument/2006/relationships/slideLayout" Target="../slideLayouts/slideLayout911.xml"/><Relationship Id="rId16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009.xml"/><Relationship Id="rId5" Type="http://schemas.openxmlformats.org/officeDocument/2006/relationships/slideLayout" Target="../slideLayouts/slideLayout1010.xml"/><Relationship Id="rId6" Type="http://schemas.openxmlformats.org/officeDocument/2006/relationships/slideLayout" Target="../slideLayouts/slideLayout1011.xml"/><Relationship Id="rId7" Type="http://schemas.openxmlformats.org/officeDocument/2006/relationships/slideLayout" Target="../slideLayouts/slideLayout1012.xml"/><Relationship Id="rId8" Type="http://schemas.openxmlformats.org/officeDocument/2006/relationships/slideLayout" Target="../slideLayouts/slideLayout1013.xml"/><Relationship Id="rId9" Type="http://schemas.openxmlformats.org/officeDocument/2006/relationships/slideLayout" Target="../slideLayouts/slideLayout1014.xml"/><Relationship Id="rId10" Type="http://schemas.openxmlformats.org/officeDocument/2006/relationships/slideLayout" Target="../slideLayouts/slideLayout1015.xml"/><Relationship Id="rId11" Type="http://schemas.openxmlformats.org/officeDocument/2006/relationships/slideLayout" Target="../slideLayouts/slideLayout1016.xml"/><Relationship Id="rId12" Type="http://schemas.openxmlformats.org/officeDocument/2006/relationships/slideLayout" Target="../slideLayouts/slideLayout1017.xml"/><Relationship Id="rId13" Type="http://schemas.openxmlformats.org/officeDocument/2006/relationships/slideLayout" Target="../slideLayouts/slideLayout1018.xml"/><Relationship Id="rId14" Type="http://schemas.openxmlformats.org/officeDocument/2006/relationships/slideLayout" Target="../slideLayouts/slideLayout1019.xml"/><Relationship Id="rId15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21.xml"/><Relationship Id="rId7" Type="http://schemas.openxmlformats.org/officeDocument/2006/relationships/slideLayout" Target="../slideLayouts/slideLayout1022.xml"/><Relationship Id="rId8" Type="http://schemas.openxmlformats.org/officeDocument/2006/relationships/slideLayout" Target="../slideLayouts/slideLayout1023.xml"/><Relationship Id="rId9" Type="http://schemas.openxmlformats.org/officeDocument/2006/relationships/slideLayout" Target="../slideLayouts/slideLayout1024.xml"/><Relationship Id="rId10" Type="http://schemas.openxmlformats.org/officeDocument/2006/relationships/slideLayout" Target="../slideLayouts/slideLayout1025.xml"/><Relationship Id="rId11" Type="http://schemas.openxmlformats.org/officeDocument/2006/relationships/slideLayout" Target="../slideLayouts/slideLayout1026.xml"/><Relationship Id="rId12" Type="http://schemas.openxmlformats.org/officeDocument/2006/relationships/slideLayout" Target="../slideLayouts/slideLayout1027.xml"/><Relationship Id="rId13" Type="http://schemas.openxmlformats.org/officeDocument/2006/relationships/slideLayout" Target="../slideLayouts/slideLayout1028.xml"/><Relationship Id="rId14" Type="http://schemas.openxmlformats.org/officeDocument/2006/relationships/slideLayout" Target="../slideLayouts/slideLayout1029.xml"/><Relationship Id="rId15" Type="http://schemas.openxmlformats.org/officeDocument/2006/relationships/slideLayout" Target="../slideLayouts/slideLayout1030.xml"/><Relationship Id="rId16" Type="http://schemas.openxmlformats.org/officeDocument/2006/relationships/slideLayout" Target="../slideLayouts/slideLayout1031.xml"/><Relationship Id="rId17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33.xml"/><Relationship Id="rId6" Type="http://schemas.openxmlformats.org/officeDocument/2006/relationships/slideLayout" Target="../slideLayouts/slideLayout1034.xml"/><Relationship Id="rId7" Type="http://schemas.openxmlformats.org/officeDocument/2006/relationships/slideLayout" Target="../slideLayouts/slideLayout1035.xml"/><Relationship Id="rId8" Type="http://schemas.openxmlformats.org/officeDocument/2006/relationships/slideLayout" Target="../slideLayouts/slideLayout1036.xml"/><Relationship Id="rId9" Type="http://schemas.openxmlformats.org/officeDocument/2006/relationships/slideLayout" Target="../slideLayouts/slideLayout1037.xml"/><Relationship Id="rId10" Type="http://schemas.openxmlformats.org/officeDocument/2006/relationships/slideLayout" Target="../slideLayouts/slideLayout1038.xml"/><Relationship Id="rId11" Type="http://schemas.openxmlformats.org/officeDocument/2006/relationships/slideLayout" Target="../slideLayouts/slideLayout1039.xml"/><Relationship Id="rId12" Type="http://schemas.openxmlformats.org/officeDocument/2006/relationships/slideLayout" Target="../slideLayouts/slideLayout1040.xml"/><Relationship Id="rId13" Type="http://schemas.openxmlformats.org/officeDocument/2006/relationships/slideLayout" Target="../slideLayouts/slideLayout1041.xml"/><Relationship Id="rId14" Type="http://schemas.openxmlformats.org/officeDocument/2006/relationships/slideLayout" Target="../slideLayouts/slideLayout1042.xml"/><Relationship Id="rId15" Type="http://schemas.openxmlformats.org/officeDocument/2006/relationships/slideLayout" Target="../slideLayouts/slideLayout1043.xml"/><Relationship Id="rId16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141.xml"/><Relationship Id="rId5" Type="http://schemas.openxmlformats.org/officeDocument/2006/relationships/slideLayout" Target="../slideLayouts/slideLayout1142.xml"/><Relationship Id="rId6" Type="http://schemas.openxmlformats.org/officeDocument/2006/relationships/slideLayout" Target="../slideLayouts/slideLayout1143.xml"/><Relationship Id="rId7" Type="http://schemas.openxmlformats.org/officeDocument/2006/relationships/slideLayout" Target="../slideLayouts/slideLayout1144.xml"/><Relationship Id="rId8" Type="http://schemas.openxmlformats.org/officeDocument/2006/relationships/slideLayout" Target="../slideLayouts/slideLayout1145.xml"/><Relationship Id="rId9" Type="http://schemas.openxmlformats.org/officeDocument/2006/relationships/slideLayout" Target="../slideLayouts/slideLayout1146.xml"/><Relationship Id="rId10" Type="http://schemas.openxmlformats.org/officeDocument/2006/relationships/slideLayout" Target="../slideLayouts/slideLayout1147.xml"/><Relationship Id="rId11" Type="http://schemas.openxmlformats.org/officeDocument/2006/relationships/slideLayout" Target="../slideLayouts/slideLayout1148.xml"/><Relationship Id="rId12" Type="http://schemas.openxmlformats.org/officeDocument/2006/relationships/slideLayout" Target="../slideLayouts/slideLayout1149.xml"/><Relationship Id="rId13" Type="http://schemas.openxmlformats.org/officeDocument/2006/relationships/slideLayout" Target="../slideLayouts/slideLayout1150.xml"/><Relationship Id="rId14" Type="http://schemas.openxmlformats.org/officeDocument/2006/relationships/slideLayout" Target="../slideLayouts/slideLayout1151.xml"/><Relationship Id="rId15" Type="http://schemas.openxmlformats.org/officeDocument/2006/relationships/slideLayout" Target="../slideLayouts/slideLayout115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81BF-6AB1-44A6-AE84-5B211D329425}" type="datetime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A5E1-CE7C-447C-BD22-FFC74A5D1C81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Bildplatzhalter 14" descr="image_title_1a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402" name="Bildplatzhalter 10" descr="image_title_3b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403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ck 13"/>
          <p:cNvSpPr/>
          <p:nvPr/>
        </p:nvSpPr>
        <p:spPr>
          <a:xfrm>
            <a:off x="0" y="61419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Grafik 15" descr="hhi_E_334-cmyk__2.gif"/>
          <p:cNvPicPr/>
          <p:nvPr/>
        </p:nvPicPr>
        <p:blipFill>
          <a:blip r:embed="rId4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2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5977-F881-405F-AAD9-A7A16B74A762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4D2B-B1ED-453D-A23C-594F2192592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2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1F58-941F-4C5D-B2EC-69E909FC4F2A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3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3DFC-D9FD-4597-9774-16689ACD6648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1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2D8C-452E-400F-9BAD-71AEF828C912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3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406B-2094-4994-B131-A3148752838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4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3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C0DE-2AAD-412A-8056-50CF97C2082F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3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107A-B99F-4405-B9EE-929821D98F8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7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587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dt" idx="3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942F-E121-4852-9CD4-594081C39242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sldNum" idx="3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F29A-3535-425B-AC8E-69DC4EDC8587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0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632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4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A0C9-DFF4-4D64-853D-8EAECD847DF6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4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8B95-506E-430D-9A51-9547C84D4B1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43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677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dt" idx="4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991E-0B43-4F75-9031-15F93E149CAD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sldNum" idx="4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8C3B-E4D9-460A-884E-1A89D0B9A30E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4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722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dt" idx="4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D8D2-4B8A-45A8-8ED6-506DB89DE718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4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E9B0-792B-416E-A1AA-C6A1C0661651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49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767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5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A840-482F-4A9B-BCE2-3357C632A3A0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5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EB18-F143-4945-9AF1-7AB9CA72ED2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52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812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hteck 18"/>
          <p:cNvSpPr/>
          <p:nvPr/>
        </p:nvSpPr>
        <p:spPr>
          <a:xfrm>
            <a:off x="6608880" y="1928880"/>
            <a:ext cx="2355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Einsteinufer 37</a:t>
            </a:r>
            <a:br>
              <a:rPr sz="1600"/>
            </a:b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10587 Berlin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Phone +49 30 31002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www.hhi.fraunhofer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hteck 21"/>
          <p:cNvSpPr/>
          <p:nvPr/>
        </p:nvSpPr>
        <p:spPr>
          <a:xfrm>
            <a:off x="468360" y="360360"/>
            <a:ext cx="57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Tahoma"/>
              </a:rPr>
              <a:t>Be our Guest – become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hteck 23"/>
          <p:cNvSpPr/>
          <p:nvPr/>
        </p:nvSpPr>
        <p:spPr>
          <a:xfrm>
            <a:off x="468360" y="1413000"/>
            <a:ext cx="597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 indent="-26352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Arial"/>
                <a:ea typeface="Tahoma"/>
              </a:rPr>
              <a:t>The Fraunhofer Heinrich Hertz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Grafik 24" descr="Abschlussbildjpg.jpg"/>
          <p:cNvPicPr/>
          <p:nvPr/>
        </p:nvPicPr>
        <p:blipFill>
          <a:blip r:embed="rId3"/>
          <a:stretch/>
        </p:blipFill>
        <p:spPr>
          <a:xfrm>
            <a:off x="468360" y="2000160"/>
            <a:ext cx="5675400" cy="382752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dt" idx="5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18ED-74F8-442B-BD41-E9B30300B766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sldNum" idx="5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23B5-02BF-47F0-8CE8-0754DCCAEBDC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5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AC24-F5AD-4799-A3B4-728F3E0E5ECA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5FCE-42B1-4D07-A488-C2BD1FD7FBA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Bildplatzhalter 10" descr="image_title_3b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861" name="Bildplatzhalter 9" descr="image_title_2a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3041640" y="362736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862" name="Bildplatzhalter 14" descr="image_title_1a.jpg"/>
          <p:cNvPicPr/>
          <p:nvPr/>
        </p:nvPicPr>
        <p:blipFill>
          <a:blip r:embed="rId4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863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hteck 13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Grafik 15" descr="hhi_E_334-cmyk__2.gif"/>
          <p:cNvPicPr/>
          <p:nvPr/>
        </p:nvPicPr>
        <p:blipFill>
          <a:blip r:embed="rId5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87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dt" idx="5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48BF-B088-45EB-84CD-634D76D7FD06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sldNum" idx="5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1917-A6A1-455F-923D-A9FB58F91778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Bildplatzhalter 14" descr="image_title_1a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915" name="Bildplatzhalter 10" descr="image_title_3b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916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hteck 13"/>
          <p:cNvSpPr/>
          <p:nvPr/>
        </p:nvSpPr>
        <p:spPr>
          <a:xfrm>
            <a:off x="0" y="61419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Grafik 15" descr="hhi_E_334-cmyk__2.gif"/>
          <p:cNvPicPr/>
          <p:nvPr/>
        </p:nvPicPr>
        <p:blipFill>
          <a:blip r:embed="rId4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92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dt" idx="5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5002-053D-4EBA-8B8C-DC4D5EC8016A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sldNum" idx="5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FE75-77C8-43D7-9ADC-9EED5FFF33E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968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dt" idx="6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FA49-FD67-43C5-B655-5C724689DE5A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sldNum" idx="6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BF3C-DD38-4238-937E-75C406AB1E22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ftr" idx="62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013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dt" idx="6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9D50-2101-4BD2-ADD8-A16753EAC2F0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sldNum" idx="6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767F-9CCB-4094-BDFC-93E18BA1B47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65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058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dt" idx="6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CD99-C588-4131-BCF3-F320D4460722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sldNum" idx="6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4C5D-B008-4ECD-B2C0-3C64953DB7D3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68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103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dt" idx="6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D806-A1DD-4E5A-A5A3-69A288C0DE69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sldNum" idx="7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CB40-87EF-4889-9B10-BC0088D86B2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71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148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dt" idx="7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CE05-2B8C-4AD4-ACCE-E7AFD6757B5B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sldNum" idx="7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E6EE-C4EF-48CD-8349-E66006745C8B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ftr" idx="74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193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dt" idx="7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E6BA-E74B-4C82-8BF6-0086130BE9B5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sldNum" idx="7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9474-E966-413C-9870-BD239B3A6078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77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7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238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dt" idx="7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E098-D7BC-43C3-80DC-1353C92EB6B4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sldNum" idx="7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B0DE-DBE5-4CA4-97B4-3C57087F7AFB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80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2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283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dt" idx="8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5708-39AD-485A-9FAC-68DC8AB94540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sldNum" idx="8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3FBC-35C1-4AAE-970C-76BC50299621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3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7554-080E-41E2-87D5-DD45D25FDBE2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D0EE-FA75-474C-86A9-C258EE60A0C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9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f2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ireless Communication and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328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hteck 18"/>
          <p:cNvSpPr/>
          <p:nvPr/>
        </p:nvSpPr>
        <p:spPr>
          <a:xfrm>
            <a:off x="6608880" y="1928880"/>
            <a:ext cx="2355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Einsteinufer 37</a:t>
            </a:r>
            <a:br>
              <a:rPr sz="1600"/>
            </a:b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10587 Berlin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Phone +49 30 31002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www.hhi.fraunhofer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hteck 21"/>
          <p:cNvSpPr/>
          <p:nvPr/>
        </p:nvSpPr>
        <p:spPr>
          <a:xfrm>
            <a:off x="468360" y="360360"/>
            <a:ext cx="57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Tahoma"/>
              </a:rPr>
              <a:t>Be our Guest – become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hteck 23"/>
          <p:cNvSpPr/>
          <p:nvPr/>
        </p:nvSpPr>
        <p:spPr>
          <a:xfrm>
            <a:off x="468360" y="1413000"/>
            <a:ext cx="597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 indent="-26352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Arial"/>
                <a:ea typeface="Tahoma"/>
              </a:rPr>
              <a:t>The Fraunhofer Heinrich Hertz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Grafik 24" descr="Abschlussbildjpg.jpg"/>
          <p:cNvPicPr/>
          <p:nvPr/>
        </p:nvPicPr>
        <p:blipFill>
          <a:blip r:embed="rId3"/>
          <a:stretch/>
        </p:blipFill>
        <p:spPr>
          <a:xfrm>
            <a:off x="468360" y="2000160"/>
            <a:ext cx="5675400" cy="3827520"/>
          </a:xfrm>
          <a:prstGeom prst="rect">
            <a:avLst/>
          </a:prstGeom>
          <a:ln w="0">
            <a:noFill/>
          </a:ln>
        </p:spPr>
      </p:pic>
      <p:sp>
        <p:nvSpPr>
          <p:cNvPr id="133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dt" idx="8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545B-2126-4134-8A34-2E2A8EAE0F6B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 type="sldNum" idx="8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C797-54BF-4274-8ECE-DEF0F10EF148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 type="ftr" idx="8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Bildplatzhalter 10" descr="image_title_3b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1377" name="Bildplatzhalter 9" descr="image_title_2a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3041640" y="362736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1378" name="Bildplatzhalter 14" descr="image_title_1a.jpg"/>
          <p:cNvPicPr/>
          <p:nvPr/>
        </p:nvPicPr>
        <p:blipFill>
          <a:blip r:embed="rId4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1379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hteck 13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7" name="Grafik 15" descr="hhi_E_334-cmyk__2.gif"/>
          <p:cNvPicPr/>
          <p:nvPr/>
        </p:nvPicPr>
        <p:blipFill>
          <a:blip r:embed="rId5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1388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dt" idx="8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3106-DB83-44A3-B1FA-266B6F9902EF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sldNum" idx="8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6645-F840-4316-868C-05AAA9BF85EE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6"/>
    <p:sldLayoutId id="2147484040" r:id="rId7"/>
    <p:sldLayoutId id="2147484041" r:id="rId8"/>
    <p:sldLayoutId id="2147484042" r:id="rId9"/>
    <p:sldLayoutId id="2147484043" r:id="rId10"/>
    <p:sldLayoutId id="2147484044" r:id="rId11"/>
    <p:sldLayoutId id="2147484045" r:id="rId12"/>
    <p:sldLayoutId id="2147484046" r:id="rId13"/>
    <p:sldLayoutId id="2147484047" r:id="rId14"/>
    <p:sldLayoutId id="2147484048" r:id="rId15"/>
    <p:sldLayoutId id="2147484049" r:id="rId16"/>
    <p:sldLayoutId id="2147484050" r:id="rId17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0" name="Bildplatzhalter 14" descr="image_title_1a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1431" name="Bildplatzhalter 10" descr="image_title_3b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1432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hteck 13"/>
          <p:cNvSpPr/>
          <p:nvPr/>
        </p:nvSpPr>
        <p:spPr>
          <a:xfrm>
            <a:off x="0" y="61419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Grafik 15" descr="hhi_E_334-cmyk__2.gif"/>
          <p:cNvPicPr/>
          <p:nvPr/>
        </p:nvPicPr>
        <p:blipFill>
          <a:blip r:embed="rId4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144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dt" idx="8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97CF-C657-4A02-A828-BC75BB5FB94A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 type="sldNum" idx="9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3F51-7899-419B-B97A-CFE07589FE6A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3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484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dt" idx="9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858A-E52E-4440-A37E-447AC647858B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sldNum" idx="9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7D4A-B60B-457F-A54A-3DE4A724CC27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 type="ftr" idx="93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8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529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dt" idx="9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398D-2D5E-465A-81C6-38A53D367BA9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 type="sldNum" idx="9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DAED-C7B2-4002-93FD-564C322E0C5B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 type="ftr" idx="9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574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dt" idx="9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6BAD-9478-4A2F-B0DE-775F34F4AB18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 type="sldNum" idx="9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9F74-6D7C-42AB-A1E8-2B707EFF280C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 type="ftr" idx="99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8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619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dt" idx="10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13A2-0A60-472A-9FBD-EF8946665549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 type="sldNum" idx="10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098A-16A7-4822-9A1B-83F98120472C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 type="ftr" idx="102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3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664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dt" idx="10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8042-5436-498A-BAC6-E54DB5C61120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 type="sldNum" idx="10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8D69-16C8-4DE9-8FFA-F7794E5274B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 type="ftr" idx="105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8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709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dt" idx="10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2CA8-1E7B-496F-98EE-5E2872819CAB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 type="sldNum" idx="10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BB73-DD72-4615-BF0B-5FB5ADBEDA8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 type="ftr" idx="108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3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754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dt" idx="10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B4FD-DD09-46CC-8D5A-0845C5A54F24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sldNum" idx="11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17C6-F019-4D70-89A2-78A48546B7B3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111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6DAE-753D-4197-8C4D-BBC4B7DA9DE4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7F1D-91BC-4577-9A90-F56B03C9EF5C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2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8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799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dt" idx="11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19B6-F85A-42B8-BAAE-3FD9A45629A4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 type="sldNum" idx="11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8372-91C8-42F7-981A-B13DE8C3F05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 type="ftr" idx="114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59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iber Optical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Sens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3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1844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Rechteck 18"/>
          <p:cNvSpPr/>
          <p:nvPr/>
        </p:nvSpPr>
        <p:spPr>
          <a:xfrm>
            <a:off x="6608880" y="1928880"/>
            <a:ext cx="2355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Einsteinufer 37</a:t>
            </a:r>
            <a:br>
              <a:rPr sz="1600"/>
            </a:b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10587 Berlin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Phone +49 30 31002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www.hhi.fraunhofer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Rechteck 21"/>
          <p:cNvSpPr/>
          <p:nvPr/>
        </p:nvSpPr>
        <p:spPr>
          <a:xfrm>
            <a:off x="468360" y="360360"/>
            <a:ext cx="57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Tahoma"/>
              </a:rPr>
              <a:t>Be our Guest – become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Rechteck 23"/>
          <p:cNvSpPr/>
          <p:nvPr/>
        </p:nvSpPr>
        <p:spPr>
          <a:xfrm>
            <a:off x="468360" y="1413000"/>
            <a:ext cx="597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 indent="-26352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Arial"/>
                <a:ea typeface="Tahoma"/>
              </a:rPr>
              <a:t>The Fraunhofer Heinrich Hertz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8" name="Grafik 24" descr="Abschlussbildjpg.jpg"/>
          <p:cNvPicPr/>
          <p:nvPr/>
        </p:nvPicPr>
        <p:blipFill>
          <a:blip r:embed="rId3"/>
          <a:stretch/>
        </p:blipFill>
        <p:spPr>
          <a:xfrm>
            <a:off x="468360" y="2000160"/>
            <a:ext cx="5675400" cy="3827520"/>
          </a:xfrm>
          <a:prstGeom prst="rect">
            <a:avLst/>
          </a:prstGeom>
          <a:ln w="0">
            <a:noFill/>
          </a:ln>
        </p:spPr>
      </p:pic>
      <p:sp>
        <p:nvSpPr>
          <p:cNvPr id="184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59be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dt" idx="11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7283-4431-4EF5-AC90-92A29E35697C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sldNum" idx="11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CCAB-567A-41D8-B98F-6EE3CEDCCB6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 type="ftr" idx="117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2" name="Bildplatzhalter 10" descr="image_title_3b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1893" name="Bildplatzhalter 9" descr="image_title_2a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3041640" y="362736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1894" name="Bildplatzhalter 14" descr="image_title_1a.jpg"/>
          <p:cNvPicPr/>
          <p:nvPr/>
        </p:nvPicPr>
        <p:blipFill>
          <a:blip r:embed="rId4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1895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hteck 13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3" name="Grafik 15" descr="hhi_E_334-cmyk__2.gif"/>
          <p:cNvPicPr/>
          <p:nvPr/>
        </p:nvPicPr>
        <p:blipFill>
          <a:blip r:embed="rId5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1904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dt" idx="11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FCEB-2FE7-4DF5-A028-433F14E574E0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sldNum" idx="11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9410-356A-4161-AC75-059E0FF6721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6"/>
    <p:sldLayoutId id="2147484183" r:id="rId7"/>
    <p:sldLayoutId id="2147484184" r:id="rId8"/>
    <p:sldLayoutId id="2147484185" r:id="rId9"/>
    <p:sldLayoutId id="2147484186" r:id="rId10"/>
    <p:sldLayoutId id="2147484187" r:id="rId11"/>
    <p:sldLayoutId id="2147484188" r:id="rId12"/>
    <p:sldLayoutId id="2147484189" r:id="rId13"/>
    <p:sldLayoutId id="2147484190" r:id="rId14"/>
    <p:sldLayoutId id="2147484191" r:id="rId15"/>
    <p:sldLayoutId id="2147484192" r:id="rId16"/>
    <p:sldLayoutId id="2147484193" r:id="rId17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6" name="Bildplatzhalter 14" descr="image_title_1a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1947" name="Bildplatzhalter 10" descr="image_title_3b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1948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Rechteck 13"/>
          <p:cNvSpPr/>
          <p:nvPr/>
        </p:nvSpPr>
        <p:spPr>
          <a:xfrm>
            <a:off x="0" y="61419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6" name="Grafik 15" descr="hhi_E_334-cmyk__2.gif"/>
          <p:cNvPicPr/>
          <p:nvPr/>
        </p:nvPicPr>
        <p:blipFill>
          <a:blip r:embed="rId4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195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 type="dt" idx="12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A1BD-A317-4A9F-B88A-E800BDEAA2E5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 type="sldNum" idx="12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23E6-5576-43BA-8BEC-837778D729A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000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dt" idx="12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6F00-9EEE-4498-9CE0-C83638C37956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sldNum" idx="12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6EC5-ED8E-47D0-A021-7F959E935D71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124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045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dt" idx="12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A835-19E9-47DA-8571-A6B3BA16ACEA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 type="sldNum" idx="12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7509-8794-4EC1-BF5C-8EF6B02DC62C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 type="ftr" idx="127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090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dt" idx="12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4817-A70C-48C4-9729-C535C8F1885E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sldNum" idx="12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1514-BCAD-45DA-9165-B8A4D3FE5C2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30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135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dt" idx="13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865A-D1DC-4D3F-BC8F-EDD7178809CC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 type="sldNum" idx="13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67A1-65CC-4DCC-A618-505EB7414DCE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 type="ftr" idx="133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180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dt" idx="13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8BC1-9857-45C5-A2F5-B2680AC17306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sldNum" idx="13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ACC8-8550-4B33-89C6-860AB8772AF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3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225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dt" idx="13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9ED1-D54B-403E-91BD-086A8F24EECD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 type="sldNum" idx="13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F4F6-6750-436C-A6C9-1FEF2295509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 type="ftr" idx="139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3E21-75BA-4D03-A8E3-B645911461DB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EE2C-D20A-461A-AA1B-44131CC9641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5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270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dt" idx="14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E448-39D0-4058-873B-657886CDB5AD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 type="sldNum" idx="14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1881-3A3C-419E-A0D5-2C9ED9C7405E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 type="ftr" idx="142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315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dt" idx="14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3C7E-87C1-44A7-8E3F-A19DF169E660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 type="sldNum" idx="14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F190-76CE-4771-AFBB-B2745466D4C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 type="ftr" idx="145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a1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360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Rechteck 18"/>
          <p:cNvSpPr/>
          <p:nvPr/>
        </p:nvSpPr>
        <p:spPr>
          <a:xfrm>
            <a:off x="6608880" y="1928880"/>
            <a:ext cx="2355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Einsteinufer 37</a:t>
            </a:r>
            <a:br>
              <a:rPr sz="1600"/>
            </a:b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10587 Berlin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Phone +49 30 31002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www.hhi.fraunhofer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Rechteck 21"/>
          <p:cNvSpPr/>
          <p:nvPr/>
        </p:nvSpPr>
        <p:spPr>
          <a:xfrm>
            <a:off x="468360" y="360360"/>
            <a:ext cx="57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Tahoma"/>
              </a:rPr>
              <a:t>Be our Guest – become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Rechteck 23"/>
          <p:cNvSpPr/>
          <p:nvPr/>
        </p:nvSpPr>
        <p:spPr>
          <a:xfrm>
            <a:off x="468360" y="1413000"/>
            <a:ext cx="597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 indent="-26352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Arial"/>
                <a:ea typeface="Tahoma"/>
              </a:rPr>
              <a:t>The Fraunhofer Heinrich Hertz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4" name="Grafik 24" descr="Abschlussbildjpg.jpg"/>
          <p:cNvPicPr/>
          <p:nvPr/>
        </p:nvPicPr>
        <p:blipFill>
          <a:blip r:embed="rId3"/>
          <a:stretch/>
        </p:blipFill>
        <p:spPr>
          <a:xfrm>
            <a:off x="468360" y="2000160"/>
            <a:ext cx="5675400" cy="3827520"/>
          </a:xfrm>
          <a:prstGeom prst="rect">
            <a:avLst/>
          </a:prstGeom>
          <a:ln w="0">
            <a:noFill/>
          </a:ln>
        </p:spPr>
      </p:pic>
      <p:sp>
        <p:nvSpPr>
          <p:cNvPr id="236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a1a2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 type="dt" idx="14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A9BD-291D-4892-AD1E-60CFB33EC6C2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 type="sldNum" idx="14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05D1-99AA-4F18-AB2B-C5CC941DF05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 type="ftr" idx="148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8" name="Bildplatzhalter 10" descr="image_title_3b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2409" name="Bildplatzhalter 9" descr="image_title_2a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3041640" y="362736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2410" name="Bildplatzhalter 14" descr="image_title_1a.jpg"/>
          <p:cNvPicPr/>
          <p:nvPr/>
        </p:nvPicPr>
        <p:blipFill>
          <a:blip r:embed="rId4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2411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Rechteck 13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9" name="Grafik 15" descr="hhi_E_334-cmyk__2.gif"/>
          <p:cNvPicPr/>
          <p:nvPr/>
        </p:nvPicPr>
        <p:blipFill>
          <a:blip r:embed="rId5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242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dt" idx="14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9A87-6B47-4D89-A523-AC6D698A219D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 type="sldNum" idx="15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1405-A5A9-4013-9A35-FCAE778AE42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6"/>
    <p:sldLayoutId id="2147484326" r:id="rId7"/>
    <p:sldLayoutId id="2147484327" r:id="rId8"/>
    <p:sldLayoutId id="2147484328" r:id="rId9"/>
    <p:sldLayoutId id="2147484329" r:id="rId10"/>
    <p:sldLayoutId id="2147484330" r:id="rId11"/>
    <p:sldLayoutId id="2147484331" r:id="rId12"/>
    <p:sldLayoutId id="2147484332" r:id="rId13"/>
    <p:sldLayoutId id="2147484333" r:id="rId14"/>
    <p:sldLayoutId id="2147484334" r:id="rId15"/>
    <p:sldLayoutId id="2147484335" r:id="rId16"/>
    <p:sldLayoutId id="2147484336" r:id="rId17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2" name="Bildplatzhalter 14" descr="image_title_1a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2463" name="Bildplatzhalter 10" descr="image_title_3b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2464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Rechteck 13"/>
          <p:cNvSpPr/>
          <p:nvPr/>
        </p:nvSpPr>
        <p:spPr>
          <a:xfrm>
            <a:off x="0" y="61419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2" name="Grafik 15" descr="hhi_E_334-cmyk__2.gif"/>
          <p:cNvPicPr/>
          <p:nvPr/>
        </p:nvPicPr>
        <p:blipFill>
          <a:blip r:embed="rId4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247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 type="dt" idx="15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1AB7-FA27-427A-9E3D-7934497AB482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 type="sldNum" idx="15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A919-8792-4F66-BEBF-DEBD0339A5DB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5"/>
    <p:sldLayoutId id="2147484339" r:id="rId6"/>
    <p:sldLayoutId id="2147484340" r:id="rId7"/>
    <p:sldLayoutId id="2147484341" r:id="rId8"/>
    <p:sldLayoutId id="2147484342" r:id="rId9"/>
    <p:sldLayoutId id="2147484343" r:id="rId10"/>
    <p:sldLayoutId id="2147484344" r:id="rId11"/>
    <p:sldLayoutId id="2147484345" r:id="rId12"/>
    <p:sldLayoutId id="2147484346" r:id="rId13"/>
    <p:sldLayoutId id="2147484347" r:id="rId14"/>
    <p:sldLayoutId id="2147484348" r:id="rId15"/>
    <p:sldLayoutId id="2147484349" r:id="rId16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516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 type="dt" idx="15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2008-B207-4CE3-AA65-56D095E62949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 type="sldNum" idx="15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A485-E223-41CC-94E0-70D7246BE838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 type="ftr" idx="155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561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dt" idx="15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0F38-6BE3-4F98-83F5-798607C5A395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 type="sldNum" idx="15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D4A7-EC1C-4C02-BEE2-CE2B5FBCB52B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 type="ftr" idx="158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606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 type="dt" idx="15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693E-B895-4294-AD08-E60AA54EFE7A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 type="sldNum" idx="16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3CCE-1811-453D-BAE9-8E1581DEA862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 type="ftr" idx="161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651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dt" idx="16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4166-9324-48D4-8248-676C4118283F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 type="sldNum" idx="16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4C80-07C5-412C-8494-2BA528F7278C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 type="ftr" idx="164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696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 type="dt" idx="16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8FD2-0FF7-4830-960B-C567A01998DC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 type="sldNum" idx="16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EE85-2ADB-4BD8-AC32-DF239DD9D98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 type="ftr" idx="167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3B30-98C7-4109-B41D-4DC42C5D5E5C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9AAD-3883-47D3-A550-DFD2AFA079CC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8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741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 type="dt" idx="16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2547-2D4F-4D88-AB96-33A5D5CBD136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 type="sldNum" idx="16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4223-5A59-40F0-B9B8-27527AF1CA9C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4"/>
          <p:cNvSpPr>
            <a:spLocks noGrp="1"/>
          </p:cNvSpPr>
          <p:nvPr>
            <p:ph type="ftr" idx="170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786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 type="dt" idx="17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5B88-7BDD-4FE9-BE05-0AABFCA64C49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 type="sldNum" idx="17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630E-74E1-49F6-A83B-9760C2E2A0D6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 type="ftr" idx="173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831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 type="dt" idx="17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5606-A761-472A-8254-BEC33A2BD23F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PlaceHolder 3"/>
          <p:cNvSpPr>
            <a:spLocks noGrp="1"/>
          </p:cNvSpPr>
          <p:nvPr>
            <p:ph type="sldNum" idx="17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4E8B-51BB-4678-9AFC-CBDC1B48E971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PlaceHolder 4"/>
          <p:cNvSpPr>
            <a:spLocks noGrp="1"/>
          </p:cNvSpPr>
          <p:nvPr>
            <p:ph type="ftr" idx="17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d8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nteractive Media –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uma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2876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Rechteck 18"/>
          <p:cNvSpPr/>
          <p:nvPr/>
        </p:nvSpPr>
        <p:spPr>
          <a:xfrm>
            <a:off x="6608880" y="1928880"/>
            <a:ext cx="2355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Einsteinufer 37</a:t>
            </a:r>
            <a:br>
              <a:rPr sz="1600"/>
            </a:b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10587 Berlin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Phone +49 30 31002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www.hhi.fraunhofer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Rechteck 21"/>
          <p:cNvSpPr/>
          <p:nvPr/>
        </p:nvSpPr>
        <p:spPr>
          <a:xfrm>
            <a:off x="468360" y="360360"/>
            <a:ext cx="57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Tahoma"/>
              </a:rPr>
              <a:t>Be our Guest – become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Rechteck 23"/>
          <p:cNvSpPr/>
          <p:nvPr/>
        </p:nvSpPr>
        <p:spPr>
          <a:xfrm>
            <a:off x="468360" y="1413000"/>
            <a:ext cx="597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 indent="-26352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Arial"/>
                <a:ea typeface="Tahoma"/>
              </a:rPr>
              <a:t>The Fraunhofer Heinrich Hertz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0" name="Grafik 24" descr="Abschlussbildjpg.jpg"/>
          <p:cNvPicPr/>
          <p:nvPr/>
        </p:nvPicPr>
        <p:blipFill>
          <a:blip r:embed="rId3"/>
          <a:stretch/>
        </p:blipFill>
        <p:spPr>
          <a:xfrm>
            <a:off x="468360" y="2000160"/>
            <a:ext cx="5675400" cy="3827520"/>
          </a:xfrm>
          <a:prstGeom prst="rect">
            <a:avLst/>
          </a:prstGeom>
          <a:ln w="0">
            <a:noFill/>
          </a:ln>
        </p:spPr>
      </p:pic>
      <p:sp>
        <p:nvSpPr>
          <p:cNvPr id="288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d8cd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 type="dt" idx="17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DBA6-05B6-48F8-AA66-C1F695478ED0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 type="sldNum" idx="17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5F95-4632-41E3-B983-56918A8E82CC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 type="ftr" idx="179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4" name="Bildplatzhalter 10" descr="image_title_3b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2925" name="Bildplatzhalter 9" descr="image_title_2a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3041640" y="362736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2926" name="Bildplatzhalter 14" descr="image_title_1a.jpg"/>
          <p:cNvPicPr/>
          <p:nvPr/>
        </p:nvPicPr>
        <p:blipFill>
          <a:blip r:embed="rId4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2927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hteck 13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5" name="Grafik 15" descr="hhi_E_334-cmyk__2.gif"/>
          <p:cNvPicPr/>
          <p:nvPr/>
        </p:nvPicPr>
        <p:blipFill>
          <a:blip r:embed="rId5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293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 type="dt" idx="18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8F20-810D-4742-B90C-C88CA4638D20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 type="sldNum" idx="18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C37B-31A9-4709-9698-9EAB89E4EE5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6"/>
    <p:sldLayoutId id="2147484469" r:id="rId7"/>
    <p:sldLayoutId id="2147484470" r:id="rId8"/>
    <p:sldLayoutId id="2147484471" r:id="rId9"/>
    <p:sldLayoutId id="2147484472" r:id="rId10"/>
    <p:sldLayoutId id="2147484473" r:id="rId11"/>
    <p:sldLayoutId id="2147484474" r:id="rId12"/>
    <p:sldLayoutId id="2147484475" r:id="rId13"/>
    <p:sldLayoutId id="2147484476" r:id="rId14"/>
    <p:sldLayoutId id="2147484477" r:id="rId15"/>
    <p:sldLayoutId id="2147484478" r:id="rId16"/>
    <p:sldLayoutId id="2147484479" r:id="rId17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8" name="Bildplatzhalter 14" descr="image_title_1a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2979" name="Bildplatzhalter 10" descr="image_title_3b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2980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Rechteck 13"/>
          <p:cNvSpPr/>
          <p:nvPr/>
        </p:nvSpPr>
        <p:spPr>
          <a:xfrm>
            <a:off x="0" y="61419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8" name="Grafik 15" descr="hhi_E_334-cmyk__2.gif"/>
          <p:cNvPicPr/>
          <p:nvPr/>
        </p:nvPicPr>
        <p:blipFill>
          <a:blip r:embed="rId4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298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 type="dt" idx="18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9C98-68F5-4F32-8391-08E258553F96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 type="sldNum" idx="18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F17F-4FA3-4B7E-8E63-CDB7004B735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5"/>
    <p:sldLayoutId id="2147484482" r:id="rId6"/>
    <p:sldLayoutId id="2147484483" r:id="rId7"/>
    <p:sldLayoutId id="2147484484" r:id="rId8"/>
    <p:sldLayoutId id="2147484485" r:id="rId9"/>
    <p:sldLayoutId id="2147484486" r:id="rId10"/>
    <p:sldLayoutId id="2147484487" r:id="rId11"/>
    <p:sldLayoutId id="2147484488" r:id="rId12"/>
    <p:sldLayoutId id="2147484489" r:id="rId13"/>
    <p:sldLayoutId id="2147484490" r:id="rId14"/>
    <p:sldLayoutId id="2147484491" r:id="rId15"/>
    <p:sldLayoutId id="2147484492" r:id="rId16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1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03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 type="dt" idx="18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C96F-0E15-4A86-AA63-60E2F97FF6DD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PlaceHolder 3"/>
          <p:cNvSpPr>
            <a:spLocks noGrp="1"/>
          </p:cNvSpPr>
          <p:nvPr>
            <p:ph type="sldNum" idx="18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F13D-AF46-4339-B18C-B73544C3567C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PlaceHolder 4"/>
          <p:cNvSpPr>
            <a:spLocks noGrp="1"/>
          </p:cNvSpPr>
          <p:nvPr>
            <p:ph type="ftr" idx="18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07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dt" idx="18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FB24-D5DF-48AF-8AA3-130F4C5E0F8F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 type="sldNum" idx="18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41B3-BDFC-4208-A18F-D3F153485A1B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 type="ftr" idx="189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12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dt" idx="19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7524-3C3F-476D-969E-C6BD48EC012A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sldNum" idx="19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9350-D6A0-4CA1-81FB-953C9C50584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192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3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164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 type="dt" idx="19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FFE7-CE11-4342-8FF0-1D8F7EF15656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 type="sldNum" idx="19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6EBA-4F82-42F5-95CF-32EF798C1BBB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PlaceHolder 4"/>
          <p:cNvSpPr>
            <a:spLocks noGrp="1"/>
          </p:cNvSpPr>
          <p:nvPr>
            <p:ph type="ftr" idx="195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E30F-9B0E-47BB-B7DD-3BC0100081B9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2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331C-36EA-48A2-BE40-06F8063F07B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1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7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208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 type="dt" idx="19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441D-D915-414B-BC31-5B244B32BC9D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PlaceHolder 3"/>
          <p:cNvSpPr>
            <a:spLocks noGrp="1"/>
          </p:cNvSpPr>
          <p:nvPr>
            <p:ph type="sldNum" idx="19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EB95-9C89-4EE2-9497-E64B0A8BAFF7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PlaceHolder 4"/>
          <p:cNvSpPr>
            <a:spLocks noGrp="1"/>
          </p:cNvSpPr>
          <p:nvPr>
            <p:ph type="ftr" idx="198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2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25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 type="dt" idx="19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07D8-5141-457C-A832-37F923C57C7A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 type="sldNum" idx="20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EF05-D536-44EC-A075-5636CDC68BB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 type="ftr" idx="201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6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29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 type="dt" idx="20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CD4A-2CA5-4394-AFAC-46A05B970502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 type="sldNum" idx="20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080A-7F98-47EB-8858-D4FEE09754A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 type="ftr" idx="204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34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 type="dt" idx="20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8D8C-4CD2-49D9-9E8A-461399DDC67E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 type="sldNum" idx="20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117F-85BE-4AA6-8C74-49C92D71C967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 type="ftr" idx="207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5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385" name="Rechteck 18"/>
          <p:cNvSpPr/>
          <p:nvPr/>
        </p:nvSpPr>
        <p:spPr>
          <a:xfrm>
            <a:off x="6608880" y="1928880"/>
            <a:ext cx="2355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Einsteinufer 37</a:t>
            </a:r>
            <a:br>
              <a:rPr sz="1600"/>
            </a:b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10587 Berlin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Phone +49 30 31002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www.hhi.fraunhofer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Rechteck 21"/>
          <p:cNvSpPr/>
          <p:nvPr/>
        </p:nvSpPr>
        <p:spPr>
          <a:xfrm>
            <a:off x="468360" y="360360"/>
            <a:ext cx="57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Tahoma"/>
              </a:rPr>
              <a:t>Be our Guest – become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Rechteck 23"/>
          <p:cNvSpPr/>
          <p:nvPr/>
        </p:nvSpPr>
        <p:spPr>
          <a:xfrm>
            <a:off x="468360" y="1413000"/>
            <a:ext cx="597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 indent="-26352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Arial"/>
                <a:ea typeface="Tahoma"/>
              </a:rPr>
              <a:t>The Fraunhofer Heinrich Hertz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8" name="Grafik 24" descr="Abschlussbildjpg.jpg"/>
          <p:cNvPicPr/>
          <p:nvPr/>
        </p:nvPicPr>
        <p:blipFill>
          <a:blip r:embed="rId3"/>
          <a:stretch/>
        </p:blipFill>
        <p:spPr>
          <a:xfrm>
            <a:off x="468360" y="2000160"/>
            <a:ext cx="5675400" cy="3827520"/>
          </a:xfrm>
          <a:prstGeom prst="rect">
            <a:avLst/>
          </a:prstGeom>
          <a:ln w="0">
            <a:noFill/>
          </a:ln>
        </p:spPr>
      </p:pic>
      <p:sp>
        <p:nvSpPr>
          <p:cNvPr id="338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5abe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 type="dt" idx="20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77D8-5B4F-46F3-8992-94865B7557EE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 type="sldNum" idx="20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FF2F-7CA4-46F9-B43F-15F409A1CF9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 type="ftr" idx="210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2" name="Bildplatzhalter 10" descr="image_title_3b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3433" name="Bildplatzhalter 9" descr="image_title_2a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3041640" y="362736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3434" name="Bildplatzhalter 14" descr="image_title_1a.jpg"/>
          <p:cNvPicPr/>
          <p:nvPr/>
        </p:nvPicPr>
        <p:blipFill>
          <a:blip r:embed="rId4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3435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Rechteck 13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3" name="Grafik 15" descr="hhi_E_334-cmyk__2.gif"/>
          <p:cNvPicPr/>
          <p:nvPr/>
        </p:nvPicPr>
        <p:blipFill>
          <a:blip r:embed="rId5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3444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dt" idx="21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F954-1BFE-42E9-AF45-BFEF5C77C1AF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 type="sldNum" idx="21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FE9E-8BD3-4F11-960F-778DA12F85A2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6"/>
    <p:sldLayoutId id="2147484612" r:id="rId7"/>
    <p:sldLayoutId id="2147484613" r:id="rId8"/>
    <p:sldLayoutId id="2147484614" r:id="rId9"/>
    <p:sldLayoutId id="2147484615" r:id="rId10"/>
    <p:sldLayoutId id="2147484616" r:id="rId11"/>
    <p:sldLayoutId id="2147484617" r:id="rId12"/>
    <p:sldLayoutId id="2147484618" r:id="rId13"/>
    <p:sldLayoutId id="2147484619" r:id="rId14"/>
    <p:sldLayoutId id="2147484620" r:id="rId15"/>
    <p:sldLayoutId id="2147484621" r:id="rId16"/>
    <p:sldLayoutId id="2147484622" r:id="rId17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6" name="Bildplatzhalter 14" descr="image_title_1a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3487" name="Bildplatzhalter 10" descr="image_title_3b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3488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Rechteck 13"/>
          <p:cNvSpPr/>
          <p:nvPr/>
        </p:nvSpPr>
        <p:spPr>
          <a:xfrm>
            <a:off x="0" y="61419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6" name="Grafik 15" descr="hhi_E_334-cmyk__2.gif"/>
          <p:cNvPicPr/>
          <p:nvPr/>
        </p:nvPicPr>
        <p:blipFill>
          <a:blip r:embed="rId4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349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 type="dt" idx="21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0D0D-68B9-4D22-B1BB-1C5441C47C4B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 type="sldNum" idx="21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C189-B6E4-44B7-9169-013F0B7213D0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5"/>
    <p:sldLayoutId id="2147484625" r:id="rId6"/>
    <p:sldLayoutId id="2147484626" r:id="rId7"/>
    <p:sldLayoutId id="2147484627" r:id="rId8"/>
    <p:sldLayoutId id="2147484628" r:id="rId9"/>
    <p:sldLayoutId id="2147484629" r:id="rId10"/>
    <p:sldLayoutId id="2147484630" r:id="rId11"/>
    <p:sldLayoutId id="2147484631" r:id="rId12"/>
    <p:sldLayoutId id="2147484632" r:id="rId13"/>
    <p:sldLayoutId id="2147484633" r:id="rId14"/>
    <p:sldLayoutId id="2147484634" r:id="rId15"/>
    <p:sldLayoutId id="2147484635" r:id="rId16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540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 type="dt" idx="21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325E-E7ED-4246-8F77-E5125D40A394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 type="sldNum" idx="21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DE89-BF6F-4747-950A-0DA45099ADF7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 type="ftr" idx="217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585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7" name="PlaceHolder 2"/>
          <p:cNvSpPr>
            <a:spLocks noGrp="1"/>
          </p:cNvSpPr>
          <p:nvPr>
            <p:ph type="dt" idx="21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859A-A0B4-47A8-9CAF-C6FEE9C2490F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PlaceHolder 3"/>
          <p:cNvSpPr>
            <a:spLocks noGrp="1"/>
          </p:cNvSpPr>
          <p:nvPr>
            <p:ph type="sldNum" idx="21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5A71-C16A-44AE-A1C0-39AC3750180B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PlaceHolder 4"/>
          <p:cNvSpPr>
            <a:spLocks noGrp="1"/>
          </p:cNvSpPr>
          <p:nvPr>
            <p:ph type="ftr" idx="220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630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 type="dt" idx="22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0D9E-F28E-4021-BBC5-00B871348C30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PlaceHolder 3"/>
          <p:cNvSpPr>
            <a:spLocks noGrp="1"/>
          </p:cNvSpPr>
          <p:nvPr>
            <p:ph type="sldNum" idx="22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B1D2-3353-4B6E-B831-873236E40F88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PlaceHolder 4"/>
          <p:cNvSpPr>
            <a:spLocks noGrp="1"/>
          </p:cNvSpPr>
          <p:nvPr>
            <p:ph type="ftr" idx="223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dt" idx="2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EF26-D975-4576-8173-979B0BEFB376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2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03DD-D614-4E49-AEA0-767083FC939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4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675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 type="dt" idx="22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E4A3-ABF4-489F-9CF3-18F5EC58701C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PlaceHolder 3"/>
          <p:cNvSpPr>
            <a:spLocks noGrp="1"/>
          </p:cNvSpPr>
          <p:nvPr>
            <p:ph type="sldNum" idx="22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6B4B-F3B1-4D57-8AE6-93590F2F3E16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4"/>
          <p:cNvSpPr>
            <a:spLocks noGrp="1"/>
          </p:cNvSpPr>
          <p:nvPr>
            <p:ph type="ftr" idx="22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720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 type="dt" idx="22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22E9-3D53-498C-B4A6-008115AF5954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 type="sldNum" idx="22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9D1F-71C2-4DC4-97F1-52211E6E80E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 type="ftr" idx="229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765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7" name="PlaceHolder 2"/>
          <p:cNvSpPr>
            <a:spLocks noGrp="1"/>
          </p:cNvSpPr>
          <p:nvPr>
            <p:ph type="dt" idx="23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06FE-2DC4-4FBC-A557-7564E40602CC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PlaceHolder 3"/>
          <p:cNvSpPr>
            <a:spLocks noGrp="1"/>
          </p:cNvSpPr>
          <p:nvPr>
            <p:ph type="sldNum" idx="23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3669-82FE-4449-9380-3194A0E913FD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PlaceHolder 4"/>
          <p:cNvSpPr>
            <a:spLocks noGrp="1"/>
          </p:cNvSpPr>
          <p:nvPr>
            <p:ph type="ftr" idx="232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810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2" name="PlaceHolder 2"/>
          <p:cNvSpPr>
            <a:spLocks noGrp="1"/>
          </p:cNvSpPr>
          <p:nvPr>
            <p:ph type="dt" idx="233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CDDC-13A5-4093-980C-93EBFD2682CD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PlaceHolder 3"/>
          <p:cNvSpPr>
            <a:spLocks noGrp="1"/>
          </p:cNvSpPr>
          <p:nvPr>
            <p:ph type="sldNum" idx="234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17EF-3FA6-4CBA-8627-71B98D2484E6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PlaceHolder 4"/>
          <p:cNvSpPr>
            <a:spLocks noGrp="1"/>
          </p:cNvSpPr>
          <p:nvPr>
            <p:ph type="ftr" idx="235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4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855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 type="dt" idx="23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425C-3A22-4D7F-8DA2-B1B69EDDB00C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PlaceHolder 3"/>
          <p:cNvSpPr>
            <a:spLocks noGrp="1"/>
          </p:cNvSpPr>
          <p:nvPr>
            <p:ph type="sldNum" idx="23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EAB1-6E8E-4DAD-8B86-F46B6538EAF1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PlaceHolder 4"/>
          <p:cNvSpPr>
            <a:spLocks noGrp="1"/>
          </p:cNvSpPr>
          <p:nvPr>
            <p:ph type="ftr" idx="238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7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9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3900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Rechteck 18"/>
          <p:cNvSpPr/>
          <p:nvPr/>
        </p:nvSpPr>
        <p:spPr>
          <a:xfrm>
            <a:off x="6608880" y="1928880"/>
            <a:ext cx="2355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Einsteinufer 37</a:t>
            </a:r>
            <a:br>
              <a:rPr sz="1600"/>
            </a:b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10587 Berlin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Phone +49 30 31002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www.hhi.fraunhofer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Rechteck 21"/>
          <p:cNvSpPr/>
          <p:nvPr/>
        </p:nvSpPr>
        <p:spPr>
          <a:xfrm>
            <a:off x="468360" y="360360"/>
            <a:ext cx="57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Tahoma"/>
              </a:rPr>
              <a:t>Be our Guest – become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Rechteck 23"/>
          <p:cNvSpPr/>
          <p:nvPr/>
        </p:nvSpPr>
        <p:spPr>
          <a:xfrm>
            <a:off x="468360" y="1413000"/>
            <a:ext cx="597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 indent="-26352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Arial"/>
                <a:ea typeface="Tahoma"/>
              </a:rPr>
              <a:t>The Fraunhofer Heinrich Hertz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4" name="Grafik 24" descr="Abschlussbildjpg.jpg"/>
          <p:cNvPicPr/>
          <p:nvPr/>
        </p:nvPicPr>
        <p:blipFill>
          <a:blip r:embed="rId3"/>
          <a:stretch/>
        </p:blipFill>
        <p:spPr>
          <a:xfrm>
            <a:off x="468360" y="2000160"/>
            <a:ext cx="5675400" cy="3827520"/>
          </a:xfrm>
          <a:prstGeom prst="rect">
            <a:avLst/>
          </a:prstGeom>
          <a:ln w="0">
            <a:noFill/>
          </a:ln>
        </p:spPr>
      </p:pic>
      <p:sp>
        <p:nvSpPr>
          <p:cNvPr id="3905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76b3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6" name="PlaceHolder 2"/>
          <p:cNvSpPr>
            <a:spLocks noGrp="1"/>
          </p:cNvSpPr>
          <p:nvPr>
            <p:ph type="dt" idx="23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8511-D282-4690-B2BD-FCB7223AC14F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PlaceHolder 3"/>
          <p:cNvSpPr>
            <a:spLocks noGrp="1"/>
          </p:cNvSpPr>
          <p:nvPr>
            <p:ph type="sldNum" idx="24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CA0E-5AA8-46EC-938F-BD25700CE17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PlaceHolder 4"/>
          <p:cNvSpPr>
            <a:spLocks noGrp="1"/>
          </p:cNvSpPr>
          <p:nvPr>
            <p:ph type="ftr" idx="241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4"/>
    <p:sldLayoutId id="2147484742" r:id="rId5"/>
    <p:sldLayoutId id="2147484743" r:id="rId6"/>
    <p:sldLayoutId id="2147484744" r:id="rId7"/>
    <p:sldLayoutId id="2147484745" r:id="rId8"/>
    <p:sldLayoutId id="2147484746" r:id="rId9"/>
    <p:sldLayoutId id="2147484747" r:id="rId10"/>
    <p:sldLayoutId id="2147484748" r:id="rId11"/>
    <p:sldLayoutId id="2147484749" r:id="rId12"/>
    <p:sldLayoutId id="2147484750" r:id="rId13"/>
    <p:sldLayoutId id="2147484751" r:id="rId14"/>
    <p:sldLayoutId id="2147484752" r:id="rId15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8" name="Bildplatzhalter 10" descr="image_title_3b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3949" name="Bildplatzhalter 9" descr="image_title_2a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3041640" y="362736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3950" name="Bildplatzhalter 14" descr="image_title_1a.jpg"/>
          <p:cNvPicPr/>
          <p:nvPr/>
        </p:nvPicPr>
        <p:blipFill>
          <a:blip r:embed="rId4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3951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Rechteck 13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9" name="Grafik 15" descr="hhi_E_334-cmyk__2.gif"/>
          <p:cNvPicPr/>
          <p:nvPr/>
        </p:nvPicPr>
        <p:blipFill>
          <a:blip r:embed="rId5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3960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1" name="PlaceHolder 2"/>
          <p:cNvSpPr>
            <a:spLocks noGrp="1"/>
          </p:cNvSpPr>
          <p:nvPr>
            <p:ph type="dt" idx="24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F121-16DF-4F54-BC1F-76BEBCD50512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PlaceHolder 3"/>
          <p:cNvSpPr>
            <a:spLocks noGrp="1"/>
          </p:cNvSpPr>
          <p:nvPr>
            <p:ph type="sldNum" idx="24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F098-C6E6-4518-87B7-B146AAC7A11A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6"/>
    <p:sldLayoutId id="2147484755" r:id="rId7"/>
    <p:sldLayoutId id="2147484756" r:id="rId8"/>
    <p:sldLayoutId id="2147484757" r:id="rId9"/>
    <p:sldLayoutId id="2147484758" r:id="rId10"/>
    <p:sldLayoutId id="2147484759" r:id="rId11"/>
    <p:sldLayoutId id="2147484760" r:id="rId12"/>
    <p:sldLayoutId id="2147484761" r:id="rId13"/>
    <p:sldLayoutId id="2147484762" r:id="rId14"/>
    <p:sldLayoutId id="2147484763" r:id="rId15"/>
    <p:sldLayoutId id="2147484764" r:id="rId16"/>
    <p:sldLayoutId id="2147484765" r:id="rId17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2" name="Bildplatzhalter 14" descr="image_title_1a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4003" name="Bildplatzhalter 10" descr="image_title_3b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4004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Rechteck 13"/>
          <p:cNvSpPr/>
          <p:nvPr/>
        </p:nvSpPr>
        <p:spPr>
          <a:xfrm>
            <a:off x="0" y="61419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2" name="Grafik 15" descr="hhi_E_334-cmyk__2.gif"/>
          <p:cNvPicPr/>
          <p:nvPr/>
        </p:nvPicPr>
        <p:blipFill>
          <a:blip r:embed="rId4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4013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 type="dt" idx="24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2896-CCBE-4FBD-A031-C251687932F5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PlaceHolder 3"/>
          <p:cNvSpPr>
            <a:spLocks noGrp="1"/>
          </p:cNvSpPr>
          <p:nvPr>
            <p:ph type="sldNum" idx="24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BD75-8241-427F-BA1E-8E687AD30917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5"/>
    <p:sldLayoutId id="2147484768" r:id="rId6"/>
    <p:sldLayoutId id="2147484769" r:id="rId7"/>
    <p:sldLayoutId id="2147484770" r:id="rId8"/>
    <p:sldLayoutId id="2147484771" r:id="rId9"/>
    <p:sldLayoutId id="2147484772" r:id="rId10"/>
    <p:sldLayoutId id="2147484773" r:id="rId11"/>
    <p:sldLayoutId id="2147484774" r:id="rId12"/>
    <p:sldLayoutId id="2147484775" r:id="rId13"/>
    <p:sldLayoutId id="2147484776" r:id="rId14"/>
    <p:sldLayoutId id="2147484777" r:id="rId15"/>
    <p:sldLayoutId id="2147484778" r:id="rId16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056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 type="dt" idx="246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CD34-B4B6-4936-A207-9EC0B6E754BB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 type="sldNum" idx="247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0B82-911F-4C95-82E3-5C9080F61F03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PlaceHolder 4"/>
          <p:cNvSpPr>
            <a:spLocks noGrp="1"/>
          </p:cNvSpPr>
          <p:nvPr>
            <p:ph type="ftr" idx="248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101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3" name="PlaceHolder 2"/>
          <p:cNvSpPr>
            <a:spLocks noGrp="1"/>
          </p:cNvSpPr>
          <p:nvPr>
            <p:ph type="dt" idx="249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E847-0EE7-4D32-996A-EB3CAD1EFD01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PlaceHolder 3"/>
          <p:cNvSpPr>
            <a:spLocks noGrp="1"/>
          </p:cNvSpPr>
          <p:nvPr>
            <p:ph type="sldNum" idx="250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0D06-2BDB-45FB-9040-FFFA209D8C9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PlaceHolder 4"/>
          <p:cNvSpPr>
            <a:spLocks noGrp="1"/>
          </p:cNvSpPr>
          <p:nvPr>
            <p:ph type="ftr" idx="251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Bildplatzhalter 10" descr="image_title_3b.jpg"/>
          <p:cNvPicPr/>
          <p:nvPr/>
        </p:nvPicPr>
        <p:blipFill>
          <a:blip r:embed="rId2"/>
          <a:srcRect l="2717" t="0" r="2717" b="0"/>
          <a:stretch/>
        </p:blipFill>
        <p:spPr>
          <a:xfrm>
            <a:off x="6103800" y="3627360"/>
            <a:ext cx="3040200" cy="2519280"/>
          </a:xfrm>
          <a:prstGeom prst="rect">
            <a:avLst/>
          </a:prstGeom>
          <a:ln w="0">
            <a:noFill/>
          </a:ln>
        </p:spPr>
      </p:pic>
      <p:pic>
        <p:nvPicPr>
          <p:cNvPr id="348" name="Bildplatzhalter 9" descr="image_title_2a.jpg"/>
          <p:cNvPicPr/>
          <p:nvPr/>
        </p:nvPicPr>
        <p:blipFill>
          <a:blip r:embed="rId3"/>
          <a:srcRect l="2717" t="0" r="2717" b="0"/>
          <a:stretch/>
        </p:blipFill>
        <p:spPr>
          <a:xfrm>
            <a:off x="3041640" y="362736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349" name="Bildplatzhalter 14" descr="image_title_1a.jpg"/>
          <p:cNvPicPr/>
          <p:nvPr/>
        </p:nvPicPr>
        <p:blipFill>
          <a:blip r:embed="rId4"/>
          <a:srcRect l="2717" t="0" r="2717" b="0"/>
          <a:stretch/>
        </p:blipFill>
        <p:spPr>
          <a:xfrm>
            <a:off x="0" y="3627360"/>
            <a:ext cx="3040200" cy="2519280"/>
          </a:xfrm>
          <a:prstGeom prst="rect">
            <a:avLst/>
          </a:prstGeom>
          <a:ln w="0">
            <a:noFill/>
          </a:ln>
        </p:spPr>
      </p:pic>
      <p:sp>
        <p:nvSpPr>
          <p:cNvPr id="350" name="Rechteck 7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Fraunhofer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Heinrich Hertz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hteck 9"/>
          <p:cNvSpPr/>
          <p:nvPr/>
        </p:nvSpPr>
        <p:spPr>
          <a:xfrm>
            <a:off x="0" y="857160"/>
            <a:ext cx="9144000" cy="64296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hteck 10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808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hteck 11"/>
          <p:cNvSpPr/>
          <p:nvPr/>
        </p:nvSpPr>
        <p:spPr>
          <a:xfrm>
            <a:off x="0" y="35733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55"/>
          <p:cNvSpPr/>
          <p:nvPr/>
        </p:nvSpPr>
        <p:spPr>
          <a:xfrm>
            <a:off x="468360" y="314172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eck 13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feld 15"/>
          <p:cNvSpPr/>
          <p:nvPr/>
        </p:nvSpPr>
        <p:spPr>
          <a:xfrm>
            <a:off x="468360" y="6308640"/>
            <a:ext cx="6961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Fraunhofer Heinrich Hertz Institute, Einsteinufer 37, 10587 Berlin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www.hhi.fraunhofer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Grafik 15" descr="hhi_E_334-cmyk__2.gif"/>
          <p:cNvPicPr/>
          <p:nvPr/>
        </p:nvPicPr>
        <p:blipFill>
          <a:blip r:embed="rId5"/>
          <a:stretch/>
        </p:blipFill>
        <p:spPr>
          <a:xfrm>
            <a:off x="162000" y="203040"/>
            <a:ext cx="2440080" cy="5112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AD2F-1997-4992-9365-38D682CF9897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2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B413-9117-4C50-80A7-32D5DE7A9375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146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8" name="PlaceHolder 2"/>
          <p:cNvSpPr>
            <a:spLocks noGrp="1"/>
          </p:cNvSpPr>
          <p:nvPr>
            <p:ph type="dt" idx="252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0E48-1EB4-4D2F-99BC-62D44973995B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PlaceHolder 3"/>
          <p:cNvSpPr>
            <a:spLocks noGrp="1"/>
          </p:cNvSpPr>
          <p:nvPr>
            <p:ph type="sldNum" idx="253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7A89-7346-4048-A579-2746ED8C4234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PlaceHolder 4"/>
          <p:cNvSpPr>
            <a:spLocks noGrp="1"/>
          </p:cNvSpPr>
          <p:nvPr>
            <p:ph type="ftr" idx="254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191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 type="dt" idx="255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AA04-2FAE-4A96-834A-7BA1FA75700A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PlaceHolder 3"/>
          <p:cNvSpPr>
            <a:spLocks noGrp="1"/>
          </p:cNvSpPr>
          <p:nvPr>
            <p:ph type="sldNum" idx="256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E010-CD0B-469F-A360-1ABCDFE828CF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PlaceHolder 4"/>
          <p:cNvSpPr>
            <a:spLocks noGrp="1"/>
          </p:cNvSpPr>
          <p:nvPr>
            <p:ph type="ftr" idx="257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236" name="Textfeld 10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 type="dt" idx="258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18AB-75B2-4D8C-8F23-51AAF7B70CAE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 type="sldNum" idx="259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77F4-C63B-440C-8A0D-9A71BE95C936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 type="ftr" idx="260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281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 type="dt" idx="261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43F0-D27D-47EA-AF1E-CE19696DEEA5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 type="sldNum" idx="262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513F-3769-46E1-B9A1-C8E37A976612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 type="ftr" idx="263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326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 type="dt" idx="264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48F7-FB4A-4F75-B5EF-AC4B9E88478E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 type="sldNum" idx="265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00B2-E650-4D17-B02E-10E3AD2659F7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 type="ftr" idx="266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0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371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 type="dt" idx="267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CEE5-9FE4-468D-BDFB-EF182CA34590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 type="sldNum" idx="268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9522-FA38-4DCB-BC53-078CA7532BB9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 type="ftr" idx="269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Rechteck 5"/>
          <p:cNvSpPr/>
          <p:nvPr/>
        </p:nvSpPr>
        <p:spPr>
          <a:xfrm>
            <a:off x="0" y="0"/>
            <a:ext cx="8999640" cy="900000"/>
          </a:xfrm>
          <a:prstGeom prst="rect">
            <a:avLst/>
          </a:prstGeom>
          <a:solidFill>
            <a:srgbClr val="bcb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Rechteck 10"/>
          <p:cNvSpPr/>
          <p:nvPr/>
        </p:nvSpPr>
        <p:spPr>
          <a:xfrm>
            <a:off x="0" y="6143760"/>
            <a:ext cx="9144000" cy="5400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Untertitel 2"/>
          <p:cNvSpPr/>
          <p:nvPr/>
        </p:nvSpPr>
        <p:spPr>
          <a:xfrm>
            <a:off x="6443640" y="0"/>
            <a:ext cx="2700360" cy="900000"/>
          </a:xfrm>
          <a:prstGeom prst="rect">
            <a:avLst/>
          </a:prstGeom>
          <a:solidFill>
            <a:srgbClr val="00b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hotonic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etwork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5" name="Picture 2" descr=""/>
          <p:cNvPicPr/>
          <p:nvPr/>
        </p:nvPicPr>
        <p:blipFill>
          <a:blip r:embed="rId2"/>
          <a:stretch/>
        </p:blipFill>
        <p:spPr>
          <a:xfrm>
            <a:off x="468360" y="6307200"/>
            <a:ext cx="1674720" cy="350640"/>
          </a:xfrm>
          <a:prstGeom prst="rect">
            <a:avLst/>
          </a:prstGeom>
          <a:ln w="0">
            <a:noFill/>
          </a:ln>
        </p:spPr>
      </p:pic>
      <p:sp>
        <p:nvSpPr>
          <p:cNvPr id="4416" name="Textfeld 12"/>
          <p:cNvSpPr/>
          <p:nvPr/>
        </p:nvSpPr>
        <p:spPr>
          <a:xfrm>
            <a:off x="290520" y="6356520"/>
            <a:ext cx="17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Rechteck 18"/>
          <p:cNvSpPr/>
          <p:nvPr/>
        </p:nvSpPr>
        <p:spPr>
          <a:xfrm>
            <a:off x="6608880" y="1928880"/>
            <a:ext cx="23558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Einsteinufer 37</a:t>
            </a:r>
            <a:br>
              <a:rPr sz="1600"/>
            </a:b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10587 Berlin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Phone +49 30 31002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indent="-17604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2626"/>
                </a:solidFill>
                <a:latin typeface="Arial"/>
                <a:ea typeface="Tahoma"/>
              </a:rPr>
              <a:t>www.hhi.fraunhofer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Rechteck 21"/>
          <p:cNvSpPr/>
          <p:nvPr/>
        </p:nvSpPr>
        <p:spPr>
          <a:xfrm>
            <a:off x="468360" y="360360"/>
            <a:ext cx="57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Tahoma"/>
              </a:rPr>
              <a:t>Be our Guest – become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Rechteck 23"/>
          <p:cNvSpPr/>
          <p:nvPr/>
        </p:nvSpPr>
        <p:spPr>
          <a:xfrm>
            <a:off x="468360" y="1413000"/>
            <a:ext cx="597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 indent="-263520">
              <a:lnSpc>
                <a:spcPct val="100000"/>
              </a:lnSpc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Arial"/>
                <a:ea typeface="Tahoma"/>
              </a:rPr>
              <a:t>The Fraunhofer Heinrich Hertz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0" name="Grafik 24" descr="Abschlussbildjpg.jpg"/>
          <p:cNvPicPr/>
          <p:nvPr/>
        </p:nvPicPr>
        <p:blipFill>
          <a:blip r:embed="rId3"/>
          <a:stretch/>
        </p:blipFill>
        <p:spPr>
          <a:xfrm>
            <a:off x="468360" y="2000160"/>
            <a:ext cx="5675400" cy="3827520"/>
          </a:xfrm>
          <a:prstGeom prst="rect">
            <a:avLst/>
          </a:prstGeom>
          <a:ln w="0">
            <a:noFill/>
          </a:ln>
        </p:spPr>
      </p:pic>
      <p:sp>
        <p:nvSpPr>
          <p:cNvPr id="442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597528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287280" indent="-287280">
              <a:spcBef>
                <a:spcPts val="601"/>
              </a:spcBef>
              <a:buClr>
                <a:srgbClr val="00b3d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287280" indent="-2872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 type="dt" idx="270"/>
          </p:nvPr>
        </p:nvSpPr>
        <p:spPr>
          <a:xfrm>
            <a:off x="6215040" y="6308280"/>
            <a:ext cx="23097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8F76-39B3-4C7D-B65F-ECE9D9DA53AC}" type="datetime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 type="sldNum" idx="271"/>
          </p:nvPr>
        </p:nvSpPr>
        <p:spPr>
          <a:xfrm>
            <a:off x="8501040" y="6308280"/>
            <a:ext cx="463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F341-FC70-4C4B-91AE-7D10C7B416BC}" type="slidenum">
              <a:rPr b="0" lang="de-DE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 type="ftr" idx="272"/>
          </p:nvPr>
        </p:nvSpPr>
        <p:spPr>
          <a:xfrm>
            <a:off x="2700000" y="6308280"/>
            <a:ext cx="3443400" cy="358920"/>
          </a:xfrm>
          <a:prstGeom prst="rect">
            <a:avLst/>
          </a:prstGeom>
          <a:noFill/>
          <a:ln w="0">
            <a:noFill/>
          </a:ln>
        </p:spPr>
        <p:txBody>
          <a:bodyPr lIns="576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4"/>
    <p:sldLayoutId id="2147484885" r:id="rId5"/>
    <p:sldLayoutId id="2147484886" r:id="rId6"/>
    <p:sldLayoutId id="2147484887" r:id="rId7"/>
    <p:sldLayoutId id="2147484888" r:id="rId8"/>
    <p:sldLayoutId id="2147484889" r:id="rId9"/>
    <p:sldLayoutId id="2147484890" r:id="rId10"/>
    <p:sldLayoutId id="2147484891" r:id="rId11"/>
    <p:sldLayoutId id="2147484892" r:id="rId12"/>
    <p:sldLayoutId id="2147484893" r:id="rId13"/>
    <p:sldLayoutId id="2147484894" r:id="rId14"/>
    <p:sldLayoutId id="214748489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8" name="PlaceHolder 1"/>
          <p:cNvSpPr>
            <a:spLocks noGrp="1"/>
          </p:cNvSpPr>
          <p:nvPr>
            <p:ph/>
          </p:nvPr>
        </p:nvSpPr>
        <p:spPr>
          <a:xfrm>
            <a:off x="250560" y="1627200"/>
            <a:ext cx="88930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262626"/>
                </a:solidFill>
                <a:latin typeface="Arial"/>
              </a:rPr>
              <a:t>AHG20: Ultra Low Delay for SHVC, MV-HEVC and 3D-HEVC</a:t>
            </a:r>
            <a:endParaRPr b="1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Arial"/>
              </a:rPr>
              <a:t>JCTVC-O0188/JCT3V-F0070</a:t>
            </a:r>
            <a:endParaRPr b="1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9" name="PlaceHolder 2"/>
          <p:cNvSpPr>
            <a:spLocks noGrp="1"/>
          </p:cNvSpPr>
          <p:nvPr>
            <p:ph/>
          </p:nvPr>
        </p:nvSpPr>
        <p:spPr>
          <a:xfrm>
            <a:off x="468000" y="3152520"/>
            <a:ext cx="84963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62626"/>
                </a:solidFill>
                <a:latin typeface="Arial"/>
              </a:rPr>
              <a:t>Robert Skupin, Karsten Sühring, Yago Sanchez, Thomas Schierl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0" name=""/>
          <p:cNvSpPr txBox="1"/>
          <p:nvPr/>
        </p:nvSpPr>
        <p:spPr>
          <a:xfrm>
            <a:off x="468000" y="1267920"/>
            <a:ext cx="84963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Ultra-low delay (ULD) operation for base HEVC based on spatial segmentation and DU-based HRD operation.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ULD operation for SHVC, 3D-HEVC and MV-HEVC was proposed in JCTVC-M0204 and JCTVC-N0290.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Arial"/>
              </a:rPr>
              <a:t>Usecase example: 3D cloud gaming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omments received: “Further study to confirm, with intent to adopt if not found problematic.”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575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62626"/>
                </a:solidFill>
                <a:latin typeface="Arial"/>
                <a:ea typeface="Arial"/>
              </a:rPr>
              <a:t>Introduction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2" name="Slide Number Placeholder 3"/>
          <p:cNvSpPr/>
          <p:nvPr/>
        </p:nvSpPr>
        <p:spPr>
          <a:xfrm>
            <a:off x="8501040" y="6308640"/>
            <a:ext cx="46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2845-0487-45AB-BEDD-C94DD173CEB5}" type="slidenum"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Footer Placeholder 4"/>
          <p:cNvSpPr/>
          <p:nvPr/>
        </p:nvSpPr>
        <p:spPr>
          <a:xfrm>
            <a:off x="2700360" y="6308640"/>
            <a:ext cx="3443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4" name="Content Placeholder 1" descr=""/>
          <p:cNvPicPr/>
          <p:nvPr/>
        </p:nvPicPr>
        <p:blipFill>
          <a:blip r:embed="rId1"/>
          <a:stretch/>
        </p:blipFill>
        <p:spPr>
          <a:xfrm>
            <a:off x="469800" y="1182600"/>
            <a:ext cx="8498160" cy="3365640"/>
          </a:xfrm>
          <a:prstGeom prst="rect">
            <a:avLst/>
          </a:prstGeom>
          <a:ln w="0">
            <a:noFill/>
          </a:ln>
        </p:spPr>
      </p:pic>
      <p:sp>
        <p:nvSpPr>
          <p:cNvPr id="4475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575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62626"/>
                </a:solidFill>
                <a:latin typeface="Arial"/>
                <a:ea typeface="Arial"/>
              </a:rPr>
              <a:t>Proposal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6" name="Slide Number Placeholder 3"/>
          <p:cNvSpPr/>
          <p:nvPr/>
        </p:nvSpPr>
        <p:spPr>
          <a:xfrm>
            <a:off x="8501040" y="6308640"/>
            <a:ext cx="46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C590-4109-436E-8DD5-FAA491BC2FBD}" type="slidenum"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Footer Placeholder 4"/>
          <p:cNvSpPr/>
          <p:nvPr/>
        </p:nvSpPr>
        <p:spPr>
          <a:xfrm>
            <a:off x="2700360" y="6308640"/>
            <a:ext cx="3443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8" name="Picture 4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8880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9" name="Content Placeholder 1" descr=""/>
          <p:cNvPicPr/>
          <p:nvPr/>
        </p:nvPicPr>
        <p:blipFill>
          <a:blip r:embed="rId1"/>
          <a:stretch/>
        </p:blipFill>
        <p:spPr>
          <a:xfrm>
            <a:off x="324000" y="1195560"/>
            <a:ext cx="8820000" cy="5327640"/>
          </a:xfrm>
          <a:prstGeom prst="rect">
            <a:avLst/>
          </a:prstGeom>
          <a:ln w="0">
            <a:noFill/>
          </a:ln>
        </p:spPr>
      </p:pic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575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62626"/>
                </a:solidFill>
                <a:latin typeface="Arial"/>
                <a:ea typeface="Arial"/>
              </a:rPr>
              <a:t>Proposal – bitstream order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1" name="Slide Number Placeholder 3"/>
          <p:cNvSpPr/>
          <p:nvPr/>
        </p:nvSpPr>
        <p:spPr>
          <a:xfrm>
            <a:off x="8501040" y="6308640"/>
            <a:ext cx="46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778B-4375-478B-A471-93FCA5F87A1E}" type="slidenum"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Footer Placeholder 4"/>
          <p:cNvSpPr/>
          <p:nvPr/>
        </p:nvSpPr>
        <p:spPr>
          <a:xfrm>
            <a:off x="2700360" y="6308640"/>
            <a:ext cx="3443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3" name="Content Placeholder 1" descr=""/>
          <p:cNvPicPr/>
          <p:nvPr/>
        </p:nvPicPr>
        <p:blipFill>
          <a:blip r:embed="rId1"/>
          <a:stretch/>
        </p:blipFill>
        <p:spPr>
          <a:xfrm>
            <a:off x="281160" y="1176480"/>
            <a:ext cx="8686800" cy="5346720"/>
          </a:xfrm>
          <a:prstGeom prst="rect">
            <a:avLst/>
          </a:prstGeom>
          <a:ln w="0">
            <a:noFill/>
          </a:ln>
        </p:spPr>
      </p:pic>
      <p:sp>
        <p:nvSpPr>
          <p:cNvPr id="4484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575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62626"/>
                </a:solidFill>
                <a:latin typeface="Arial"/>
                <a:ea typeface="Arial"/>
              </a:rPr>
              <a:t>Proposal – HRD operation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5" name="Slide Number Placeholder 3"/>
          <p:cNvSpPr/>
          <p:nvPr/>
        </p:nvSpPr>
        <p:spPr>
          <a:xfrm>
            <a:off x="8501040" y="6308640"/>
            <a:ext cx="46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E0EC-3DE8-48C3-A70E-3012F0BEFC7A}" type="slidenum"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Footer Placeholder 4"/>
          <p:cNvSpPr/>
          <p:nvPr/>
        </p:nvSpPr>
        <p:spPr>
          <a:xfrm>
            <a:off x="2700360" y="6308640"/>
            <a:ext cx="3443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"/>
          <p:cNvSpPr txBox="1"/>
          <p:nvPr/>
        </p:nvSpPr>
        <p:spPr>
          <a:xfrm>
            <a:off x="468000" y="126792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Base HEVC specifies that reference pictures are outputted to the DPB after decoding of the 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last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DU. Techniques such as overlapped wavefront decoding rely on „unfinished“ reference pictures in the DPB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In HEVC extensions, reference list construction for inter-layer reference pictures face the same circumstances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We can either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leave it to the reasonable implementers as in base HEVC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>
              <a:spcBef>
                <a:spcPts val="601"/>
              </a:spcBef>
              <a:buClr>
                <a:srgbClr val="6d6e7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or specify as follows ..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8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575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62626"/>
                </a:solidFill>
                <a:latin typeface="Arial"/>
                <a:ea typeface="Arial"/>
              </a:rPr>
              <a:t>Proposal – decoding proces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9" name="Slide Number Placeholder 3"/>
          <p:cNvSpPr/>
          <p:nvPr/>
        </p:nvSpPr>
        <p:spPr>
          <a:xfrm>
            <a:off x="8501040" y="6308640"/>
            <a:ext cx="46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DF48-D14F-4776-BFD8-924F8719DCA0}" type="slidenum"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Footer Placeholder 4"/>
          <p:cNvSpPr/>
          <p:nvPr/>
        </p:nvSpPr>
        <p:spPr>
          <a:xfrm>
            <a:off x="2700360" y="6308640"/>
            <a:ext cx="3443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1" name="Content Placeholder 1" descr=""/>
          <p:cNvPicPr/>
          <p:nvPr/>
        </p:nvPicPr>
        <p:blipFill>
          <a:blip r:embed="rId1"/>
          <a:stretch/>
        </p:blipFill>
        <p:spPr>
          <a:xfrm>
            <a:off x="324000" y="1195560"/>
            <a:ext cx="8783640" cy="5327640"/>
          </a:xfrm>
          <a:prstGeom prst="rect">
            <a:avLst/>
          </a:prstGeom>
          <a:ln w="0">
            <a:noFill/>
          </a:ln>
        </p:spPr>
      </p:pic>
      <p:sp>
        <p:nvSpPr>
          <p:cNvPr id="4492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575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62626"/>
                </a:solidFill>
                <a:latin typeface="Arial"/>
                <a:ea typeface="Arial"/>
              </a:rPr>
              <a:t>Proposal – decoding proces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3" name="Slide Number Placeholder 3"/>
          <p:cNvSpPr/>
          <p:nvPr/>
        </p:nvSpPr>
        <p:spPr>
          <a:xfrm>
            <a:off x="8501040" y="6308640"/>
            <a:ext cx="46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366C-74AA-41CE-9C32-6BA411CC4F65}" type="slidenum"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Footer Placeholder 4"/>
          <p:cNvSpPr/>
          <p:nvPr/>
        </p:nvSpPr>
        <p:spPr>
          <a:xfrm>
            <a:off x="2700360" y="6308640"/>
            <a:ext cx="3443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5" name="Content Placeholder 1" descr=""/>
          <p:cNvPicPr/>
          <p:nvPr/>
        </p:nvPicPr>
        <p:blipFill>
          <a:blip r:embed="rId1"/>
          <a:stretch/>
        </p:blipFill>
        <p:spPr>
          <a:xfrm>
            <a:off x="328680" y="1182600"/>
            <a:ext cx="8639280" cy="5340600"/>
          </a:xfrm>
          <a:prstGeom prst="rect">
            <a:avLst/>
          </a:prstGeom>
          <a:ln w="0">
            <a:noFill/>
          </a:ln>
        </p:spPr>
      </p:pic>
      <p:sp>
        <p:nvSpPr>
          <p:cNvPr id="4496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575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62626"/>
                </a:solidFill>
                <a:latin typeface="Arial"/>
                <a:ea typeface="Arial"/>
              </a:rPr>
              <a:t>Summary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7" name="Slide Number Placeholder 3"/>
          <p:cNvSpPr/>
          <p:nvPr/>
        </p:nvSpPr>
        <p:spPr>
          <a:xfrm>
            <a:off x="8501040" y="6308640"/>
            <a:ext cx="46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FB1B-894B-4B16-BE8B-63F07EF12A4B}" type="slidenum"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Footer Placeholder 4"/>
          <p:cNvSpPr/>
          <p:nvPr/>
        </p:nvSpPr>
        <p:spPr>
          <a:xfrm>
            <a:off x="2700360" y="6308640"/>
            <a:ext cx="3443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9" name=""/>
          <p:cNvSpPr txBox="1"/>
          <p:nvPr/>
        </p:nvSpPr>
        <p:spPr>
          <a:xfrm>
            <a:off x="468000" y="1412640"/>
            <a:ext cx="8496360" cy="45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0" name="PlaceHolder 1"/>
          <p:cNvSpPr>
            <a:spLocks noGrp="1"/>
          </p:cNvSpPr>
          <p:nvPr>
            <p:ph type="title"/>
          </p:nvPr>
        </p:nvSpPr>
        <p:spPr>
          <a:xfrm>
            <a:off x="468360" y="358560"/>
            <a:ext cx="57592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Arial"/>
              </a:rPr>
              <a:t>Details on CPB layouts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1" name="Slide Number Placeholder 3"/>
          <p:cNvSpPr/>
          <p:nvPr/>
        </p:nvSpPr>
        <p:spPr>
          <a:xfrm>
            <a:off x="8501040" y="6308640"/>
            <a:ext cx="46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1657-78ED-4132-ACC8-0D356152874F}" type="slidenum"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Footer Placeholder 4"/>
          <p:cNvSpPr/>
          <p:nvPr/>
        </p:nvSpPr>
        <p:spPr>
          <a:xfrm>
            <a:off x="2700360" y="6308640"/>
            <a:ext cx="34434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Ultra Low Delay - O0188 / F007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Straight Connector 6"/>
          <p:cNvSpPr/>
          <p:nvPr/>
        </p:nvSpPr>
        <p:spPr>
          <a:xfrm>
            <a:off x="179280" y="3284640"/>
            <a:ext cx="883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TextBox 7"/>
          <p:cNvSpPr/>
          <p:nvPr/>
        </p:nvSpPr>
        <p:spPr>
          <a:xfrm rot="16200000">
            <a:off x="-420480" y="444816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P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TextBox 13"/>
          <p:cNvSpPr/>
          <p:nvPr/>
        </p:nvSpPr>
        <p:spPr>
          <a:xfrm rot="16200000">
            <a:off x="-240840" y="18565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6" name="Picture 6" descr=""/>
          <p:cNvPicPr/>
          <p:nvPr/>
        </p:nvPicPr>
        <p:blipFill>
          <a:blip r:embed="rId1"/>
          <a:stretch/>
        </p:blipFill>
        <p:spPr>
          <a:xfrm>
            <a:off x="1357200" y="907920"/>
            <a:ext cx="6599520" cy="2237040"/>
          </a:xfrm>
          <a:prstGeom prst="rect">
            <a:avLst/>
          </a:prstGeom>
          <a:ln w="0">
            <a:noFill/>
          </a:ln>
        </p:spPr>
      </p:pic>
      <p:pic>
        <p:nvPicPr>
          <p:cNvPr id="4507" name="Picture 7" descr=""/>
          <p:cNvPicPr/>
          <p:nvPr/>
        </p:nvPicPr>
        <p:blipFill>
          <a:blip r:embed="rId2"/>
          <a:stretch/>
        </p:blipFill>
        <p:spPr>
          <a:xfrm>
            <a:off x="1042920" y="3365640"/>
            <a:ext cx="7383600" cy="272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7:03:46Z</dcterms:created>
  <dc:creator>Fraunhofer HHI</dc:creator>
  <dc:description/>
  <dc:language>en-US</dc:language>
  <cp:lastModifiedBy>skupin</cp:lastModifiedBy>
  <dcterms:modified xsi:type="dcterms:W3CDTF">2013-10-24T12:49:08Z</dcterms:modified>
  <cp:revision>456</cp:revision>
  <dc:subject/>
  <dc:title>PowerPoint-Template für PPT2007</dc:title>
</cp:coreProperties>
</file>