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5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60440" y="-360"/>
            <a:ext cx="30258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41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5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60440" y="9713520"/>
            <a:ext cx="30258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5D6D-4F34-43BD-8AD6-BD6D0F6EDB89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4060800" y="9713880"/>
            <a:ext cx="302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A31F-CD1C-4BFD-8E7F-89A7771C11C5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01592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F5AA-ECE0-4A09-8541-B77E451D1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A7312-5BEF-4CB5-86F5-852E354A3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5BB9-071F-42AB-82D0-978B0C212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411F-6F68-434C-8028-8EE744A5D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9A3CC-49DD-4706-9D09-239CD8031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38B73-1B65-49C2-A07F-7359D3791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A8DE-C167-48C3-806C-48011C9AB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9254-1664-42A0-AFAD-15BFB3018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B091-53B3-45B6-A965-605C86B3D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6DA5-1D75-4D2E-B6E1-48315C6B2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0775F-314D-484B-B70D-818C6B16D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C874-E8A2-4174-B0DE-2264CAA69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D78F-F6BC-4DCC-9268-3D20C5B192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562040"/>
            <a:ext cx="86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Clean-ups of parameter sets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(JCTVC-O0141/JCT3V-F0054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57720"/>
            <a:ext cx="83059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yeongdoo Cho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Samsung Electronic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., Lt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Oct., 20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In VPS extension, a number of syntax elements are present to carry layer-dependencies, scalability dimension identifiers, and other information to be helpful for session negotia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In extreme cases, e.g. full representation of 64 layers, the total bits of VPS NAL units are not negligible compared to the VCL NAL unit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It is desirable to have an option to skip most syntax elements and to infer them equal to their common values that are mostly u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Several clean-ups and improvements of syntax in VPS and SPS are prop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4F3F-90F9-45FB-9814-ADA54FFC96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572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Tahoma"/>
              </a:rPr>
              <a:t>On </a:t>
            </a: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direct_dependency_flag in VP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ahoma"/>
              </a:rPr>
              <a:t>all_layer_independent_flag</a:t>
            </a: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is proposed.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_layer_independent_flag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al to 1 specifies that direct_dependency_flag[ i ][ j ] is not present and is inferred to be equal to 0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_layer_independent_flag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al to 0 specifies that direct_dependency_flag[ i ][ j ] is prese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87AD-75EE-4880-820F-ABA31A175A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표 7" descr=""/>
          <p:cNvPicPr/>
          <p:nvPr/>
        </p:nvPicPr>
        <p:blipFill>
          <a:blip r:embed="rId1"/>
          <a:stretch/>
        </p:blipFill>
        <p:spPr>
          <a:xfrm>
            <a:off x="1212840" y="2571840"/>
            <a:ext cx="5907240" cy="1244520"/>
          </a:xfrm>
          <a:prstGeom prst="rect">
            <a:avLst/>
          </a:prstGeom>
          <a:ln w="0">
            <a:noFill/>
          </a:ln>
        </p:spPr>
      </p:pic>
      <p:sp>
        <p:nvSpPr>
          <p:cNvPr id="102" name="직사각형 8"/>
          <p:cNvSpPr/>
          <p:nvPr/>
        </p:nvSpPr>
        <p:spPr>
          <a:xfrm>
            <a:off x="428760" y="40006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tivation: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When all layers have no dependency, this flag can remove unnecessary syntax signaling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all_layer_independent_flag is helpful for session negotia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Tahoma"/>
              </a:rPr>
              <a:t>On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direct_dependency_type</a:t>
            </a: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 in VP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rect_dep_type_present_fla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proposed.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_dep_type_present_flag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ual to 1 indicates tha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_dep_type_len_minus2 an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_dependency_type[ i ][ j ] are present.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_dep_type_present_flag equal to 0 indicates tha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_dep_type_len_minus2 an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_dependency_type[ i ][ j ] are not present. When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_dep_type_present_flag is equal to 0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_dep_type_len_minus2 is inferred to be equal to 0, and direct_dependency_type[i][j] is inferred to be equal to 2. When not present,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_dep_type_present_flag is inferred to be equal to 0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7D99-D15F-4411-870C-93A673DE8E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직사각형 8"/>
          <p:cNvSpPr/>
          <p:nvPr/>
        </p:nvSpPr>
        <p:spPr>
          <a:xfrm>
            <a:off x="428760" y="400068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tivation: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f all layers have the sam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direct_dependency_type[ i ][ j ]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equal to 2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direct_dependency_type[ i ][ j ] can be inferre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In common cases of SHVC and MV-HEVC, sample pixel data and motion vector are referred to for inter-layer predic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표 9" descr=""/>
          <p:cNvPicPr/>
          <p:nvPr/>
        </p:nvPicPr>
        <p:blipFill>
          <a:blip r:embed="rId1"/>
          <a:stretch/>
        </p:blipFill>
        <p:spPr>
          <a:xfrm>
            <a:off x="1712880" y="3213000"/>
            <a:ext cx="5907240" cy="16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Tahoma"/>
              </a:rPr>
              <a:t>On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splitting_flag</a:t>
            </a: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 in VP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When splitting_flag is equal to 1, vps_nuh_layer_id_present_flag shall be equal to 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ps_nuh_layer_id_present_flag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 to 1specifies that layer_id_in_nuh[ i ] for i from 0 to vps_max_layers_minus1, inclusive, are present. vps_nuh_layer_id_present_flag equal to 0 specifies that layer_id_in_nuh[ i ] for i from 0 to vps_max_layers_minus1, inclusive, are not present.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en not present, vps_nuh_layer_id_present is inferred to be equal to 1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484B-04A7-45DF-9F77-6F76087D3B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직사각형 8"/>
          <p:cNvSpPr/>
          <p:nvPr/>
        </p:nvSpPr>
        <p:spPr>
          <a:xfrm>
            <a:off x="500040" y="278604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tivation: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f splitting_flag is equal to 1, nuh_layer_id cannot be incremented by 1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o enable the sparse distribution of nuh_layer_id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ayer_id_in_nuh[ i ] shall be signaled when splitting_flag is equal to 1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표 11" descr=""/>
          <p:cNvPicPr/>
          <p:nvPr/>
        </p:nvPicPr>
        <p:blipFill>
          <a:blip r:embed="rId1"/>
          <a:stretch/>
        </p:blipFill>
        <p:spPr>
          <a:xfrm>
            <a:off x="1500120" y="1712880"/>
            <a:ext cx="590724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Tahoma"/>
              </a:rPr>
              <a:t>On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splitting_flag</a:t>
            </a:r>
            <a:r>
              <a:rPr b="1" lang="en-CA" sz="3800" spc="-1" strike="noStrike">
                <a:solidFill>
                  <a:srgbClr val="ffffff"/>
                </a:solidFill>
                <a:latin typeface="Tahoma"/>
              </a:rPr>
              <a:t> in VP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following constraint is removed or modified as follow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When i is greater than 0, layer_id_in_nuh[ i ] shall be greater than layer_id_in_nuh[ i – 1 ].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-&gt; When i is greater than 0 </a:t>
            </a:r>
            <a:r>
              <a:rPr b="0" lang="en-US" sz="1600" spc="-1" strike="noStrike">
                <a:solidFill>
                  <a:srgbClr val="ff0000"/>
                </a:solidFill>
                <a:latin typeface="맑은 고딕"/>
              </a:rPr>
              <a:t>and splitting_flag is equal to 0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, layer_id_in_nuh[ i ] shall be greater than layer_id_in_nuh[ i – 1 ].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_id_in_nuh[ i ]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s the value of the nuh_layer_id syntax element in VCL NAL units of the i-th layer. For i in the range of 0 to vps_max_layers_minus1, inclusive, when layer_id_in_nuh[ i ] is not present, the value is inferred to be equal to i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 is greater than 0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 splitting_flag is equal to 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yer_id_in_nuh[ i ] shall be greater than layer_id_in_nuh[ i – 1 ]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F7DC-E4E5-4C9C-BFBD-9F0260BB1A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직사각형 8"/>
          <p:cNvSpPr/>
          <p:nvPr/>
        </p:nvSpPr>
        <p:spPr>
          <a:xfrm>
            <a:off x="500040" y="3429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tivation: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When splitting_flag is equal to 1 and multiple scalability dimensions are used, it is difficult to align the decoding order and the order of layer_id_in_nuh[ i ] values. Therefore, the constraint that layer_id_in_nuh[ i ] shall be greater than layer_id_in_nuh[ i – 1 ] shall be available only when splitting_flag is equal to 0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ayer_id_in_nuh[ i – 1 ] can be greater than layer_id[ i ], if splitting_flag is equal to 1. Then the decoding order is not determined by layer_id_in_nuh[ i ], but by the index in VP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Tahoma"/>
              </a:rPr>
              <a:t>On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ingle scalability typ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For a single scalability mode, in which NumScalabilityTypes is equal to 1, the following modification is propos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If NumScalabilityTypes is equal to 1, dimension_id[ i ][ j ] is not present and dimension_id[ i ][ 0 ] is inferred to be equal to layer_id_in_nuh[ i ].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- When only one dimension_id[ i ][ 0 ] is used, there is no reason to re-map layer_id_in_nuh[ i ] to dimension_id[ i ][ 0 ].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맑은 고딕"/>
              </a:rPr>
              <a:t>If NumScalabilityTypes is equal to 1, </a:t>
            </a:r>
            <a:r>
              <a:rPr b="0" lang="de-DE" sz="1600" spc="-1" strike="noStrike">
                <a:solidFill>
                  <a:srgbClr val="000066"/>
                </a:solidFill>
                <a:latin typeface="맑은 고딕"/>
              </a:rPr>
              <a:t>dimension_id_len_minus1[ j ]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is not present and </a:t>
            </a:r>
            <a:r>
              <a:rPr b="0" lang="de-DE" sz="1600" spc="-1" strike="noStrike">
                <a:solidFill>
                  <a:srgbClr val="000066"/>
                </a:solidFill>
                <a:latin typeface="맑은 고딕"/>
              </a:rPr>
              <a:t>dimension_id_len_minus1[ 0 ]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 is inferred to be equal to 6.</a:t>
            </a:r>
            <a:br>
              <a:rPr sz="1600"/>
            </a:br>
            <a:r>
              <a:rPr b="0" lang="ko-KR" sz="1600" spc="-1" strike="noStrike">
                <a:solidFill>
                  <a:srgbClr val="000066"/>
                </a:solidFill>
                <a:latin typeface="맑은 고딕"/>
              </a:rPr>
              <a:t>- When only one dimension_id[ i ][ 0 ] is used, there is no reason to reset the length of dimension_id[ i ][ 0 ] to be equal to 6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9A56-8B07-4976-9DE4-FDC1049871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표 9" descr=""/>
          <p:cNvPicPr/>
          <p:nvPr/>
        </p:nvPicPr>
        <p:blipFill>
          <a:blip r:embed="rId1"/>
          <a:stretch/>
        </p:blipFill>
        <p:spPr>
          <a:xfrm>
            <a:off x="1285920" y="3998880"/>
            <a:ext cx="590688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Tahoma"/>
              </a:rPr>
              <a:t>On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SP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ahoma"/>
              </a:rPr>
              <a:t>If nuh_layer_id is greater than 0,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s_max_num_reorder_pics[ i ] and sps_max_latency_increase_plus1[ i ] are not present in SPS, and inferred to be equal to vps_max_num_reorder_pics[ i ] and vps_max_latency_increase_plus1[ i ]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09CC-6AB5-4E4B-84BD-8262D11297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500040" y="342900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tivation: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While the maximum DPB size can be different for each layer, the maximum number of reorder pictures and the maximum latency shall be unchanged with an access unit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n SPS with nuh_layer_id greater than 0, sps_max_num_reorder_pics[ i ] and sps_max_latency_increase_plus1[ i ] are equal to those of an SPS with nuh_layer_id equal to 0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표 9" descr=""/>
          <p:cNvPicPr/>
          <p:nvPr/>
        </p:nvPicPr>
        <p:blipFill>
          <a:blip r:embed="rId1"/>
          <a:stretch/>
        </p:blipFill>
        <p:spPr>
          <a:xfrm>
            <a:off x="1427040" y="1925640"/>
            <a:ext cx="590724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37FB-CEB6-4D2D-AF1E-64519FB1B7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sec</cp:lastModifiedBy>
  <dcterms:modified xsi:type="dcterms:W3CDTF">2013-10-21T08:41:23Z</dcterms:modified>
  <cp:revision>4609</cp:revision>
  <dc:subject/>
  <dc:title>Visual SNHC Tools</dc:title>
</cp:coreProperties>
</file>