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5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60440" y="-360"/>
            <a:ext cx="30258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41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5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60440" y="9713520"/>
            <a:ext cx="30258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5945-0DB8-4DE1-A330-B2D49F8E486B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060800" y="9713880"/>
            <a:ext cx="302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82EE-147D-4203-823A-1A04FFE9CF9D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01592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1E01-8170-4208-9897-315E62627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11D5-CD63-442E-91F9-B5B8C2421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39B9-4F0B-460F-A157-D66AA4C0E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81F3-781C-4D11-8280-998AECAC5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B918-CD03-4004-AE62-B7A87FBF0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C621-ACA0-4B2B-A196-E4ABAED5B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4C17-6B13-4DB4-A08F-E852E1C47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CF82-2FD4-4358-A91F-535B35B17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2ECE-B961-468D-B896-67F1EEE60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6206-C705-41FC-97CC-9BA8AAF1C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453C-BC37-40F7-B2F6-7F0374EE0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3FFD-E8CB-4212-9512-BFF79CE96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2DC4-4ACD-4F5C-9296-5423F9CE54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562040"/>
            <a:ext cx="86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Extended layer identifier 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(JCTVC-O0137/JCT3V-F005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57720"/>
            <a:ext cx="83059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yeongdoo Cho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Samsung Electronic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., Lt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Oct., 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olution-2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h_layer_id (6bits) is replaced with ext_layer_id having more than 6bits, whe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yer_id_extension_flag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 VPS is equal to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CA" sz="1800" spc="-1" strike="noStrike">
                <a:solidFill>
                  <a:srgbClr val="000000"/>
                </a:solidFill>
                <a:latin typeface="Tahoma"/>
              </a:rPr>
              <a:t>layer_id_extension_flag 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is equal to 1 and nuh_layer_id is equal to 6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Otherwis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1A31-93DA-4F2B-8337-2016331531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직사각형 14"/>
          <p:cNvSpPr/>
          <p:nvPr/>
        </p:nvSpPr>
        <p:spPr>
          <a:xfrm>
            <a:off x="642960" y="2428920"/>
            <a:ext cx="74293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t_layer_id (x bits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직사각형 15"/>
          <p:cNvSpPr/>
          <p:nvPr/>
        </p:nvSpPr>
        <p:spPr>
          <a:xfrm>
            <a:off x="642960" y="4273560"/>
            <a:ext cx="371484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h_layer_id (6bits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오른쪽 중괄호 17"/>
          <p:cNvSpPr/>
          <p:nvPr/>
        </p:nvSpPr>
        <p:spPr>
          <a:xfrm rot="5400000">
            <a:off x="4214160" y="-642600"/>
            <a:ext cx="285840" cy="742932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7429320"/>
              <a:gd name="textAreaBottom" fmla="*/ 7422120 h 742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"/>
                  <a:pt x="10800" y="69"/>
                </a:cubicBezTo>
                <a:lnTo>
                  <a:pt x="10800" y="10731"/>
                </a:lnTo>
                <a:cubicBezTo>
                  <a:pt x="10800" y="10766"/>
                  <a:pt x="16200" y="10800"/>
                  <a:pt x="21600" y="10800"/>
                </a:cubicBezTo>
                <a:cubicBezTo>
                  <a:pt x="16200" y="10800"/>
                  <a:pt x="10800" y="10835"/>
                  <a:pt x="10800" y="10869"/>
                </a:cubicBezTo>
                <a:lnTo>
                  <a:pt x="10800" y="21531"/>
                </a:lnTo>
                <a:cubicBezTo>
                  <a:pt x="10800" y="2156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8"/>
          <p:cNvSpPr/>
          <p:nvPr/>
        </p:nvSpPr>
        <p:spPr>
          <a:xfrm>
            <a:off x="3366720" y="32148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yerId (x bit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9"/>
          <p:cNvSpPr/>
          <p:nvPr/>
        </p:nvSpPr>
        <p:spPr>
          <a:xfrm>
            <a:off x="1580760" y="49165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yerId (6 bit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오른쪽 중괄호 20"/>
          <p:cNvSpPr/>
          <p:nvPr/>
        </p:nvSpPr>
        <p:spPr>
          <a:xfrm rot="5400000">
            <a:off x="2392920" y="3023280"/>
            <a:ext cx="214200" cy="3714840"/>
          </a:xfrm>
          <a:custGeom>
            <a:avLst/>
            <a:gdLst>
              <a:gd name="textAreaLeft" fmla="*/ 0 w 214200"/>
              <a:gd name="textAreaRight" fmla="*/ 77400 w 214200"/>
              <a:gd name="textAreaTop" fmla="*/ 5400 h 3714840"/>
              <a:gd name="textAreaBottom" fmla="*/ 3709440 h 371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2"/>
                  <a:pt x="10800" y="104"/>
                </a:cubicBezTo>
                <a:lnTo>
                  <a:pt x="10800" y="10696"/>
                </a:lnTo>
                <a:cubicBezTo>
                  <a:pt x="10800" y="10748"/>
                  <a:pt x="16200" y="10800"/>
                  <a:pt x="21600" y="10800"/>
                </a:cubicBezTo>
                <a:cubicBezTo>
                  <a:pt x="16200" y="10800"/>
                  <a:pt x="10800" y="10852"/>
                  <a:pt x="10800" y="10904"/>
                </a:cubicBezTo>
                <a:lnTo>
                  <a:pt x="10800" y="21496"/>
                </a:lnTo>
                <a:cubicBezTo>
                  <a:pt x="10800" y="2154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VPS in Solution-2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69C4-1C29-4CFB-ABE8-72580A0C95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0" y="3300120"/>
            <a:ext cx="9144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layer_id_extension_flag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qual to 1 indicates that the extra bits are assigned for layer identifiers to increase the maximum number of layers. layer_id_extension_flag equal to 0 indicates that the layer identifier extension is not used. If not present, layer_id_extension_flag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xt_layer_id_len_minis1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plus1 specifies the number of bits to identify the extended layer identifiers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xt_max_layers_minus1 plus1 specifies the variable MaxNumLayers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if(layer_id_extension_flag)</a:t>
            </a:r>
            <a:br>
              <a:rPr sz="1400"/>
            </a:b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MaxNumLayers = ext_max_layers_minus1 + 1</a:t>
            </a:r>
            <a:br>
              <a:rPr sz="1400"/>
            </a:b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lse</a:t>
            </a:r>
            <a:br>
              <a:rPr sz="1400"/>
            </a:b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MaxNumLayers = vps_max_layers_minus1 + 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ext_max_layer_i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ies the maximum allowed value of the extended layer identifier of all NAL units in the CVS. If not present, ext_max_layer_id is inferred to be equal to vps_max_layer_i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표 8" descr=""/>
          <p:cNvPicPr/>
          <p:nvPr/>
        </p:nvPicPr>
        <p:blipFill>
          <a:blip r:embed="rId1"/>
          <a:stretch/>
        </p:blipFill>
        <p:spPr>
          <a:xfrm>
            <a:off x="1352520" y="1285920"/>
            <a:ext cx="5902200" cy="17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Slice in Solution-2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D548-B531-4665-B33A-92B05773B5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142920" y="3296160"/>
            <a:ext cx="85723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ce_ext_layer_i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ies the variable LayerId, when layer_id_extension_flag is equal to 1. If not present, slice_ext_layer_id is inferred to be equal to nuh_layer_i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if ( nuh_unit_type &lt; 3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if (layer_id_extension_flag 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LayerId =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slice_ext_layer_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LayerId = nuh_layer_i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표 9" descr=""/>
          <p:cNvPicPr/>
          <p:nvPr/>
        </p:nvPicPr>
        <p:blipFill>
          <a:blip r:embed="rId1"/>
          <a:stretch/>
        </p:blipFill>
        <p:spPr>
          <a:xfrm>
            <a:off x="1639800" y="1352520"/>
            <a:ext cx="5913360" cy="13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SPS in Solution-2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DBBA-D71E-423C-8C1B-FF682D2F87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0" y="3301200"/>
            <a:ext cx="91440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sps_layer_id_extension_flag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qual to 1 indicates that the extra bits are assigned for layer identifiers to increase the maximum number of layers for sequence parameter set. sps_layer_id_extension_flag equal to 0 indicates that the layer identifier extension is not used for sequence parameter set. If not present, sps_layer_id_extension_flag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s_ext_layer_i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ies the variable LayerId, when sps_layer_id_extension_flag is equal to 1. If not present, sps_ext_layer_id is inferred to be equal to nuh_layer_i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if ( nuh_unit_type =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S_NUT 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if ( sps_layer_id_extension_flag 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LayerId =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sps_ext_layer_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LayerId = nuh_layer_i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표 9" descr=""/>
          <p:cNvPicPr/>
          <p:nvPr/>
        </p:nvPicPr>
        <p:blipFill>
          <a:blip r:embed="rId1"/>
          <a:stretch/>
        </p:blipFill>
        <p:spPr>
          <a:xfrm>
            <a:off x="1427040" y="1139760"/>
            <a:ext cx="590724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PPS in Solution-2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2159-D537-400D-985F-CE118B01BC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0" y="3301200"/>
            <a:ext cx="91440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pps_layer_id_extension_flag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qual to 1 indicates that the extra bits are assigned for layer identifiers to increase the maximum number of layers for picture parameter set. pps_layer_id_extension_flag equal to 0 indicates that the layer identifier extension is not used for picture parameter set. If not present, pps_layer_id_extension_flag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ps_ext_layer_i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ies the variable LayerId, when pps_layer_id_extension_flag is equal to 1. If not present, pps_ext_layer_id is inferred to be equal to nuh_layer_i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if ( nuh_unit_type =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S_NUT 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if ( pps_layer_id_extension_flag 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LayerId =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pps_ext_layer_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LayerId = nuh_layer_i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표 8" descr=""/>
          <p:cNvPicPr/>
          <p:nvPr/>
        </p:nvPicPr>
        <p:blipFill>
          <a:blip r:embed="rId1"/>
          <a:stretch/>
        </p:blipFill>
        <p:spPr>
          <a:xfrm>
            <a:off x="1352520" y="1139760"/>
            <a:ext cx="5913360" cy="17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SEI message in Solution-2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CA2B-E4C1-4F86-B509-61BA817AC2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285840" y="3801240"/>
            <a:ext cx="85723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sei_layer_id_extension_flag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qual to 1 indicates that the extra bits are assigned for layer identifiers to increase the maximum number of layers for SEI message. sei_layer_id_extension_flag equal to 0 indicates that the layer identifier extension is not used for SEI message. If not present, sei_layer_id_extension_flag is inferred to be equal to nuh_layer_i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i_ext_layer_i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ies the variable LayerId, when sei_layer_id_extension_flag is equal to 1. If not present, sei_ext_layer_id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if ( nuh_unit_type =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FIX_SEI_NUT ||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uh_unit_type =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FFIX_SEI_NUT 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if (sei_layer_id_extension_flag 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LayerId =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sei_ext_layer_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LayerId = nuh_layer_i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표 10" descr=""/>
          <p:cNvPicPr/>
          <p:nvPr/>
        </p:nvPicPr>
        <p:blipFill>
          <a:blip r:embed="rId1"/>
          <a:stretch/>
        </p:blipFill>
        <p:spPr>
          <a:xfrm>
            <a:off x="1427040" y="853920"/>
            <a:ext cx="591192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Two alternative solutions are prop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lution-1: Signaling extra LSB bits of nuh_layer_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lution-2: Replacement of nuh_layer_id with ext_layer_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ution-1 is preferable, because nuh_layer_id can indicate group of layers (GOL), when adjacent layers are grouped into a G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ncept of GOL is applicable for carriage of auxiliary pictu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A GOL consists of a primary picture and the auxiliary pictures associated with the primary picture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When solution-1 is used, nuh_layer_id indicates each GOL, while ext_layer_id indicates the type of auxiliary pictures.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uper multiviews, adjacent views can be grouped into a group of views (GOV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A GOV can be identified by nuh_layer_id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</p:txBody>
      </p:sp>
      <p:sp>
        <p:nvSpPr>
          <p:cNvPr id="199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F7D6-3B4F-4C4C-BBEE-EEDBEEDDD1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B51D-4D82-4051-97F2-DF7BBBF830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eeds of the feature to increase the maximum number of layers was agreed at the last meet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Extending nuh_layer_id (6bits) to represent more than 64 layers is desirable to cope with Super multi-views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The basic idea of the previous proposals (N0135/E0115 and N0355/E0092) is to signal the extra bits to be used as LSB bits of nuh_layer_i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350C-A1EF-479F-B1DF-46802F361D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572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al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Two alternative solutions are propos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lution-1: Signaling extra LSB bits of nuh_layer_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lution-2: Replacement of nuh_layer_id with ext_layer_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6BCD-9F2E-47F6-BD47-8F72DCF52F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olution-1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ra LSB bits 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t_layer_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of nuh_layer_id are signalled in slice headers, parameter set (SPS, PPS), and SEI messag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CA" sz="1800" spc="-1" strike="noStrike">
                <a:solidFill>
                  <a:srgbClr val="000000"/>
                </a:solidFill>
                <a:latin typeface="Tahoma"/>
              </a:rPr>
              <a:t>vps_layer_id_extension_flag 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is equal to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Otherwis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5F21-837B-4168-8CDD-6F57022FDF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그룹 16"/>
          <p:cNvGrpSpPr/>
          <p:nvPr/>
        </p:nvGrpSpPr>
        <p:grpSpPr>
          <a:xfrm>
            <a:off x="642960" y="2428920"/>
            <a:ext cx="7428960" cy="428760"/>
            <a:chOff x="642960" y="2428920"/>
            <a:chExt cx="7428960" cy="428760"/>
          </a:xfrm>
        </p:grpSpPr>
        <p:sp>
          <p:nvSpPr>
            <p:cNvPr id="108" name="직사각형 12"/>
            <p:cNvSpPr/>
            <p:nvPr/>
          </p:nvSpPr>
          <p:spPr>
            <a:xfrm>
              <a:off x="642960" y="2428920"/>
              <a:ext cx="371448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uh_layer_id (6bits)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직사각형 14"/>
            <p:cNvSpPr/>
            <p:nvPr/>
          </p:nvSpPr>
          <p:spPr>
            <a:xfrm>
              <a:off x="4357440" y="2428920"/>
              <a:ext cx="371448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xt_layer_id (x bits)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직사각형 15"/>
          <p:cNvSpPr/>
          <p:nvPr/>
        </p:nvSpPr>
        <p:spPr>
          <a:xfrm>
            <a:off x="642960" y="4344840"/>
            <a:ext cx="371484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h_layer_id (6bits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오른쪽 중괄호 17"/>
          <p:cNvSpPr/>
          <p:nvPr/>
        </p:nvSpPr>
        <p:spPr>
          <a:xfrm rot="5400000">
            <a:off x="4214160" y="-642600"/>
            <a:ext cx="285840" cy="742932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7429320"/>
              <a:gd name="textAreaBottom" fmla="*/ 7422120 h 742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"/>
                  <a:pt x="10800" y="69"/>
                </a:cubicBezTo>
                <a:lnTo>
                  <a:pt x="10800" y="10731"/>
                </a:lnTo>
                <a:cubicBezTo>
                  <a:pt x="10800" y="10766"/>
                  <a:pt x="16200" y="10800"/>
                  <a:pt x="21600" y="10800"/>
                </a:cubicBezTo>
                <a:cubicBezTo>
                  <a:pt x="16200" y="10800"/>
                  <a:pt x="10800" y="10835"/>
                  <a:pt x="10800" y="10869"/>
                </a:cubicBezTo>
                <a:lnTo>
                  <a:pt x="10800" y="21531"/>
                </a:lnTo>
                <a:cubicBezTo>
                  <a:pt x="10800" y="2156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18"/>
          <p:cNvSpPr/>
          <p:nvPr/>
        </p:nvSpPr>
        <p:spPr>
          <a:xfrm>
            <a:off x="3367800" y="321480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yerId (6+x bit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9"/>
          <p:cNvSpPr/>
          <p:nvPr/>
        </p:nvSpPr>
        <p:spPr>
          <a:xfrm>
            <a:off x="1580760" y="49878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yerId (6 bit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오른쪽 중괄호 20"/>
          <p:cNvSpPr/>
          <p:nvPr/>
        </p:nvSpPr>
        <p:spPr>
          <a:xfrm rot="5400000">
            <a:off x="2392560" y="3094560"/>
            <a:ext cx="214560" cy="3714840"/>
          </a:xfrm>
          <a:custGeom>
            <a:avLst/>
            <a:gdLst>
              <a:gd name="textAreaLeft" fmla="*/ 0 w 214560"/>
              <a:gd name="textAreaRight" fmla="*/ 77400 w 214560"/>
              <a:gd name="textAreaTop" fmla="*/ 5400 h 3714840"/>
              <a:gd name="textAreaBottom" fmla="*/ 3709440 h 371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2"/>
                  <a:pt x="10800" y="104"/>
                </a:cubicBezTo>
                <a:lnTo>
                  <a:pt x="10800" y="10696"/>
                </a:lnTo>
                <a:cubicBezTo>
                  <a:pt x="10800" y="10748"/>
                  <a:pt x="16200" y="10800"/>
                  <a:pt x="21600" y="10800"/>
                </a:cubicBezTo>
                <a:cubicBezTo>
                  <a:pt x="16200" y="10800"/>
                  <a:pt x="10800" y="10852"/>
                  <a:pt x="10800" y="10904"/>
                </a:cubicBezTo>
                <a:lnTo>
                  <a:pt x="10800" y="21496"/>
                </a:lnTo>
                <a:cubicBezTo>
                  <a:pt x="10800" y="2154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VPS in Solution-1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01E6-31F3-4F10-BF72-99D9BD7977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표 10" descr=""/>
          <p:cNvPicPr/>
          <p:nvPr/>
        </p:nvPicPr>
        <p:blipFill>
          <a:blip r:embed="rId1"/>
          <a:stretch/>
        </p:blipFill>
        <p:spPr>
          <a:xfrm>
            <a:off x="1352520" y="1427040"/>
            <a:ext cx="5902200" cy="1760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1"/>
          <p:cNvSpPr/>
          <p:nvPr/>
        </p:nvSpPr>
        <p:spPr>
          <a:xfrm>
            <a:off x="0" y="3300120"/>
            <a:ext cx="9144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vps_layer_id_extension_flag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qual to 1 indicates that the extra bits are assigned for layer identifiers to increase the maximum number of layers. vps_layer_id_extension_flag equal to 0 indicates that the layer identifier extension is not used. If not present, vps_layer_id_extension_flag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num_layer_id_extension_bits_minus1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plus1 specifies the number of extra bit to identify layers more than 64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xt_max_layers_minus1 plus1 specifies the variable MaxNumLayers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if(layer_id_extension_flag)</a:t>
            </a:r>
            <a:br>
              <a:rPr sz="1400"/>
            </a:b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MaxNumLayers = ext_max_layers_minus1 + 1</a:t>
            </a:r>
            <a:br>
              <a:rPr sz="1400"/>
            </a:b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lse</a:t>
            </a:r>
            <a:br>
              <a:rPr sz="1400"/>
            </a:b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MaxNumLayers = vps_max_layers_minus1 + 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ext_max_layer_i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ies the maximum allowed value of the extended layer identifier of all NAL units in the CVS. If not present, ext_max_layer_id is inferred to be equal to vps_max_layer_i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Slice in Solution-1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DCD1-F30C-4BBF-A809-616D81EC92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42920" y="3296160"/>
            <a:ext cx="85723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ce_ext_layer_i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ies the variable LayerId, when vps_layer_id_extension_flag is equal to 1. If not present, slice_ext_layer_id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if ( nuh_unit_type &lt; 3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if ( vps_layer_id_extension_flag 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LayerId = nuh_layer_id &lt;&lt; (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um_layer_id_extension_bits_minus1 + 1) + slice_ext_layer_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LayerId = nuh_layer_i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표 8" descr=""/>
          <p:cNvPicPr/>
          <p:nvPr/>
        </p:nvPicPr>
        <p:blipFill>
          <a:blip r:embed="rId1"/>
          <a:stretch/>
        </p:blipFill>
        <p:spPr>
          <a:xfrm>
            <a:off x="1639800" y="1352520"/>
            <a:ext cx="5913360" cy="13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SPS in Solution-1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C53F-9341-41F4-91E7-7EB641DE39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0" y="3300120"/>
            <a:ext cx="9144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sps_layer_id_extension_flag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qual to 1 indicates that the extra bits are assigned for layer identifiers to increase the maximum number of layers for sequence parameter set. sps_layer_id_extension_flag equal to 0 indicates that the layer identifier extension is not used for sequence parameter set. If not present, sps_layer_id_extension_flag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s_ext_layer_i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ies the variable LayerId, when sps_layer_id_extension_flag is equal to 1. If not present, sps_ext_layer_id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if ( nuh_unit_type =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S_NUT 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( sps_layer_id_extension_flag 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LayerId = nuh_layer_id &lt;&lt; (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um_layer_id_extension_bits_minus1 + 1) + sps_ext_layer_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LayerId = nuh_layer_i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표 8" descr=""/>
          <p:cNvPicPr/>
          <p:nvPr/>
        </p:nvPicPr>
        <p:blipFill>
          <a:blip r:embed="rId1"/>
          <a:stretch/>
        </p:blipFill>
        <p:spPr>
          <a:xfrm>
            <a:off x="1639800" y="1285920"/>
            <a:ext cx="590724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PPS in Solution-1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F6D0-874C-4477-82AA-3C02FDD680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0" y="3300120"/>
            <a:ext cx="9144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pps_layer_id_extension_flag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qual to 1 indicates that the extra bits are assigned for layer identifiers to increase the maximum number of layers for picture parameter set. pps_layer_id_extension_flag equal to 0 indicates that the layer identifier extension is not used for picture parameter set. If not present, pps_layer_id_extension_flag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ps_ext_layer_i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ies the variable LayerId, when pps_layer_id_extension_flag is equal to 1. If not present, pps_ext_layer_id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if ( nuh_unit_type =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S_NUT 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( pps_layer_id_extension_flag 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LayerId = nuh_layer_id &lt;&lt; (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um_layer_id_extension_bits_minus1 + 1) + pps_ext_layer_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LayerId = nuh_layer_i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표 9" descr=""/>
          <p:cNvPicPr/>
          <p:nvPr/>
        </p:nvPicPr>
        <p:blipFill>
          <a:blip r:embed="rId1"/>
          <a:stretch/>
        </p:blipFill>
        <p:spPr>
          <a:xfrm>
            <a:off x="1427040" y="1139760"/>
            <a:ext cx="5911920" cy="17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SEI message in Solution-1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670B-8C16-4CE1-8F00-1B0CDA7ABC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285840" y="3692880"/>
            <a:ext cx="85723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sei_layer_id_extension_flag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qual to 1 indicates that the extra bits are assigned for layer identifiers to increase the maximum number of layers for SEI message. sei_layer_id_extension_flag equal to 0 indicates that the layer identifier extension is not used for SEI message. If not present, sei_layer_id_extension_flag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i_ext_layer_i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ies the variable LayerId, when sei_layer_id_extension_flag is equal to 1. If not present, sei_ext_layer_id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if ( nuh_unit_type =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FIX_SEI_NUT ||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uh_unit_type =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FFIX_SEI_NUT 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(sei_layer_id_extension_flag 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LayerId = nuh_layer_id &lt;&lt; (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um_layer_id_extension_bits_minus1 + 1) + sei_ext_layer_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LayerId = nuh_layer_i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표 9" descr=""/>
          <p:cNvPicPr/>
          <p:nvPr/>
        </p:nvPicPr>
        <p:blipFill>
          <a:blip r:embed="rId1"/>
          <a:stretch/>
        </p:blipFill>
        <p:spPr>
          <a:xfrm>
            <a:off x="1712880" y="927000"/>
            <a:ext cx="5907240" cy="2816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sec</cp:lastModifiedBy>
  <dcterms:modified xsi:type="dcterms:W3CDTF">2013-10-21T08:27:41Z</dcterms:modified>
  <cp:revision>4707</cp:revision>
  <dc:subject/>
  <dc:title>Visual SNHC Tools</dc:title>
</cp:coreProperties>
</file>