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6865-470B-4230-A305-8D53EB87ED1A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AA23-06BA-4D61-AB2B-ACCBEC0B7B4F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E7FE-3AB5-4B38-97DC-A71AB03DE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CD03-242C-4859-BB40-F32B37C45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0390-A9D4-4496-BE7C-0C239ABF8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7DB6-0CA5-4B17-9FE7-C521E3DFE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5E3B-5BA0-40B5-B703-CC81B5965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9CED-AB66-4601-BB8E-0A68C49ED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9F0F-FFEB-496E-B605-ACA6FCFC5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AA48-8CDD-400A-A254-599E953C9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E2D5-FAA2-4051-A9A3-76CB0DED1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693F-D55B-4D93-A996-25024D19E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C497-6AC8-44E5-94A8-860A336B7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161E-057F-402B-AEB8-DE888B1D8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5381-9964-4B6E-80BA-93B24F293E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Signalling decoded picture buffer size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O0136/JCT3V-F0049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Oct.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Discussion on DPB opera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DPBs operate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Outputs of the decoded picture in AU will be aligned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An unused reference picture can be independently removed from DPB for each layer. </a:t>
            </a: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(already supported)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PB can be split into several sub-DPBs, e.g. for each layer or group of layers. Each sub-DPB may contain the decoded pictures having the same representation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Benefits: The buffers can be allocated more precisely in decoder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               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No other clear benefit is expected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ll sub-DPB or other partition of DPBs be specifi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f the only benefit of DPB partitioning is saving memories,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signalling information helpful for DPB allocation is enough without a specific text regarding sub-DPB operation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n practical implementations, DPB can be intelligently designed with the provided information over the specified DPB operation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88B6-0D6C-456E-BF2D-CB04A5893E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 on DPB signalling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ree alternative syntax to indicate the maximum decoded buffer sizes are proposed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7160" indent="-457200">
              <a:spcBef>
                <a:spcPts val="451"/>
              </a:spcBef>
              <a:buClr>
                <a:srgbClr val="3333cc"/>
              </a:buClr>
              <a:buSzPct val="110000"/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맑은 고딕"/>
              </a:rPr>
              <a:t>DPB signalling for each operation point and for each representation format.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857160" indent="-457200">
              <a:spcBef>
                <a:spcPts val="451"/>
              </a:spcBef>
              <a:buClr>
                <a:srgbClr val="3333cc"/>
              </a:buClr>
              <a:buSzPct val="110000"/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맑은 고딕"/>
              </a:rPr>
              <a:t>DPB signaling for each operation point and additionally for each layer.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857160" indent="-457200">
              <a:spcBef>
                <a:spcPts val="451"/>
              </a:spcBef>
              <a:buClr>
                <a:srgbClr val="3333cc"/>
              </a:buClr>
              <a:buSzPct val="110000"/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맑은 고딕"/>
              </a:rPr>
              <a:t>Explicitly selecting the level of DPB signaling (hybrid of options 1&amp;2).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ssert that those syntax are helpful for session negotiation and decoder set-up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lective signalling of DPB sizes (option-3) is preferable, due to the degree of freedom of DPB in practical implementa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33D8-F217-4A37-B6D2-1E0BA5563E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ption-1: DPB signalling for each operation poi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d representation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ximum DBP sizes for each operation points (layer set + temporal sub-layer) are signalled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assist the exact allocation of DPB according to representation formats, maximum DPB size for each representation format can be optionally signall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 layer_se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minus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1 specifies the maximum required size of the decoded picture buffer of th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layer set for the CVS in units of picture storage buffers when HighestTid is equal to j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_format_idx_pres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fla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 equal to 1 indicates whether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_format_idx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minus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[ k ] is presen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_format_idx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minus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[ k ] plus 1 specifies the maximum required size of the decoded picture buffer of the i-th layer set associated with the k-th representation format for the CVS in units of picture storage buffers when HighestTid is equal to j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066C-721D-4D55-ABB2-FDE1605D9B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표 7" descr=""/>
          <p:cNvPicPr/>
          <p:nvPr/>
        </p:nvPicPr>
        <p:blipFill>
          <a:blip r:embed="rId1"/>
          <a:stretch/>
        </p:blipFill>
        <p:spPr>
          <a:xfrm>
            <a:off x="1573200" y="2139840"/>
            <a:ext cx="589428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ption-2: DPB signalling for each operation poi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d for each layer of the operation point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he DPB operates in layer-wise, maximum DPB size for each layer of each operation point can be signalled optionall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 layer_se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minus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1 specifies the maximum required size of the decoded picture buffer of th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layer set for the CVS in units of picture storage buffers when HighestTid is equal to j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layer_present_fla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i ][ j ] equal to 1 indicates that max_dpb_size_for_layer_minus1[ i ][ j ][ k ] is presen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_dpb_size_for_layer_minus1[ i ][ j ][ k ]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1 specifies the maximum required size of the decoded picture buffer of the k-th layer associated with the i-th layer set for the CVS in units of picture storage buffers when HighestTid is equal to j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6FB1-A6BC-4C73-B6AC-A191062896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표 5" descr=""/>
          <p:cNvPicPr/>
          <p:nvPr/>
        </p:nvPicPr>
        <p:blipFill>
          <a:blip r:embed="rId1"/>
          <a:stretch/>
        </p:blipFill>
        <p:spPr>
          <a:xfrm>
            <a:off x="1573200" y="1573200"/>
            <a:ext cx="589428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ption-3: Selecting the type of DPB signall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DPB behaving models, a desired DBP size information can be selectively delivered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s_dpb_signal_present_flag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to 1indicates that max DPB size for each layer set and sub-layer is signaled. vps_dpb_signal_present_flag equal to 0 indicates that max DPB size for each layer set and sub-layer is not signale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b_signal_type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whether max_dpb_size_for_ rep_format_idx _minus1[ i ][ j ][ k ] or max_dpb_size_for_ layer_minus1 [ i ][ j ][ k ] is signaled or no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4E69-A1D7-464E-855B-240E2AF27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표 6" descr=""/>
          <p:cNvPicPr/>
          <p:nvPr/>
        </p:nvPicPr>
        <p:blipFill>
          <a:blip r:embed="rId1"/>
          <a:stretch/>
        </p:blipFill>
        <p:spPr>
          <a:xfrm>
            <a:off x="1712880" y="1352520"/>
            <a:ext cx="590076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F1C6-4AF4-4487-99DA-5BB52D8E4A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3-10-21T08:25:16Z</dcterms:modified>
  <cp:revision>4679</cp:revision>
  <dc:subject/>
  <dc:title>Visual SNHC Tools</dc:title>
</cp:coreProperties>
</file>