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0D61-2723-4E57-A369-B566384BF982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CC07-EB62-4331-8CEC-193A4D01C3F0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0969-D4D6-4CFA-AE73-D27E04F32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CC69-F280-4200-BA62-F0BFE7124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9C20-7E89-47BD-9D9D-A95793D66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C99C-8C54-412D-8C51-368E0E7F8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1489-65D1-41C3-A4EE-E8962F7FF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7980-4843-4DB1-B133-764C71EDC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BCA8-9AB4-4D6C-9324-E21E48EFE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8863-F975-4169-8030-A7DC1A170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FABF-0F1C-4C65-9DC0-286030191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C5A5-0D97-423D-8CC5-D873601CB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D54B-7360-4492-A033-432CDF3F9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1510-B3EC-4E36-AE32-A078AC875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800C-1CC3-4E99-907E-FDEA9E3B86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Carriage of auxiliary pictures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O0135/JCT3V-F0048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Oct.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osed constraints for options 1&amp;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87426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54A-0600-4BA3-90B4-16AC7C5ED9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osed constraints for options 1&amp;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924912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A816-5DEC-4667-AB69-FBBDC40B47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Modifications of default_one_target_output_layer_flag semantics (for Option-2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751068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98FA-7EF2-4835-ACBF-353DBDAFE3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BCE3-6AC3-4051-88E0-B69033329C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Needs of carriage of auxiliary picture were discussed. One promising solution is proposed by JCTVC-O0041(Nokia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wo alternative solutions of carriage of auxiliary pi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With new NAL unit type (proposed): </a:t>
            </a: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Option-1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With new scalability dimension (Nokia, JCTVC-O0041): </a:t>
            </a: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Option-2</a:t>
            </a: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ments of options 1&amp;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Indication of used auxiliary pictures for each layer : </a:t>
            </a: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for Option-1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Grouped signalling of layer dependencies : </a:t>
            </a: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for Option-2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onstraints for Options 1&amp;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Modification of default_one_target_output_layer_flag  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for Option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9814-8B5A-4598-92EA-6FB39536A3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olution-1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al_unit_type, namely AUX_NUT, is assigned to indicate auxiliary pictures. The types of auxiliary pictures are signalled in slice headers of VCL NAL un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F15-8CF4-4732-B5BD-B875A1048C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표 9" descr=""/>
          <p:cNvPicPr/>
          <p:nvPr/>
        </p:nvPicPr>
        <p:blipFill>
          <a:blip r:embed="rId1"/>
          <a:stretch/>
        </p:blipFill>
        <p:spPr>
          <a:xfrm>
            <a:off x="566640" y="1852560"/>
            <a:ext cx="7723440" cy="1963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2500200" y="164304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Table 7‑1 – NAL unit type codes and NAL unit typ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표 11" descr=""/>
          <p:cNvPicPr/>
          <p:nvPr/>
        </p:nvPicPr>
        <p:blipFill>
          <a:blip r:embed="rId2"/>
          <a:stretch/>
        </p:blipFill>
        <p:spPr>
          <a:xfrm>
            <a:off x="212760" y="4071960"/>
            <a:ext cx="5432400" cy="197496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12"/>
          <p:cNvSpPr/>
          <p:nvPr/>
        </p:nvSpPr>
        <p:spPr>
          <a:xfrm>
            <a:off x="6072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aux_id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pecifies the type 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of auxiliary pictures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86280" y="4572000"/>
          <a:ext cx="3071880" cy="1523880"/>
        </p:xfrm>
        <a:graphic>
          <a:graphicData uri="http://schemas.openxmlformats.org/drawingml/2006/table">
            <a:tbl>
              <a:tblPr/>
              <a:tblGrid>
                <a:gridCol w="928800"/>
                <a:gridCol w="214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ux_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uxiliary picture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imary pictu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th m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lpha m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nhanced chro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olution-1 (alternative)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ultiple NAL unit type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be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llocated for indicating various auxiliary picture types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B7F0-0435-4FF8-ADE2-608118AE8C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표 14" descr=""/>
          <p:cNvPicPr/>
          <p:nvPr/>
        </p:nvPicPr>
        <p:blipFill>
          <a:blip r:embed="rId1"/>
          <a:stretch/>
        </p:blipFill>
        <p:spPr>
          <a:xfrm>
            <a:off x="1285920" y="1427040"/>
            <a:ext cx="5932440" cy="2797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1857240" y="4362840"/>
            <a:ext cx="464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nal_unit_type &gt; 40 &amp;&amp; nal_unit_type &lt; 4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AuxId = nal_unit_type – 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AuxId =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arison of two alternative metho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ur suggestion is the first option (NAL unit type indication), but both are applicable to carry auxiliary pictu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option-1: NAL unit typ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1) From a nuh_layer_id without mapping to scalability dimensions, the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corresponding auxiliary pictures of a primary picture can be identified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2) The layer dependency information is more efficiently represented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by signalling only dependencies between primary pictures.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3) Auxiliary pictures with the corresponding primary picture in DPB are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synchronously handled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4) Many NAL unit types are reserved, while nuh_layer_id (6 bits) is not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enough to represent multiple scalability dimensions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5) A single layer bitstream with auxiliary pictures is available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. 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284400" indent="-2844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option-2: Scalability dimension (same as described in 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JCTVC-O004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1) Easy bitstream extraction is possible with nuh_layer_id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2) The presence of auxiliary pictures are indicated in VPS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3) No NAL unit type is burned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4) D</a:t>
            </a:r>
            <a:r>
              <a:rPr b="1" lang="en-CA" sz="1600" spc="-1" strike="noStrike">
                <a:solidFill>
                  <a:srgbClr val="000066"/>
                </a:solidFill>
                <a:latin typeface="맑은 고딕"/>
              </a:rPr>
              <a:t>ecoders can choose the CPB HRD parameters with or without auxiliary pictures.</a:t>
            </a:r>
            <a:br>
              <a:rPr sz="1800"/>
            </a:b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AB11-C650-4E6C-ABD8-CACF2C382E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Indication of auxiliary picture types for each layer in VPS (for options-1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712008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9C6E-3382-45CD-8799-244442FFEA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표 8" descr=""/>
          <p:cNvPicPr/>
          <p:nvPr/>
        </p:nvPicPr>
        <p:blipFill>
          <a:blip r:embed="rId2"/>
          <a:stretch/>
        </p:blipFill>
        <p:spPr>
          <a:xfrm>
            <a:off x="1639800" y="1852560"/>
            <a:ext cx="590724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Grouped signalling of layer dependencies in VPS (for option-2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879192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0924-DE2A-43E2-97C4-F01020170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Grouped signalling of layer dependencies in VPS (for option-2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557856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6726-8327-4DCB-A6E7-19E6068A2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표 8" descr=""/>
          <p:cNvPicPr/>
          <p:nvPr/>
        </p:nvPicPr>
        <p:blipFill>
          <a:blip r:embed="rId2"/>
          <a:stretch/>
        </p:blipFill>
        <p:spPr>
          <a:xfrm>
            <a:off x="1427040" y="1000080"/>
            <a:ext cx="650412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Grouped signalling of layer dependencies in VPS (for option-2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55785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D844-CB39-4A65-B366-628B474C8C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285840" y="1314000"/>
            <a:ext cx="857232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s_aux_picture_use_fl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1 specifies that an auxiliary picture is present in a bitstream, and aux_mask_flag[i] is present in VPS. vps_aux_picture_use_flag equal to 0 specifiest hat an auxiliary picture is not present in a bitstream, and aux_mask_flag is inferred equal to 0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x_mask_flag [ i 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1 indicates that auxiliary pictures with the i-th auxiliay picture type are present in a bitstream. aux_mask_flag [ i ] equal to 0 indicates that auxiliary pictures with the i-th auxialiary picture type are not present in a bitstrea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s_aux_picture_grouped_fl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l to 1 specifies that the nuh_layer_id of the i-th auxiliary pictures associated with a primary picture with nuh_layer_id equal to k is equal to (k+i). The auxiliary pictures have the same layer dependencies as the corresponding primary pictures. vps_aux_picture_grouped_flag equal to 0 specifies that the above restriction may or may not apply. If not present, vps_aux_picture_grouped_flag is inferred to be equal to 0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 NumDirectRefLayers[ i ],and RefLayerId[ i ][ j ]SamplePredEnabledFlag[ i ][ j ], MotionPredEnabledFlag[ i ][ j ] and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rectRefLayerIdx[ i ][ j 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rived as follow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or( i = 0; i &lt;= vps_max_layers_minus1; i += NumGroupLayers 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or( k = 0; k &lt; NumGroupLayers; k++ 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iNuhLId = layer_id_in_nuh[ i ] +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NumDirectRefLayers[ iNuhLId ] =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for( j = 0; j &lt; i; j++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  if( direct_dependency_flag[ i ][ j ] )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RefLayerId[ iNuhLId ][ NumDirectRefLayers[ iNuhLId ]++ ] = layer_id_in_nuh[ j ] + k</a:t>
            </a:r>
            <a:br>
              <a:rPr sz="1200"/>
            </a:b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PredEnabledFlag[ iNuhLId ][ j ] = (( direct_dependency_type[ i ][ j ] + 1 ) &amp; 1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otionPredEnabledFlag[ iNuhLId ][ j ] = ((( direct_dependency_type[ i ][ j ] + 1 ) &amp; 2 ) &gt;&gt; 1 )</a:t>
            </a:r>
            <a:br>
              <a:rPr sz="1200"/>
            </a:b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DirectRefLayerIdx[ iNuhLid ][ layer_id_in_nuh[ j ]+k] = NumDirectRefLayers[ iNuhLId ]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–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 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  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3-10-21T08:24:32Z</dcterms:modified>
  <cp:revision>4690</cp:revision>
  <dc:subject/>
  <dc:title>Visual SNHC Tools</dc:title>
</cp:coreProperties>
</file>