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332000" y="6494400"/>
            <a:ext cx="8762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A610-3F65-44A4-963A-747C5F5AE197}" type="slidenum"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4797360"/>
            <a:ext cx="71280" cy="93672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0720" y="1917360"/>
            <a:ext cx="8854920" cy="1754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8160" bIns="381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 Bold"/>
              </a:rPr>
              <a:t>AHG5/AHG9: On support for alpha channel in HEVC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 Bold"/>
              </a:rPr>
              <a:t>JCTVC-O0132</a:t>
            </a:r>
            <a:endParaRPr b="0" lang="en-US" sz="2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4726080"/>
            <a:ext cx="823140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atteo Naccari and Marta Mr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Outlin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7640" y="76464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upport for alpha channel processing with SEI mess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Introduction: Alpha channel signals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7640" y="981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s are required for professional video coding applic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s specify for each pixels in the video its degree of transparency or opac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Content Placeholder 9"/>
          <p:cNvSpPr/>
          <p:nvPr/>
        </p:nvSpPr>
        <p:spPr>
          <a:xfrm>
            <a:off x="108000" y="4149720"/>
            <a:ext cx="8929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signals can be compressed using the coding tools of their texture frame counter parts (both lossy and loss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s crucial to signal alpha channel in the same access unit of the associated textur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test"/>
          <p:cNvPicPr/>
          <p:nvPr/>
        </p:nvPicPr>
        <p:blipFill>
          <a:blip r:embed="rId1"/>
          <a:stretch/>
        </p:blipFill>
        <p:spPr>
          <a:xfrm>
            <a:off x="1620720" y="2349360"/>
            <a:ext cx="2708280" cy="151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alpha"/>
          <p:cNvPicPr/>
          <p:nvPr/>
        </p:nvPicPr>
        <p:blipFill>
          <a:blip r:embed="rId2"/>
          <a:stretch/>
        </p:blipFill>
        <p:spPr>
          <a:xfrm>
            <a:off x="4842000" y="2349360"/>
            <a:ext cx="2706480" cy="153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Introduction: Carriage of alpha channel in the bitstream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7640" y="909720"/>
            <a:ext cx="8929800" cy="72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can be conveyed using auxiliary pictures in the same access unit of the primary pictur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7" name="Picture 11" descr=""/>
          <p:cNvPicPr/>
          <p:nvPr/>
        </p:nvPicPr>
        <p:blipFill>
          <a:blip r:embed="rId1"/>
          <a:stretch/>
        </p:blipFill>
        <p:spPr>
          <a:xfrm>
            <a:off x="1763640" y="1679400"/>
            <a:ext cx="5862600" cy="244656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9"/>
          <p:cNvSpPr/>
          <p:nvPr/>
        </p:nvSpPr>
        <p:spPr>
          <a:xfrm>
            <a:off x="108000" y="4149720"/>
            <a:ext cx="8929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O0041/F0031 proposes to signal auxiliary pictures as an additional scalability dimension in the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Depth maps and chroma enhancement layer can be also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No need to specify new NALU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ccordingly, support for alpha channel can be signalled using SE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Support for alpha channel processing with SEI message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" y="909720"/>
            <a:ext cx="8929800" cy="1800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 new SEI message (type 137) is defined for both prefix and post-fix SEI NALU typ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e message carries information useful for receiver side post-process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Values for opaque and transparent sampl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ype of clipping applied to decoded alpha channel sampl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85720" y="3225960"/>
            <a:ext cx="2762280" cy="194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6058080" y="3246480"/>
            <a:ext cx="2763720" cy="18558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189000" y="5284800"/>
            <a:ext cx="40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To obtain binary alpha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5869080" y="5313240"/>
            <a:ext cx="32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To keep the values in th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2"/>
          <p:cNvCxnSpPr>
            <a:stCxn id="140" idx="2"/>
            <a:endCxn id="141" idx="0"/>
          </p:cNvCxnSpPr>
          <p:nvPr/>
        </p:nvCxnSpPr>
        <p:spPr>
          <a:xfrm flipH="1">
            <a:off x="1966680" y="2709720"/>
            <a:ext cx="2607120" cy="5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>
            <a:stCxn id="140" idx="2"/>
            <a:endCxn id="142" idx="0"/>
          </p:cNvCxnSpPr>
          <p:nvPr/>
        </p:nvCxnSpPr>
        <p:spPr>
          <a:xfrm>
            <a:off x="4573440" y="2709360"/>
            <a:ext cx="28677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SEI message syntax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48" name="Table 3" descr=""/>
          <p:cNvPicPr/>
          <p:nvPr/>
        </p:nvPicPr>
        <p:blipFill>
          <a:blip r:embed="rId1"/>
          <a:stretch/>
        </p:blipFill>
        <p:spPr>
          <a:xfrm>
            <a:off x="1384200" y="1560600"/>
            <a:ext cx="6357960" cy="189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3-10-22T19:01:30Z</dcterms:modified>
  <cp:revision>1008</cp:revision>
  <dc:subject/>
  <dc:title>JCTVC-H0477 On Just Noticeable Distortion Quantization in the HEVC Codec</dc:title>
</cp:coreProperties>
</file>