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3-10-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C414-38EF-4AC7-9821-81066B07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move the slide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3-10-1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2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0DF-3482-473B-B790-B69E90BF6704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3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3-10-1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BEB6-1C86-403F-9542-1DCAA9875BC0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4" name="Header Placeholder 5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5" name="Footer Placeholder 6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3-10-1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8812-27CD-430B-9D68-925BDE219DFB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8" name="Header Placeholder 5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9" name="Footer Placeholder 6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Econ2011" descr="ECON_RGB"/>
          <p:cNvPicPr/>
          <p:nvPr/>
        </p:nvPicPr>
        <p:blipFill>
          <a:blip r:embed="rId2"/>
          <a:stretch/>
        </p:blipFill>
        <p:spPr>
          <a:xfrm>
            <a:off x="8315280" y="360360"/>
            <a:ext cx="4446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Internal  |  2013-10-17  |  Page </a:t>
            </a:r>
            <a:fld id="{6C9511F2-C83E-4E7D-949E-FF53E9B329C6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2" name="Logo2011" descr="ERI_UF_rgb"/>
          <p:cNvPicPr/>
          <p:nvPr/>
        </p:nvPicPr>
        <p:blipFill>
          <a:blip r:embed="rId2"/>
          <a:stretch/>
        </p:blipFill>
        <p:spPr>
          <a:xfrm>
            <a:off x="7721640" y="431640"/>
            <a:ext cx="1027080" cy="90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Transcoding-friendly Scalable video coding </a:t>
            </a:r>
            <a:br>
              <a:rPr sz="4800"/>
            </a:b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(JCTVC-O0127)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Kenneth Andersson, Thomas Rusert, Rickard Sjöberg, Jonatan Samuelss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lvl="1"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n difference to traditional scalable coding: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most important part of a scalable bitstream, the highest fidelity, is decodable by a HEVC version 1 decoder  and without loss in coding efficiency compared to single layer cod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ing decisions of the layers can be performed similar to single layer cod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enefits of the proposal cont’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n difference to simulcasting several fidelities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Overhead of independently encoded fidelities can be reduced.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oth a simulcast bitstream and a bitstream according to the proposal can be produced simultaneously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ending on bandwidth in uplink and capabilities in the network an appropriate stream can be selected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proposed functionality can also be used to reduce overhead for already encoded HEVC version 1 bitstreams while keeping the coding efficiency of the highest fidelity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enefits of the proposal cont’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96720" y="1375920"/>
            <a:ext cx="8352000" cy="385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proposal is compared with simulcast. Simulcast is coded with SHM-3.0.1 with no dependency between the two layers. QPs in the common conditions are switched for base and enhancement layer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proposal is also coded with the low fidelity in layer 1 and without inter-layer sample and motion prediction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Results for SNR scalability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225440" y="2347920"/>
          <a:ext cx="6480360" cy="2427120"/>
        </p:xfrm>
        <a:graphic>
          <a:graphicData uri="http://schemas.openxmlformats.org/drawingml/2006/table">
            <a:tbl>
              <a:tblPr/>
              <a:tblGrid>
                <a:gridCol w="2160720"/>
                <a:gridCol w="719280"/>
                <a:gridCol w="720720"/>
                <a:gridCol w="718920"/>
                <a:gridCol w="720720"/>
                <a:gridCol w="719280"/>
                <a:gridCol w="720720"/>
              </a:tblGrid>
              <a:tr h="415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 HEVC SNR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-B HEVC SNR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0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0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0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7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Overall (Test vs Ref)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1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1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Overall (Test vs single layer)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7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1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1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6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PROPOSAL vs SIMULCAST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96720" y="1131480"/>
            <a:ext cx="8352000" cy="385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have shown how SHVC can provide a high fidelity bitstream with same performance as single layer HEVC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 low fidelity stream can be derived from a scalable bitstream in the network with significant reduction of complexity compared to traditional transcoding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mpared to simulcast average BD rate reductions of 12.1% have been shown for SNR scalability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propose that this functionality is adopted to the SHVC draft to provide better flexibility for controlling bitrate in uplink and downlink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3840" y="-4752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CONCLUSION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Logo_ChapterSlide_Norm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6720" y="1417680"/>
            <a:ext cx="8352000" cy="3852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ACKUP slides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6720" y="1541160"/>
            <a:ext cx="8352000" cy="4110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HVC vs Simulcast and Single layer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roposal vs Simulcast and Single layer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Comparison witH SHVC for SNR scalability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25440" y="2060640"/>
          <a:ext cx="6480360" cy="1332000"/>
        </p:xfrm>
        <a:graphic>
          <a:graphicData uri="http://schemas.openxmlformats.org/drawingml/2006/table">
            <a:tbl>
              <a:tblPr/>
              <a:tblGrid>
                <a:gridCol w="2160720"/>
                <a:gridCol w="719280"/>
                <a:gridCol w="720720"/>
                <a:gridCol w="718920"/>
                <a:gridCol w="720720"/>
                <a:gridCol w="719280"/>
                <a:gridCol w="720720"/>
              </a:tblGrid>
              <a:tr h="416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 HEVC SNR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-B HEVC SNR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Overall (Test vs Ref)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0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8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7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5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Overall (Test vs single layer)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4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2,1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4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4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4,7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9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225440" y="4557600"/>
          <a:ext cx="6480360" cy="1332000"/>
        </p:xfrm>
        <a:graphic>
          <a:graphicData uri="http://schemas.openxmlformats.org/drawingml/2006/table">
            <a:tbl>
              <a:tblPr/>
              <a:tblGrid>
                <a:gridCol w="2160720"/>
                <a:gridCol w="719280"/>
                <a:gridCol w="720720"/>
                <a:gridCol w="718920"/>
                <a:gridCol w="720720"/>
                <a:gridCol w="719280"/>
                <a:gridCol w="720720"/>
              </a:tblGrid>
              <a:tr h="416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 HEVC SNR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-B HEVC SNR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Overall (Test vs Ref)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1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1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Overall (Test vs single layer)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6720" y="1773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dditional functionality to SHVC is proposed to provide better flexibility in controlling bitrate in uplink and downlink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n difference to traditional scalable coding: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e the highest fidelity in the base lay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e lower fidelities in higher lay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Generate transform coefficients in low fidelity layers with dependency to the highest fidelit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Low fidelity streams can be obtained by guided transcod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use of this functionality is signalled as a new dependency type in VPS, parallel to other dependency typ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96720" y="1800360"/>
            <a:ext cx="874728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dvantage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highest fidelity is decodable by an HEVC version 1 decoder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xtraction of the highest fidelity comes at no bitrate cost while using SHVC typically would render a bitrate cost of 14-24% for SNR scalability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gnificant reduction of traditional transcoding complexity to derive a coding efficient low fidelity HEVC version 1 bitstream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D rate reduction compared to simulcast by 12.1% (RA/LDB/LDP) for SNR scalabilit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anks to Nokia for cross-checking (JCTVC-O0322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SUMMARY Cont’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P based video delivery where the end-points are HEVC version 1 decoders featuring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ding efficient representation from the encoder(s) to a network node (uplink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ding efficient representation from the network node to the end-users (downlink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ptimally the coding efficiency of both the uplink and the downlink should have same coding efficiency as for coding for a single represent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ACKGROUND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grpSp>
        <p:nvGrpSpPr>
          <p:cNvPr id="96" name="Group 22"/>
          <p:cNvGrpSpPr/>
          <p:nvPr/>
        </p:nvGrpSpPr>
        <p:grpSpPr>
          <a:xfrm>
            <a:off x="2004840" y="4749840"/>
            <a:ext cx="4602240" cy="1166760"/>
            <a:chOff x="2004840" y="4749840"/>
            <a:chExt cx="4602240" cy="1166760"/>
          </a:xfrm>
        </p:grpSpPr>
        <p:grpSp>
          <p:nvGrpSpPr>
            <p:cNvPr id="97" name="Group 24"/>
            <p:cNvGrpSpPr/>
            <p:nvPr/>
          </p:nvGrpSpPr>
          <p:grpSpPr>
            <a:xfrm>
              <a:off x="2004840" y="5339520"/>
              <a:ext cx="1615320" cy="577080"/>
              <a:chOff x="2004840" y="5339520"/>
              <a:chExt cx="1615320" cy="577080"/>
            </a:xfrm>
          </p:grpSpPr>
          <p:sp>
            <p:nvSpPr>
              <p:cNvPr id="98" name="Rectangle 34"/>
              <p:cNvSpPr/>
              <p:nvPr/>
            </p:nvSpPr>
            <p:spPr>
              <a:xfrm>
                <a:off x="2004840" y="5339520"/>
                <a:ext cx="1500480" cy="57708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99" name="TextBox 35"/>
              <p:cNvSpPr/>
              <p:nvPr/>
            </p:nvSpPr>
            <p:spPr>
              <a:xfrm>
                <a:off x="2331360" y="5525280"/>
                <a:ext cx="128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Encoder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00" name="Rectangle 25"/>
            <p:cNvSpPr/>
            <p:nvPr/>
          </p:nvSpPr>
          <p:spPr>
            <a:xfrm>
              <a:off x="3679560" y="4760640"/>
              <a:ext cx="985680" cy="480960"/>
            </a:xfrm>
            <a:prstGeom prst="rect">
              <a:avLst/>
            </a:prstGeom>
            <a:solidFill>
              <a:srgbClr val="eaf8c9"/>
            </a:solidFill>
            <a:ln w="1260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1" name="TextBox 26"/>
            <p:cNvSpPr/>
            <p:nvPr/>
          </p:nvSpPr>
          <p:spPr>
            <a:xfrm>
              <a:off x="3801240" y="4749840"/>
              <a:ext cx="86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Network node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grpSp>
          <p:nvGrpSpPr>
            <p:cNvPr id="102" name="Group 27"/>
            <p:cNvGrpSpPr/>
            <p:nvPr/>
          </p:nvGrpSpPr>
          <p:grpSpPr>
            <a:xfrm>
              <a:off x="4937760" y="5340600"/>
              <a:ext cx="1669320" cy="576000"/>
              <a:chOff x="4937760" y="5340600"/>
              <a:chExt cx="1669320" cy="576000"/>
            </a:xfrm>
          </p:grpSpPr>
          <p:sp>
            <p:nvSpPr>
              <p:cNvPr id="103" name="Rectangle 32"/>
              <p:cNvSpPr/>
              <p:nvPr/>
            </p:nvSpPr>
            <p:spPr>
              <a:xfrm>
                <a:off x="4937760" y="5340600"/>
                <a:ext cx="1450440" cy="57600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04" name="TextBox 33"/>
              <p:cNvSpPr/>
              <p:nvPr/>
            </p:nvSpPr>
            <p:spPr>
              <a:xfrm>
                <a:off x="4992840" y="5467680"/>
                <a:ext cx="161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HEVC v1 decoder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cxnSp>
          <p:nvCxnSpPr>
            <p:cNvPr id="105" name="Straight Arrow Connector 28"/>
            <p:cNvCxnSpPr/>
            <p:nvPr/>
          </p:nvCxnSpPr>
          <p:spPr>
            <a:xfrm flipV="1">
              <a:off x="2971080" y="4951080"/>
              <a:ext cx="620640" cy="3448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  <a:tailEnd len="med" type="arrow" w="med"/>
            </a:ln>
          </p:spPr>
        </p:cxnSp>
        <p:cxnSp>
          <p:nvCxnSpPr>
            <p:cNvPr id="106" name="Straight Arrow Connector 29"/>
            <p:cNvCxnSpPr/>
            <p:nvPr/>
          </p:nvCxnSpPr>
          <p:spPr>
            <a:xfrm>
              <a:off x="4770000" y="4951440"/>
              <a:ext cx="614520" cy="3448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  <a:tailEnd len="med" type="arrow" w="med"/>
            </a:ln>
          </p:spPr>
        </p:cxnSp>
        <p:sp>
          <p:nvSpPr>
            <p:cNvPr id="107" name="TextBox 30"/>
            <p:cNvSpPr/>
            <p:nvPr/>
          </p:nvSpPr>
          <p:spPr>
            <a:xfrm>
              <a:off x="2767320" y="493416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Uplin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8" name="TextBox 31"/>
            <p:cNvSpPr/>
            <p:nvPr/>
          </p:nvSpPr>
          <p:spPr>
            <a:xfrm>
              <a:off x="5062680" y="493668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Downlin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6720" y="1118880"/>
            <a:ext cx="4176720" cy="52959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mulcast: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e several fidelities in the uplink and select the appropriate one for downlink to the end-point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calable coding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e several fidelities dependently in the uplink and extract appropriate NALs for the downlink to the end-point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ranscoding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e the highest fidelity in the uplink and decode and re-encode to lower fidelity if that is needed for downlink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Current possibilities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grpSp>
        <p:nvGrpSpPr>
          <p:cNvPr id="111" name="Group 1"/>
          <p:cNvGrpSpPr/>
          <p:nvPr/>
        </p:nvGrpSpPr>
        <p:grpSpPr>
          <a:xfrm>
            <a:off x="4653000" y="1577880"/>
            <a:ext cx="4641840" cy="1172880"/>
            <a:chOff x="4653000" y="1577880"/>
            <a:chExt cx="4641840" cy="1172880"/>
          </a:xfrm>
        </p:grpSpPr>
        <p:grpSp>
          <p:nvGrpSpPr>
            <p:cNvPr id="112" name="Group 5"/>
            <p:cNvGrpSpPr/>
            <p:nvPr/>
          </p:nvGrpSpPr>
          <p:grpSpPr>
            <a:xfrm>
              <a:off x="4663080" y="1577880"/>
              <a:ext cx="4631760" cy="1165680"/>
              <a:chOff x="4663080" y="1577880"/>
              <a:chExt cx="4631760" cy="116568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4663080" y="2166840"/>
                <a:ext cx="1529280" cy="576720"/>
                <a:chOff x="4663080" y="2166840"/>
                <a:chExt cx="1529280" cy="576720"/>
              </a:xfrm>
            </p:grpSpPr>
            <p:sp>
              <p:nvSpPr>
                <p:cNvPr id="114" name="Rectangle 16"/>
                <p:cNvSpPr/>
                <p:nvPr/>
              </p:nvSpPr>
              <p:spPr>
                <a:xfrm>
                  <a:off x="4690800" y="2166840"/>
                  <a:ext cx="1500480" cy="57672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115" name="TextBox 17"/>
                <p:cNvSpPr/>
                <p:nvPr/>
              </p:nvSpPr>
              <p:spPr>
                <a:xfrm>
                  <a:off x="4663080" y="2167560"/>
                  <a:ext cx="1529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HEVC high fidelity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7"/>
              <p:cNvSpPr/>
              <p:nvPr/>
            </p:nvSpPr>
            <p:spPr>
              <a:xfrm>
                <a:off x="6367320" y="1588680"/>
                <a:ext cx="985680" cy="47952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17" name="TextBox 8"/>
              <p:cNvSpPr/>
              <p:nvPr/>
            </p:nvSpPr>
            <p:spPr>
              <a:xfrm>
                <a:off x="6488280" y="1577880"/>
                <a:ext cx="86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Network node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grpSp>
            <p:nvGrpSpPr>
              <p:cNvPr id="118" name="Group 9"/>
              <p:cNvGrpSpPr/>
              <p:nvPr/>
            </p:nvGrpSpPr>
            <p:grpSpPr>
              <a:xfrm>
                <a:off x="7624800" y="2167920"/>
                <a:ext cx="1670040" cy="575640"/>
                <a:chOff x="7624800" y="2167920"/>
                <a:chExt cx="1670040" cy="575640"/>
              </a:xfrm>
            </p:grpSpPr>
            <p:sp>
              <p:nvSpPr>
                <p:cNvPr id="119" name="Rectangle 14"/>
                <p:cNvSpPr/>
                <p:nvPr/>
              </p:nvSpPr>
              <p:spPr>
                <a:xfrm>
                  <a:off x="7624800" y="2167920"/>
                  <a:ext cx="1451160" cy="57564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15"/>
                <p:cNvSpPr/>
                <p:nvPr/>
              </p:nvSpPr>
              <p:spPr>
                <a:xfrm>
                  <a:off x="7679520" y="2294640"/>
                  <a:ext cx="1615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HEVC v1 decoder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1" name="Straight Arrow Connector 10"/>
              <p:cNvCxnSpPr/>
              <p:nvPr/>
            </p:nvCxnSpPr>
            <p:spPr>
              <a:xfrm flipV="1">
                <a:off x="5657400" y="1778760"/>
                <a:ext cx="621000" cy="34452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cxnSp>
            <p:nvCxnSpPr>
              <p:cNvPr id="122" name="Straight Arrow Connector 11"/>
              <p:cNvCxnSpPr/>
              <p:nvPr/>
            </p:nvCxnSpPr>
            <p:spPr>
              <a:xfrm>
                <a:off x="7457760" y="1779120"/>
                <a:ext cx="614880" cy="34452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sp>
            <p:nvSpPr>
              <p:cNvPr id="123" name="TextBox 12"/>
              <p:cNvSpPr/>
              <p:nvPr/>
            </p:nvSpPr>
            <p:spPr>
              <a:xfrm>
                <a:off x="5399640" y="165276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Up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24" name="TextBox 13"/>
              <p:cNvSpPr/>
              <p:nvPr/>
            </p:nvSpPr>
            <p:spPr>
              <a:xfrm>
                <a:off x="7749720" y="1764360"/>
                <a:ext cx="79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Down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25" name="TextBox 18"/>
            <p:cNvSpPr/>
            <p:nvPr/>
          </p:nvSpPr>
          <p:spPr>
            <a:xfrm>
              <a:off x="4653000" y="2474280"/>
              <a:ext cx="16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HEVC low fidelity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26" name="Group 51"/>
          <p:cNvGrpSpPr/>
          <p:nvPr/>
        </p:nvGrpSpPr>
        <p:grpSpPr>
          <a:xfrm>
            <a:off x="4667400" y="5465880"/>
            <a:ext cx="4630680" cy="1166760"/>
            <a:chOff x="4667400" y="5465880"/>
            <a:chExt cx="4630680" cy="1166760"/>
          </a:xfrm>
        </p:grpSpPr>
        <p:grpSp>
          <p:nvGrpSpPr>
            <p:cNvPr id="127" name="Group 53"/>
            <p:cNvGrpSpPr/>
            <p:nvPr/>
          </p:nvGrpSpPr>
          <p:grpSpPr>
            <a:xfrm>
              <a:off x="4667400" y="6055560"/>
              <a:ext cx="1649520" cy="577080"/>
              <a:chOff x="4667400" y="6055560"/>
              <a:chExt cx="1649520" cy="577080"/>
            </a:xfrm>
          </p:grpSpPr>
          <p:sp>
            <p:nvSpPr>
              <p:cNvPr id="128" name="Rectangle 63"/>
              <p:cNvSpPr/>
              <p:nvPr/>
            </p:nvSpPr>
            <p:spPr>
              <a:xfrm>
                <a:off x="4695840" y="6055560"/>
                <a:ext cx="1500480" cy="57708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29" name="TextBox 64"/>
              <p:cNvSpPr/>
              <p:nvPr/>
            </p:nvSpPr>
            <p:spPr>
              <a:xfrm>
                <a:off x="4667400" y="6227640"/>
                <a:ext cx="164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HEVC high fidelity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30" name="Rectangle 54"/>
            <p:cNvSpPr/>
            <p:nvPr/>
          </p:nvSpPr>
          <p:spPr>
            <a:xfrm>
              <a:off x="6370560" y="5476680"/>
              <a:ext cx="985680" cy="480960"/>
            </a:xfrm>
            <a:prstGeom prst="rect">
              <a:avLst/>
            </a:prstGeom>
            <a:solidFill>
              <a:srgbClr val="eaf8c9"/>
            </a:solidFill>
            <a:ln w="1260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6492240" y="5465880"/>
              <a:ext cx="86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Network node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grpSp>
          <p:nvGrpSpPr>
            <p:cNvPr id="132" name="Group 56"/>
            <p:cNvGrpSpPr/>
            <p:nvPr/>
          </p:nvGrpSpPr>
          <p:grpSpPr>
            <a:xfrm>
              <a:off x="7629120" y="6056640"/>
              <a:ext cx="1668960" cy="576000"/>
              <a:chOff x="7629120" y="6056640"/>
              <a:chExt cx="1668960" cy="576000"/>
            </a:xfrm>
          </p:grpSpPr>
          <p:sp>
            <p:nvSpPr>
              <p:cNvPr id="133" name="Rectangle 61"/>
              <p:cNvSpPr/>
              <p:nvPr/>
            </p:nvSpPr>
            <p:spPr>
              <a:xfrm>
                <a:off x="7629120" y="6056640"/>
                <a:ext cx="1451520" cy="57600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34" name="TextBox 62"/>
              <p:cNvSpPr/>
              <p:nvPr/>
            </p:nvSpPr>
            <p:spPr>
              <a:xfrm>
                <a:off x="7669080" y="6183720"/>
                <a:ext cx="162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HEVC v1 decoder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cxnSp>
          <p:nvCxnSpPr>
            <p:cNvPr id="135" name="Straight Arrow Connector 57"/>
            <p:cNvCxnSpPr/>
            <p:nvPr/>
          </p:nvCxnSpPr>
          <p:spPr>
            <a:xfrm flipV="1">
              <a:off x="5661720" y="5667120"/>
              <a:ext cx="621000" cy="3448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  <a:tailEnd len="med" type="arrow" w="med"/>
            </a:ln>
          </p:spPr>
        </p:cxnSp>
        <p:cxnSp>
          <p:nvCxnSpPr>
            <p:cNvPr id="136" name="Straight Arrow Connector 58"/>
            <p:cNvCxnSpPr/>
            <p:nvPr/>
          </p:nvCxnSpPr>
          <p:spPr>
            <a:xfrm>
              <a:off x="7461360" y="5667480"/>
              <a:ext cx="614520" cy="3448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  <a:tailEnd len="med" type="arrow" w="med"/>
            </a:ln>
          </p:spPr>
        </p:cxnSp>
        <p:sp>
          <p:nvSpPr>
            <p:cNvPr id="137" name="TextBox 59"/>
            <p:cNvSpPr/>
            <p:nvPr/>
          </p:nvSpPr>
          <p:spPr>
            <a:xfrm>
              <a:off x="5403600" y="554076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Uplin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8" name="TextBox 60"/>
            <p:cNvSpPr/>
            <p:nvPr/>
          </p:nvSpPr>
          <p:spPr>
            <a:xfrm>
              <a:off x="7754040" y="565272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Downlin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39" name="Group 2"/>
          <p:cNvGrpSpPr/>
          <p:nvPr/>
        </p:nvGrpSpPr>
        <p:grpSpPr>
          <a:xfrm>
            <a:off x="4737240" y="3684600"/>
            <a:ext cx="4341600" cy="1166760"/>
            <a:chOff x="4737240" y="3684600"/>
            <a:chExt cx="4341600" cy="1166760"/>
          </a:xfrm>
        </p:grpSpPr>
        <p:grpSp>
          <p:nvGrpSpPr>
            <p:cNvPr id="140" name="Group 36"/>
            <p:cNvGrpSpPr/>
            <p:nvPr/>
          </p:nvGrpSpPr>
          <p:grpSpPr>
            <a:xfrm>
              <a:off x="4737960" y="3684600"/>
              <a:ext cx="4340880" cy="1166760"/>
              <a:chOff x="4737960" y="3684600"/>
              <a:chExt cx="4340880" cy="1166760"/>
            </a:xfrm>
          </p:grpSpPr>
          <p:grpSp>
            <p:nvGrpSpPr>
              <p:cNvPr id="141" name="Group 38"/>
              <p:cNvGrpSpPr/>
              <p:nvPr/>
            </p:nvGrpSpPr>
            <p:grpSpPr>
              <a:xfrm>
                <a:off x="4737960" y="4274280"/>
                <a:ext cx="1649160" cy="577080"/>
                <a:chOff x="4737960" y="4274280"/>
                <a:chExt cx="1649160" cy="577080"/>
              </a:xfrm>
            </p:grpSpPr>
            <p:sp>
              <p:nvSpPr>
                <p:cNvPr id="142" name="Rectangle 48"/>
                <p:cNvSpPr/>
                <p:nvPr/>
              </p:nvSpPr>
              <p:spPr>
                <a:xfrm>
                  <a:off x="4776480" y="4274280"/>
                  <a:ext cx="1417680" cy="57708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143" name="TextBox 49"/>
                <p:cNvSpPr/>
                <p:nvPr/>
              </p:nvSpPr>
              <p:spPr>
                <a:xfrm>
                  <a:off x="4737960" y="4555080"/>
                  <a:ext cx="164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Layer 0: low fidelity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Rectangle 39"/>
              <p:cNvSpPr/>
              <p:nvPr/>
            </p:nvSpPr>
            <p:spPr>
              <a:xfrm>
                <a:off x="6370560" y="3695400"/>
                <a:ext cx="985680" cy="48096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45" name="TextBox 40"/>
              <p:cNvSpPr/>
              <p:nvPr/>
            </p:nvSpPr>
            <p:spPr>
              <a:xfrm>
                <a:off x="6491160" y="3684600"/>
                <a:ext cx="86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Network node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46" name="Rectangle 46"/>
              <p:cNvSpPr/>
              <p:nvPr/>
            </p:nvSpPr>
            <p:spPr>
              <a:xfrm>
                <a:off x="7628040" y="4275000"/>
                <a:ext cx="1450800" cy="57636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cxnSp>
            <p:nvCxnSpPr>
              <p:cNvPr id="147" name="Straight Arrow Connector 42"/>
              <p:cNvCxnSpPr/>
              <p:nvPr/>
            </p:nvCxnSpPr>
            <p:spPr>
              <a:xfrm flipV="1">
                <a:off x="5661000" y="3885840"/>
                <a:ext cx="620640" cy="34488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3"/>
              <p:cNvCxnSpPr/>
              <p:nvPr/>
            </p:nvCxnSpPr>
            <p:spPr>
              <a:xfrm>
                <a:off x="7459920" y="3886200"/>
                <a:ext cx="614520" cy="34488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sp>
            <p:nvSpPr>
              <p:cNvPr id="149" name="TextBox 44"/>
              <p:cNvSpPr/>
              <p:nvPr/>
            </p:nvSpPr>
            <p:spPr>
              <a:xfrm>
                <a:off x="5402520" y="375948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Up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50" name="TextBox 45"/>
              <p:cNvSpPr/>
              <p:nvPr/>
            </p:nvSpPr>
            <p:spPr>
              <a:xfrm>
                <a:off x="7752600" y="3871440"/>
                <a:ext cx="79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Down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51" name="TextBox 65"/>
            <p:cNvSpPr/>
            <p:nvPr/>
          </p:nvSpPr>
          <p:spPr>
            <a:xfrm>
              <a:off x="4737240" y="4307040"/>
              <a:ext cx="163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Layer 1: high fidelity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52" name="TextBox 67"/>
          <p:cNvSpPr/>
          <p:nvPr/>
        </p:nvSpPr>
        <p:spPr>
          <a:xfrm>
            <a:off x="7669080" y="4307040"/>
            <a:ext cx="16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HEVC v1 decoder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or low fidelity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6360" y="1325160"/>
            <a:ext cx="4380120" cy="5170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174240" indent="-1742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mulcast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o overhead in the downlink but will give significant overhead for independent coding of fidelities in the uplink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calable coding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educes overhead in the uplink compared to simulcast but only the low fidelity can be decoded by a HEVC version 1 decoder so transcoding is needed for other fidelities. The highest fidelity of the scalable bitstream has already before transcoding a significant overhead compared to single layer coding. Do not fit the use case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ranscoding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uplink can be coded very efficiently also the downlink if the highest fidelity is selected. To derive a coding efficient low fidelity bitstream requires significant computations in the network node.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SUITABILITY of current possibilites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4653000" y="1577880"/>
            <a:ext cx="4641840" cy="1172880"/>
            <a:chOff x="4653000" y="1577880"/>
            <a:chExt cx="4641840" cy="1172880"/>
          </a:xfrm>
        </p:grpSpPr>
        <p:grpSp>
          <p:nvGrpSpPr>
            <p:cNvPr id="156" name="Group 5"/>
            <p:cNvGrpSpPr/>
            <p:nvPr/>
          </p:nvGrpSpPr>
          <p:grpSpPr>
            <a:xfrm>
              <a:off x="4663080" y="1577880"/>
              <a:ext cx="4631760" cy="1165680"/>
              <a:chOff x="4663080" y="1577880"/>
              <a:chExt cx="4631760" cy="1165680"/>
            </a:xfrm>
          </p:grpSpPr>
          <p:grpSp>
            <p:nvGrpSpPr>
              <p:cNvPr id="157" name="Group 6"/>
              <p:cNvGrpSpPr/>
              <p:nvPr/>
            </p:nvGrpSpPr>
            <p:grpSpPr>
              <a:xfrm>
                <a:off x="4663080" y="2166840"/>
                <a:ext cx="1529280" cy="576720"/>
                <a:chOff x="4663080" y="2166840"/>
                <a:chExt cx="1529280" cy="576720"/>
              </a:xfrm>
            </p:grpSpPr>
            <p:sp>
              <p:nvSpPr>
                <p:cNvPr id="158" name="Rectangle 16"/>
                <p:cNvSpPr/>
                <p:nvPr/>
              </p:nvSpPr>
              <p:spPr>
                <a:xfrm>
                  <a:off x="4690800" y="2166840"/>
                  <a:ext cx="1500480" cy="57672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159" name="TextBox 17"/>
                <p:cNvSpPr/>
                <p:nvPr/>
              </p:nvSpPr>
              <p:spPr>
                <a:xfrm>
                  <a:off x="4663080" y="2167560"/>
                  <a:ext cx="1529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HEVC high fidelity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7"/>
              <p:cNvSpPr/>
              <p:nvPr/>
            </p:nvSpPr>
            <p:spPr>
              <a:xfrm>
                <a:off x="6367320" y="1588680"/>
                <a:ext cx="985680" cy="47952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61" name="TextBox 8"/>
              <p:cNvSpPr/>
              <p:nvPr/>
            </p:nvSpPr>
            <p:spPr>
              <a:xfrm>
                <a:off x="6488280" y="1577880"/>
                <a:ext cx="86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Network node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grpSp>
            <p:nvGrpSpPr>
              <p:cNvPr id="162" name="Group 9"/>
              <p:cNvGrpSpPr/>
              <p:nvPr/>
            </p:nvGrpSpPr>
            <p:grpSpPr>
              <a:xfrm>
                <a:off x="7624800" y="2167920"/>
                <a:ext cx="1670040" cy="575640"/>
                <a:chOff x="7624800" y="2167920"/>
                <a:chExt cx="1670040" cy="575640"/>
              </a:xfrm>
            </p:grpSpPr>
            <p:sp>
              <p:nvSpPr>
                <p:cNvPr id="163" name="Rectangle 14"/>
                <p:cNvSpPr/>
                <p:nvPr/>
              </p:nvSpPr>
              <p:spPr>
                <a:xfrm>
                  <a:off x="7624800" y="2167920"/>
                  <a:ext cx="1451160" cy="57564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164" name="TextBox 15"/>
                <p:cNvSpPr/>
                <p:nvPr/>
              </p:nvSpPr>
              <p:spPr>
                <a:xfrm>
                  <a:off x="7679520" y="2294640"/>
                  <a:ext cx="1615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HEVC v1 decoder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65" name="Straight Arrow Connector 10"/>
              <p:cNvCxnSpPr/>
              <p:nvPr/>
            </p:nvCxnSpPr>
            <p:spPr>
              <a:xfrm flipV="1">
                <a:off x="5657400" y="1778760"/>
                <a:ext cx="621000" cy="34452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cxnSp>
            <p:nvCxnSpPr>
              <p:cNvPr id="166" name="Straight Arrow Connector 11"/>
              <p:cNvCxnSpPr/>
              <p:nvPr/>
            </p:nvCxnSpPr>
            <p:spPr>
              <a:xfrm>
                <a:off x="7457760" y="1779120"/>
                <a:ext cx="614880" cy="34452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sp>
            <p:nvSpPr>
              <p:cNvPr id="167" name="TextBox 12"/>
              <p:cNvSpPr/>
              <p:nvPr/>
            </p:nvSpPr>
            <p:spPr>
              <a:xfrm>
                <a:off x="5399640" y="165276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Up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68" name="TextBox 13"/>
              <p:cNvSpPr/>
              <p:nvPr/>
            </p:nvSpPr>
            <p:spPr>
              <a:xfrm>
                <a:off x="7749720" y="1764360"/>
                <a:ext cx="79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Down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69" name="TextBox 18"/>
            <p:cNvSpPr/>
            <p:nvPr/>
          </p:nvSpPr>
          <p:spPr>
            <a:xfrm>
              <a:off x="4653000" y="2474280"/>
              <a:ext cx="16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HEVC low fidelity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70" name="Group 51"/>
          <p:cNvGrpSpPr/>
          <p:nvPr/>
        </p:nvGrpSpPr>
        <p:grpSpPr>
          <a:xfrm>
            <a:off x="4667400" y="5465880"/>
            <a:ext cx="4630680" cy="1166760"/>
            <a:chOff x="4667400" y="5465880"/>
            <a:chExt cx="4630680" cy="1166760"/>
          </a:xfrm>
        </p:grpSpPr>
        <p:grpSp>
          <p:nvGrpSpPr>
            <p:cNvPr id="171" name="Group 53"/>
            <p:cNvGrpSpPr/>
            <p:nvPr/>
          </p:nvGrpSpPr>
          <p:grpSpPr>
            <a:xfrm>
              <a:off x="4667400" y="6055560"/>
              <a:ext cx="1649520" cy="577080"/>
              <a:chOff x="4667400" y="6055560"/>
              <a:chExt cx="1649520" cy="577080"/>
            </a:xfrm>
          </p:grpSpPr>
          <p:sp>
            <p:nvSpPr>
              <p:cNvPr id="172" name="Rectangle 63"/>
              <p:cNvSpPr/>
              <p:nvPr/>
            </p:nvSpPr>
            <p:spPr>
              <a:xfrm>
                <a:off x="4695840" y="6055560"/>
                <a:ext cx="1500480" cy="57708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73" name="TextBox 64"/>
              <p:cNvSpPr/>
              <p:nvPr/>
            </p:nvSpPr>
            <p:spPr>
              <a:xfrm>
                <a:off x="4667400" y="6227640"/>
                <a:ext cx="164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HEVC high fidelity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74" name="Rectangle 54"/>
            <p:cNvSpPr/>
            <p:nvPr/>
          </p:nvSpPr>
          <p:spPr>
            <a:xfrm>
              <a:off x="6370560" y="5476680"/>
              <a:ext cx="985680" cy="480960"/>
            </a:xfrm>
            <a:prstGeom prst="rect">
              <a:avLst/>
            </a:prstGeom>
            <a:solidFill>
              <a:srgbClr val="eaf8c9"/>
            </a:solidFill>
            <a:ln w="1260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5" name="TextBox 55"/>
            <p:cNvSpPr/>
            <p:nvPr/>
          </p:nvSpPr>
          <p:spPr>
            <a:xfrm>
              <a:off x="6492240" y="5465880"/>
              <a:ext cx="86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Network node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grpSp>
          <p:nvGrpSpPr>
            <p:cNvPr id="176" name="Group 56"/>
            <p:cNvGrpSpPr/>
            <p:nvPr/>
          </p:nvGrpSpPr>
          <p:grpSpPr>
            <a:xfrm>
              <a:off x="7629120" y="6056640"/>
              <a:ext cx="1668960" cy="576000"/>
              <a:chOff x="7629120" y="6056640"/>
              <a:chExt cx="1668960" cy="576000"/>
            </a:xfrm>
          </p:grpSpPr>
          <p:sp>
            <p:nvSpPr>
              <p:cNvPr id="177" name="Rectangle 61"/>
              <p:cNvSpPr/>
              <p:nvPr/>
            </p:nvSpPr>
            <p:spPr>
              <a:xfrm>
                <a:off x="7629120" y="6056640"/>
                <a:ext cx="1451520" cy="57600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78" name="TextBox 62"/>
              <p:cNvSpPr/>
              <p:nvPr/>
            </p:nvSpPr>
            <p:spPr>
              <a:xfrm>
                <a:off x="7669080" y="6183720"/>
                <a:ext cx="162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HEVC v1 decoder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cxnSp>
          <p:nvCxnSpPr>
            <p:cNvPr id="179" name="Straight Arrow Connector 57"/>
            <p:cNvCxnSpPr/>
            <p:nvPr/>
          </p:nvCxnSpPr>
          <p:spPr>
            <a:xfrm flipV="1">
              <a:off x="5661720" y="5667120"/>
              <a:ext cx="621000" cy="3448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  <a:tailEnd len="med" type="arrow" w="med"/>
            </a:ln>
          </p:spPr>
        </p:cxnSp>
        <p:cxnSp>
          <p:nvCxnSpPr>
            <p:cNvPr id="180" name="Straight Arrow Connector 58"/>
            <p:cNvCxnSpPr/>
            <p:nvPr/>
          </p:nvCxnSpPr>
          <p:spPr>
            <a:xfrm>
              <a:off x="7461360" y="5667480"/>
              <a:ext cx="614520" cy="3448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  <a:tailEnd len="med" type="arrow" w="med"/>
            </a:ln>
          </p:spPr>
        </p:cxnSp>
        <p:sp>
          <p:nvSpPr>
            <p:cNvPr id="181" name="TextBox 59"/>
            <p:cNvSpPr/>
            <p:nvPr/>
          </p:nvSpPr>
          <p:spPr>
            <a:xfrm>
              <a:off x="5403600" y="554076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Uplin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2" name="TextBox 60"/>
            <p:cNvSpPr/>
            <p:nvPr/>
          </p:nvSpPr>
          <p:spPr>
            <a:xfrm>
              <a:off x="7754040" y="565272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Downlin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83" name="Group 2"/>
          <p:cNvGrpSpPr/>
          <p:nvPr/>
        </p:nvGrpSpPr>
        <p:grpSpPr>
          <a:xfrm>
            <a:off x="4737240" y="3684600"/>
            <a:ext cx="4341600" cy="1166760"/>
            <a:chOff x="4737240" y="3684600"/>
            <a:chExt cx="4341600" cy="1166760"/>
          </a:xfrm>
        </p:grpSpPr>
        <p:grpSp>
          <p:nvGrpSpPr>
            <p:cNvPr id="184" name="Group 36"/>
            <p:cNvGrpSpPr/>
            <p:nvPr/>
          </p:nvGrpSpPr>
          <p:grpSpPr>
            <a:xfrm>
              <a:off x="4737960" y="3684600"/>
              <a:ext cx="4340880" cy="1166760"/>
              <a:chOff x="4737960" y="3684600"/>
              <a:chExt cx="4340880" cy="116676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4737960" y="4274280"/>
                <a:ext cx="1649160" cy="577080"/>
                <a:chOff x="4737960" y="4274280"/>
                <a:chExt cx="1649160" cy="577080"/>
              </a:xfrm>
            </p:grpSpPr>
            <p:sp>
              <p:nvSpPr>
                <p:cNvPr id="186" name="Rectangle 48"/>
                <p:cNvSpPr/>
                <p:nvPr/>
              </p:nvSpPr>
              <p:spPr>
                <a:xfrm>
                  <a:off x="4776480" y="4274280"/>
                  <a:ext cx="1417680" cy="57708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187" name="TextBox 49"/>
                <p:cNvSpPr/>
                <p:nvPr/>
              </p:nvSpPr>
              <p:spPr>
                <a:xfrm>
                  <a:off x="4737960" y="4555080"/>
                  <a:ext cx="164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Layer 0: low fidelity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Rectangle 39"/>
              <p:cNvSpPr/>
              <p:nvPr/>
            </p:nvSpPr>
            <p:spPr>
              <a:xfrm>
                <a:off x="6370560" y="3695400"/>
                <a:ext cx="985680" cy="48096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89" name="TextBox 40"/>
              <p:cNvSpPr/>
              <p:nvPr/>
            </p:nvSpPr>
            <p:spPr>
              <a:xfrm>
                <a:off x="6491160" y="3684600"/>
                <a:ext cx="86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Network node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90" name="Rectangle 46"/>
              <p:cNvSpPr/>
              <p:nvPr/>
            </p:nvSpPr>
            <p:spPr>
              <a:xfrm>
                <a:off x="7628040" y="4275000"/>
                <a:ext cx="1450800" cy="57636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cxnSp>
            <p:nvCxnSpPr>
              <p:cNvPr id="191" name="Straight Arrow Connector 42"/>
              <p:cNvCxnSpPr/>
              <p:nvPr/>
            </p:nvCxnSpPr>
            <p:spPr>
              <a:xfrm flipV="1">
                <a:off x="5661000" y="3885840"/>
                <a:ext cx="620640" cy="34488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cxnSp>
            <p:nvCxnSpPr>
              <p:cNvPr id="192" name="Straight Arrow Connector 43"/>
              <p:cNvCxnSpPr/>
              <p:nvPr/>
            </p:nvCxnSpPr>
            <p:spPr>
              <a:xfrm>
                <a:off x="7459920" y="3886200"/>
                <a:ext cx="614520" cy="34488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sp>
            <p:nvSpPr>
              <p:cNvPr id="193" name="TextBox 44"/>
              <p:cNvSpPr/>
              <p:nvPr/>
            </p:nvSpPr>
            <p:spPr>
              <a:xfrm>
                <a:off x="5402520" y="375948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Up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94" name="TextBox 45"/>
              <p:cNvSpPr/>
              <p:nvPr/>
            </p:nvSpPr>
            <p:spPr>
              <a:xfrm>
                <a:off x="7752600" y="3871440"/>
                <a:ext cx="79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Down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195" name="TextBox 65"/>
            <p:cNvSpPr/>
            <p:nvPr/>
          </p:nvSpPr>
          <p:spPr>
            <a:xfrm>
              <a:off x="4737240" y="4307040"/>
              <a:ext cx="163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Layer 1: high fidelity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96" name="TextBox 67"/>
          <p:cNvSpPr/>
          <p:nvPr/>
        </p:nvSpPr>
        <p:spPr>
          <a:xfrm>
            <a:off x="7669080" y="4307040"/>
            <a:ext cx="16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HEVC v1 decoder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or low fidelity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ncode the high fidelity in the base layer of SHV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ncode the low fidelity in a higher layer of SHV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Generate transform coefficients in low fidelity layers with dependency to the highest fidelity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hen a new dependency type is signalled in VPS apply transformation and quantization before the normal decoding process of transform coefficients in a low fidelity layer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Proposal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2155680" y="4478400"/>
            <a:ext cx="4641840" cy="1172880"/>
            <a:chOff x="2155680" y="4478400"/>
            <a:chExt cx="4641840" cy="1172880"/>
          </a:xfrm>
        </p:grpSpPr>
        <p:grpSp>
          <p:nvGrpSpPr>
            <p:cNvPr id="200" name="Group 4"/>
            <p:cNvGrpSpPr/>
            <p:nvPr/>
          </p:nvGrpSpPr>
          <p:grpSpPr>
            <a:xfrm>
              <a:off x="2165760" y="4478400"/>
              <a:ext cx="4631760" cy="1165680"/>
              <a:chOff x="2165760" y="4478400"/>
              <a:chExt cx="4631760" cy="1165680"/>
            </a:xfrm>
          </p:grpSpPr>
          <p:grpSp>
            <p:nvGrpSpPr>
              <p:cNvPr id="201" name="Group 6"/>
              <p:cNvGrpSpPr/>
              <p:nvPr/>
            </p:nvGrpSpPr>
            <p:grpSpPr>
              <a:xfrm>
                <a:off x="2165760" y="5067360"/>
                <a:ext cx="1529280" cy="576720"/>
                <a:chOff x="2165760" y="5067360"/>
                <a:chExt cx="1529280" cy="576720"/>
              </a:xfrm>
            </p:grpSpPr>
            <p:sp>
              <p:nvSpPr>
                <p:cNvPr id="202" name="Rectangle 16"/>
                <p:cNvSpPr/>
                <p:nvPr/>
              </p:nvSpPr>
              <p:spPr>
                <a:xfrm>
                  <a:off x="2193480" y="5067360"/>
                  <a:ext cx="1500480" cy="57672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203" name="TextBox 17"/>
                <p:cNvSpPr/>
                <p:nvPr/>
              </p:nvSpPr>
              <p:spPr>
                <a:xfrm>
                  <a:off x="2165760" y="5102280"/>
                  <a:ext cx="1529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Layer 1: low fidelity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7"/>
              <p:cNvSpPr/>
              <p:nvPr/>
            </p:nvSpPr>
            <p:spPr>
              <a:xfrm>
                <a:off x="3870000" y="4489200"/>
                <a:ext cx="985680" cy="479520"/>
              </a:xfrm>
              <a:prstGeom prst="rect">
                <a:avLst/>
              </a:prstGeom>
              <a:solidFill>
                <a:srgbClr val="eaf8c9"/>
              </a:solidFill>
              <a:ln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46800" bIns="46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205" name="TextBox 8"/>
              <p:cNvSpPr/>
              <p:nvPr/>
            </p:nvSpPr>
            <p:spPr>
              <a:xfrm>
                <a:off x="3990960" y="4478400"/>
                <a:ext cx="86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Network node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grpSp>
            <p:nvGrpSpPr>
              <p:cNvPr id="206" name="Group 9"/>
              <p:cNvGrpSpPr/>
              <p:nvPr/>
            </p:nvGrpSpPr>
            <p:grpSpPr>
              <a:xfrm>
                <a:off x="5127480" y="5068440"/>
                <a:ext cx="1670040" cy="575640"/>
                <a:chOff x="5127480" y="5068440"/>
                <a:chExt cx="1670040" cy="575640"/>
              </a:xfrm>
            </p:grpSpPr>
            <p:sp>
              <p:nvSpPr>
                <p:cNvPr id="207" name="Rectangle 14"/>
                <p:cNvSpPr/>
                <p:nvPr/>
              </p:nvSpPr>
              <p:spPr>
                <a:xfrm>
                  <a:off x="5127480" y="5068440"/>
                  <a:ext cx="1451160" cy="575640"/>
                </a:xfrm>
                <a:prstGeom prst="rect">
                  <a:avLst/>
                </a:prstGeom>
                <a:solidFill>
                  <a:srgbClr val="eaf8c9"/>
                </a:solidFill>
                <a:ln w="12600">
                  <a:solidFill>
                    <a:srgbClr val="585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46800" bIns="46800" anchor="t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  <p:sp>
              <p:nvSpPr>
                <p:cNvPr id="208" name="TextBox 15"/>
                <p:cNvSpPr/>
                <p:nvPr/>
              </p:nvSpPr>
              <p:spPr>
                <a:xfrm>
                  <a:off x="5182200" y="5195160"/>
                  <a:ext cx="1615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8585a"/>
                      </a:solidFill>
                      <a:latin typeface="Arial"/>
                    </a:rPr>
                    <a:t>HEVC v1 decoder</a:t>
                  </a:r>
                  <a:endParaRPr b="0" lang="en-US" sz="1200" spc="-1" strike="noStrike">
                    <a:solidFill>
                      <a:srgbClr val="58585a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09" name="Straight Arrow Connector 10"/>
              <p:cNvCxnSpPr/>
              <p:nvPr/>
            </p:nvCxnSpPr>
            <p:spPr>
              <a:xfrm flipV="1">
                <a:off x="3160080" y="4679280"/>
                <a:ext cx="621000" cy="34452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cxnSp>
            <p:nvCxnSpPr>
              <p:cNvPr id="210" name="Straight Arrow Connector 11"/>
              <p:cNvCxnSpPr/>
              <p:nvPr/>
            </p:nvCxnSpPr>
            <p:spPr>
              <a:xfrm>
                <a:off x="4960440" y="4679640"/>
                <a:ext cx="614880" cy="344520"/>
              </a:xfrm>
              <a:prstGeom prst="straightConnector1">
                <a:avLst/>
              </a:prstGeom>
              <a:ln w="12600">
                <a:solidFill>
                  <a:srgbClr val="58585a"/>
                </a:solidFill>
                <a:miter/>
                <a:tailEnd len="med" type="arrow" w="med"/>
              </a:ln>
            </p:spPr>
          </p:cxnSp>
          <p:sp>
            <p:nvSpPr>
              <p:cNvPr id="211" name="TextBox 12"/>
              <p:cNvSpPr/>
              <p:nvPr/>
            </p:nvSpPr>
            <p:spPr>
              <a:xfrm>
                <a:off x="2902320" y="455328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Up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212" name="TextBox 13"/>
              <p:cNvSpPr/>
              <p:nvPr/>
            </p:nvSpPr>
            <p:spPr>
              <a:xfrm>
                <a:off x="5252400" y="4664880"/>
                <a:ext cx="79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8585a"/>
                    </a:solidFill>
                    <a:latin typeface="Arial"/>
                  </a:rPr>
                  <a:t>Downlink</a:t>
                </a:r>
                <a:endParaRPr b="0" lang="en-US" sz="12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sp>
          <p:nvSpPr>
            <p:cNvPr id="213" name="TextBox 5"/>
            <p:cNvSpPr/>
            <p:nvPr/>
          </p:nvSpPr>
          <p:spPr>
            <a:xfrm>
              <a:off x="2155680" y="5374800"/>
              <a:ext cx="16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Layer 0: high fidelity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Overview of Decoding process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573120" y="1951200"/>
          <a:ext cx="798840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951200"/>
                    <a:ext cx="79884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720" y="128124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lvl="1"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n difference to traditional transcoding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ding parameters for the low fidelity is estimated before sent to the transcoder and provided as a layer of a scalable bitstream.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ode and motion estimation can be performed using the original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coding efficiency of the low fidelity can be controlled before transcoding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hen bitstream reach the network node instead of traditional transcoding a transcoder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ecode the low fidelity layer with reference to the highest fidelity lay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53496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code a low fidelity single layer bitstream re-using coding parameters of the decoded low fidelity layer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6360" y="194760"/>
            <a:ext cx="7494840" cy="1086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enefits of the proposal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EAB/TVV Kenneth Andersson</dc:creator>
  <dc:description>Rev PA1</dc:description>
  <dc:language>en-US</dc:language>
  <cp:lastModifiedBy>Kenneth Andersson R</cp:lastModifiedBy>
  <dcterms:modified xsi:type="dcterms:W3CDTF">2013-10-26T15:44:55Z</dcterms:modified>
  <cp:revision>305</cp:revision>
  <dc:subject/>
  <dc:title>Transcoding-friendly Scalable video coding  (JCTVC-O0127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3-10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603</vt:lpwstr>
  </property>
  <property fmtid="{D5CDD505-2E9C-101B-9397-08002B2CF9AE}" pid="15" name="PackageVersion">
    <vt:lpwstr>R3A</vt:lpwstr>
  </property>
  <property fmtid="{D5CDD505-2E9C-101B-9397-08002B2CF9AE}" pid="16" name="Pages">
    <vt:bool>1</vt:bool>
  </property>
  <property fmtid="{D5CDD505-2E9C-101B-9397-08002B2CF9AE}" pid="17" name="Prepared">
    <vt:lpwstr>EAB/TVV Kenneth Andersso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3-10-1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3 2731/1</vt:lpwstr>
  </property>
  <property fmtid="{D5CDD505-2E9C-101B-9397-08002B2CF9AE}" pid="24" name="TemplateName2">
    <vt:lpwstr>CXC 173 2731/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