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0924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3760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52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0924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63760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38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0924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63760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8052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0924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63760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38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00924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3760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38052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00924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63760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38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3840" cy="14493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 Bold"/>
              </a:rPr>
              <a:t>Click to edit the title text format</a:t>
            </a:r>
            <a:endParaRPr b="0" lang="en-US" sz="41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3887280"/>
            <a:ext cx="6400800" cy="2171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62000"/>
          </a:bodyPr>
          <a:p>
            <a:pPr marL="244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24480" indent="-244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24480" indent="-244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2708c"/>
                </a:solidFill>
                <a:latin typeface="Arial Bold"/>
              </a:rPr>
              <a:t>Click to edit the title text format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20600" indent="-20304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5600" indent="-20160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33480" indent="-203040">
              <a:spcBef>
                <a:spcPts val="400"/>
              </a:spcBef>
              <a:buClr>
                <a:srgbClr val="6270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801720" y="6480000"/>
            <a:ext cx="4648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116280" tIns="63360" bIns="63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3"/>
          <a:stretch/>
        </p:blipFill>
        <p:spPr>
          <a:xfrm>
            <a:off x="193680" y="655308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5"/>
          <p:cNvSpPr/>
          <p:nvPr/>
        </p:nvSpPr>
        <p:spPr>
          <a:xfrm>
            <a:off x="7404120" y="6534000"/>
            <a:ext cx="17524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 BBC MMXII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"/>
          <p:cNvSpPr/>
          <p:nvPr/>
        </p:nvSpPr>
        <p:spPr>
          <a:xfrm>
            <a:off x="304920" y="762120"/>
            <a:ext cx="8535960" cy="144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3492360" y="6526080"/>
            <a:ext cx="175284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CTVC-N03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2708c"/>
                </a:solidFill>
                <a:latin typeface="Arial Bold"/>
              </a:rPr>
              <a:t>Click to edit the title text format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20600" indent="-20304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5600" indent="-20160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33480" indent="-203040">
              <a:spcBef>
                <a:spcPts val="400"/>
              </a:spcBef>
              <a:buClr>
                <a:srgbClr val="6270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828720" y="3887640"/>
            <a:ext cx="77760" cy="4572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801720" y="6480000"/>
            <a:ext cx="4648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116280" tIns="63360" bIns="63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2"/>
          <a:stretch/>
        </p:blipFill>
        <p:spPr>
          <a:xfrm>
            <a:off x="193680" y="655308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6"/>
          <p:cNvSpPr/>
          <p:nvPr/>
        </p:nvSpPr>
        <p:spPr>
          <a:xfrm>
            <a:off x="7404120" y="6534000"/>
            <a:ext cx="17524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 BBC MMXII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2000" y="1270080"/>
            <a:ext cx="8712360" cy="2185920"/>
          </a:xfrm>
          <a:prstGeom prst="rect">
            <a:avLst/>
          </a:prstGeom>
          <a:noFill/>
          <a:ln w="0">
            <a:noFill/>
          </a:ln>
        </p:spPr>
        <p:txBody>
          <a:bodyPr lIns="38160" rIns="124560" tIns="38160" bIns="38160" anchor="ctr">
            <a:noAutofit/>
          </a:bodyPr>
          <a:p>
            <a:pPr marL="42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Bold"/>
              </a:rPr>
              <a:t>JCTVC-N0354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 Bold"/>
              </a:rPr>
              <a:t>Non-RCE2: Results for combination of mirroring of non-transformed residual blocks (Test B.3) with other methods</a:t>
            </a:r>
            <a:endParaRPr b="0" lang="en-US" sz="24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99640" y="3849840"/>
            <a:ext cx="8231400" cy="2171520"/>
          </a:xfrm>
          <a:prstGeom prst="rect">
            <a:avLst/>
          </a:prstGeom>
          <a:noFill/>
          <a:ln w="0">
            <a:noFill/>
          </a:ln>
        </p:spPr>
        <p:txBody>
          <a:bodyPr lIns="50760" rIns="36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Rajitha Weerakkody, Matteo Naccari and Marta Mrak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BBC Research and Developmen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2708c"/>
                </a:solidFill>
                <a:latin typeface="Arial Bold"/>
              </a:rPr>
              <a:t>Combination of proposals from RCE2 and 8x8 TS</a:t>
            </a:r>
            <a:endParaRPr b="0" lang="en-US" sz="24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80520" y="1294920"/>
            <a:ext cx="8440920" cy="5015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Mirroring of non-transformed residual blocks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For non-transformed blocks of size 4×4 only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For non-transformed blocks of size up to 8×8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Replacement of Intra DC mode (JCTVC-N0053)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Extension of RDPCM to inter and lossy (JCTVC-N0083)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Rice Parameter update and initialization (JCTVC-N0222)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Setting: Applied to transform and transform skip &amp; max Rice equal to 5 with fast updat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Extension of transform skip to 8×8 (JCTVC-N0288)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Setting: Fast encoder metho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-27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2708c"/>
                </a:solidFill>
                <a:latin typeface="Arial Bold"/>
              </a:rPr>
              <a:t>Results</a:t>
            </a:r>
            <a:br>
              <a:rPr sz="2000"/>
            </a:br>
            <a:r>
              <a:rPr b="0" lang="en-GB" sz="2000" spc="-1" strike="noStrike">
                <a:solidFill>
                  <a:srgbClr val="62708c"/>
                </a:solidFill>
                <a:latin typeface="Arial Bold"/>
              </a:rPr>
              <a:t>Lossless coding (mirroring on 4x4 blocks only)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981080" y="1773360"/>
          <a:ext cx="4826160" cy="3179520"/>
        </p:xfrm>
        <a:graphic>
          <a:graphicData uri="http://schemas.openxmlformats.org/drawingml/2006/table">
            <a:tbl>
              <a:tblPr/>
              <a:tblGrid>
                <a:gridCol w="1206720"/>
                <a:gridCol w="1206360"/>
                <a:gridCol w="1206720"/>
                <a:gridCol w="1206360"/>
              </a:tblGrid>
              <a:tr h="500040">
                <a:tc>
                  <a:txBody>
                    <a:bodyPr lIns="17640" rIns="17640" tIns="936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936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M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936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M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936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M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17640" rIns="17640" tIns="936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17640" rIns="17640" tIns="936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17640" rIns="17640" tIns="936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 RGB 4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6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5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6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17640" rIns="17640" tIns="936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 YUV 4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1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2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3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17640" rIns="17640" tIns="936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e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17640" rIns="17640" tIns="936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17640" rIns="17640" tIns="936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2708c"/>
                </a:solidFill>
                <a:latin typeface="Arial Bold"/>
              </a:rPr>
              <a:t>Results</a:t>
            </a:r>
            <a:br>
              <a:rPr sz="2400"/>
            </a:br>
            <a:r>
              <a:rPr b="0" lang="en-GB" sz="2400" spc="-1" strike="noStrike">
                <a:solidFill>
                  <a:srgbClr val="62708c"/>
                </a:solidFill>
                <a:latin typeface="Arial Bold"/>
              </a:rPr>
              <a:t>Mirroring for 4x4 blocks</a:t>
            </a:r>
            <a:br>
              <a:rPr sz="2400"/>
            </a:br>
            <a:endParaRPr b="0" lang="en-US" sz="2400" spc="-1" strike="noStrike">
              <a:solidFill>
                <a:srgbClr val="62708c"/>
              </a:solidFill>
              <a:latin typeface="Arial Bold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900000" y="839880"/>
          <a:ext cx="7747200" cy="5470560"/>
        </p:xfrm>
        <a:graphic>
          <a:graphicData uri="http://schemas.openxmlformats.org/drawingml/2006/table">
            <a:tbl>
              <a:tblPr/>
              <a:tblGrid>
                <a:gridCol w="928800"/>
                <a:gridCol w="757080"/>
                <a:gridCol w="757440"/>
                <a:gridCol w="758880"/>
                <a:gridCol w="757080"/>
                <a:gridCol w="757440"/>
                <a:gridCol w="757080"/>
                <a:gridCol w="758880"/>
                <a:gridCol w="757080"/>
                <a:gridCol w="757440"/>
              </a:tblGrid>
              <a:tr h="183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HE Main-ti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HE High-ti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HE Super-High-ti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84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 RGB 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3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3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3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5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5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5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7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7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7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83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 YUV 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8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8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8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9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9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9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1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1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9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eEx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5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84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HE Main-ti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HE High-ti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5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5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4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 RGB 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2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2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2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4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 YUV 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5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eEx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4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5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HE Main-ti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HE High-ti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4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 RGB 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1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1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1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3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2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2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 YUV 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eEx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5832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2708c"/>
                </a:solidFill>
                <a:latin typeface="Arial Bold"/>
              </a:rPr>
              <a:t>Results</a:t>
            </a:r>
            <a:br>
              <a:rPr sz="2400"/>
            </a:br>
            <a:r>
              <a:rPr b="0" lang="en-GB" sz="2000" spc="-1" strike="noStrike">
                <a:solidFill>
                  <a:srgbClr val="62708c"/>
                </a:solidFill>
                <a:latin typeface="Arial Bold"/>
              </a:rPr>
              <a:t> </a:t>
            </a:r>
            <a:r>
              <a:rPr b="0" lang="en-GB" sz="2400" spc="-1" strike="noStrike">
                <a:solidFill>
                  <a:srgbClr val="62708c"/>
                </a:solidFill>
                <a:latin typeface="Arial Bold"/>
              </a:rPr>
              <a:t>Mirroring for 4x4 and 8x8 blocks</a:t>
            </a:r>
            <a:br>
              <a:rPr sz="2400"/>
            </a:br>
            <a:endParaRPr b="0" lang="en-US" sz="2400" spc="-1" strike="noStrike">
              <a:solidFill>
                <a:srgbClr val="62708c"/>
              </a:solidFill>
              <a:latin typeface="Arial Bol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80520" y="1294920"/>
            <a:ext cx="7774200" cy="5086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6" name=""/>
          <p:cNvGraphicFramePr/>
          <p:nvPr/>
        </p:nvGraphicFramePr>
        <p:xfrm>
          <a:off x="900000" y="839880"/>
          <a:ext cx="7747200" cy="5470560"/>
        </p:xfrm>
        <a:graphic>
          <a:graphicData uri="http://schemas.openxmlformats.org/drawingml/2006/table">
            <a:tbl>
              <a:tblPr/>
              <a:tblGrid>
                <a:gridCol w="928800"/>
                <a:gridCol w="757080"/>
                <a:gridCol w="757440"/>
                <a:gridCol w="758880"/>
                <a:gridCol w="757080"/>
                <a:gridCol w="757440"/>
                <a:gridCol w="757080"/>
                <a:gridCol w="758880"/>
                <a:gridCol w="757080"/>
                <a:gridCol w="757440"/>
              </a:tblGrid>
              <a:tr h="183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HE Main-ti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HE High-ti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HE Super-High-ti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84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 RGB 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3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3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3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5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5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5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7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7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7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83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 YUV 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8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8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8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9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1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1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9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eEx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5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84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HE Main-ti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HE High-ti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5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5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4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 RGB 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2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2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2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4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 YUV 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5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eEx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4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5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HE Main-ti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HE High-ti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4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 RGB 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1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1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2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2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2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 YUV 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eEx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8:54:04Z</dcterms:created>
  <dc:creator>Matteo Naccari</dc:creator>
  <dc:description/>
  <dc:language>en-US</dc:language>
  <cp:lastModifiedBy>Marta Mrak</cp:lastModifiedBy>
  <dcterms:modified xsi:type="dcterms:W3CDTF">2013-07-28T21:26:07Z</dcterms:modified>
  <cp:revision>173</cp:revision>
  <dc:subject/>
  <dc:title>JCTVC-H0477 On Just Noticeable Distortion Quantization in the HEVC Codec</dc:title>
</cp:coreProperties>
</file>