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C556-033A-4800-A2DD-404D0770E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C248-3EFC-46D2-ACD4-2913722B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113B-0D9F-48DC-B350-F1B2AA087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858E-8AD4-412C-A3A5-37F6F25C7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80CF-3FCC-46D7-A42C-4BB479B3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DF5F-C020-495B-9EBE-20F76D63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8FEE-F1DF-4DCB-AC20-16FFBA67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E3F3-662F-4F5E-801F-2F939FAF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9A28-9D41-4ED6-85CF-5C1F25F6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FEDC-7E9D-4D1C-8130-F8A5D8BC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A068-97E3-4F12-9F0B-F06F327E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1834-E669-4466-8394-E191A9A0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82D3-7837-4CAE-BF39-0E2F679A21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CTVC-N027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Non-SCE1: On handling re-sampling phase offsets with fixed fil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362320" y="4041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oohyar Minoo, David Baylon and Ajay Luth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urces of phase error with fixed filters and signaling one offse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hase offset error due to phase resolution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ounding error associated with mapping an EL sample positions to fractional sample position on a fixed grid in the BL (e.g. in the case 1.5x studied in SCE1 is 0.33/16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hase offset error due to fixed precision of phase index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ounding error associated with signaling phase offset with limited precision (e.g. in the case of 1.5x studied in SCE1 is 0.33/16 using 1/16 resolution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formance of phase offset resolution vs. exact 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formance of phase offset resolution vs. exact 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066680" y="3124080"/>
          <a:ext cx="7113600" cy="2743200"/>
        </p:xfrm>
        <a:graphic>
          <a:graphicData uri="http://schemas.openxmlformats.org/drawingml/2006/table">
            <a:tbl>
              <a:tblPr/>
              <a:tblGrid>
                <a:gridCol w="1311480"/>
                <a:gridCol w="1817640"/>
                <a:gridCol w="2390760"/>
                <a:gridCol w="1593720"/>
              </a:tblGrid>
              <a:tr h="408240">
                <a:tc>
                  <a:txBody>
                    <a:bodyPr lIns="86760" rIns="86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760" rIns="86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760" rIns="86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| offset error * 16 |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760" rIns="86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BDR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86760" rIns="86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/16         (SCE1-test1.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760" rIns="86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     8,     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760" rIns="86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67,     0,     0.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760" rIns="86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86760" rIns="86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/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760" rIns="86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     9,     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760" rIns="86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33,     1,     0.6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760" rIns="86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86760" rIns="86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/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760" rIns="86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     7,     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760" rIns="86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67,     1,     1.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760" rIns="86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86760" rIns="86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/16         N02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760" rIns="86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,     8,     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760" rIns="86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.333,     0,    0.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760" rIns="86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TextBox 6"/>
          <p:cNvSpPr/>
          <p:nvPr/>
        </p:nvSpPr>
        <p:spPr>
          <a:xfrm>
            <a:off x="401040" y="5986440"/>
            <a:ext cx="826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xed phase offset resolution (Test 1.2) vs. exact phase (Test 2.2) for luma 1.5x scal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609480" y="1828800"/>
            <a:ext cx="792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case of 1.5x scalability within SCE1 3 sub-pel filters needed are at locations, 1/6, 1/2 and 5/6 pel. Which on a grid of 16 correspond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.6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3.3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ne solution to Elminate phase offset error (with fixed filters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Table 4" descr=""/>
          <p:cNvPicPr/>
          <p:nvPr/>
        </p:nvPicPr>
        <p:blipFill>
          <a:blip r:embed="rId1"/>
          <a:stretch/>
        </p:blipFill>
        <p:spPr>
          <a:xfrm>
            <a:off x="974880" y="2011320"/>
            <a:ext cx="7102440" cy="429732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2880000" y="6291360"/>
            <a:ext cx="32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tax for signaling of filter off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04920" y="14590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mapping of phase indices at PPS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nefitsof Mapping phase ind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42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ions for 1.5x indicate improvement of 0.4% (luma) for 1/16 phase resolution c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342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342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need for rounding to closest 1/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ocation (Truncation will do i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21:40:19Z</dcterms:created>
  <dc:creator>K.  Minoo</dc:creator>
  <dc:description/>
  <dc:language>en-US</dc:language>
  <cp:lastModifiedBy>K.  Minoo</cp:lastModifiedBy>
  <dcterms:modified xsi:type="dcterms:W3CDTF">2013-07-26T08:53:39Z</dcterms:modified>
  <cp:revision>79</cp:revision>
  <dc:subject/>
  <dc:title>JCTVC-M0263</dc:title>
</cp:coreProperties>
</file>