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dt" idx="1"/>
          </p:nvPr>
        </p:nvSpPr>
        <p:spPr>
          <a:xfrm>
            <a:off x="390060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3-07-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2"/>
          </p:nvPr>
        </p:nvSpPr>
        <p:spPr>
          <a:xfrm>
            <a:off x="390060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390C-55F2-4B3F-AC40-065739580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Img"/>
          </p:nvPr>
        </p:nvSpPr>
        <p:spPr>
          <a:xfrm>
            <a:off x="937800" y="750960"/>
            <a:ext cx="500868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Ericsson Capital TT"/>
              </a:rPr>
              <a:t>Click to move the slide</a:t>
            </a: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Ericsson AB 201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ate Placeholder 4"/>
          <p:cNvSpPr/>
          <p:nvPr/>
        </p:nvSpPr>
        <p:spPr>
          <a:xfrm>
            <a:off x="3900600" y="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3-07-25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7" name="Footer Placeholder 5"/>
          <p:cNvSpPr/>
          <p:nvPr/>
        </p:nvSpPr>
        <p:spPr>
          <a:xfrm>
            <a:off x="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© Ericsson AB 2013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8" name="Slide Number Placeholder 7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4560-7465-43F1-B2ED-E6FB3EFD39D6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9" name="Header Placeholder 8"/>
          <p:cNvSpPr/>
          <p:nvPr/>
        </p:nvSpPr>
        <p:spPr>
          <a:xfrm>
            <a:off x="0" y="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3900600" y="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3-07-25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0F3B-FED0-4FCC-9B3D-E6794CBF2623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0" name="Header Placeholder 5"/>
          <p:cNvSpPr/>
          <p:nvPr/>
        </p:nvSpPr>
        <p:spPr>
          <a:xfrm>
            <a:off x="0" y="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1" name="Footer Placeholder 6"/>
          <p:cNvSpPr/>
          <p:nvPr/>
        </p:nvSpPr>
        <p:spPr>
          <a:xfrm>
            <a:off x="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© Ericsson AB 2013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ate Placeholder 3"/>
          <p:cNvSpPr/>
          <p:nvPr/>
        </p:nvSpPr>
        <p:spPr>
          <a:xfrm>
            <a:off x="3900600" y="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2013-07-25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9F7B-3BE4-43C5-98A0-6ECD78CCCF94}" type="slidenum">
              <a:rPr b="0" lang="en-US" sz="1200" spc="-1" strike="noStrike">
                <a:solidFill>
                  <a:srgbClr val="58585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4" name="Header Placeholder 5"/>
          <p:cNvSpPr/>
          <p:nvPr/>
        </p:nvSpPr>
        <p:spPr>
          <a:xfrm>
            <a:off x="0" y="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5" name="Footer Placeholder 6"/>
          <p:cNvSpPr/>
          <p:nvPr/>
        </p:nvSpPr>
        <p:spPr>
          <a:xfrm>
            <a:off x="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8585a"/>
                </a:solidFill>
                <a:latin typeface="Arial"/>
              </a:rPr>
              <a:t>© Ericsson AB 2013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6720" y="381204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092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76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672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092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76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3840" y="239760"/>
            <a:ext cx="7494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40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6720" y="381204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40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092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4760" y="180036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672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092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4760" y="3812040"/>
            <a:ext cx="26892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3840" y="239760"/>
            <a:ext cx="7494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81204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672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1800360"/>
            <a:ext cx="407556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6720" y="3812040"/>
            <a:ext cx="8352000" cy="1836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eftInfo"/>
          <p:cNvSpPr/>
          <p:nvPr/>
        </p:nvSpPr>
        <p:spPr>
          <a:xfrm>
            <a:off x="-1887480" y="438120"/>
            <a:ext cx="1765080" cy="61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fb7d3"/>
                </a:solidFill>
                <a:latin typeface="Arial"/>
              </a:rPr>
              <a:t>Characters for Embedded font:</a:t>
            </a:r>
            <a:br>
              <a:rPr sz="500"/>
            </a:br>
            <a:r>
              <a:rPr b="0" lang="en-US" sz="500" spc="-1" strike="noStrike">
                <a:solidFill>
                  <a:srgbClr val="9fb7d3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ĀĀĂĂĄĄĆĆĊĊČČĎĎĐĐĒĒĖĖĘĘĚĚĞĞĠĠĢĢĪĪĮĮİĶĶĹĹĻĻĽĽŃŃŅŅŇŇŌŌŐŐŔŔŖŖŘŘŚŚŞŞŢŢŤŤŪŪŮŮŰŰŲŲŴŴŶŶŹŹŻŻȘș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fb7d3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9fb7d3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" name="Econ2011" descr="ECON_RGB"/>
          <p:cNvPicPr/>
          <p:nvPr/>
        </p:nvPicPr>
        <p:blipFill>
          <a:blip r:embed="rId2"/>
          <a:stretch/>
        </p:blipFill>
        <p:spPr>
          <a:xfrm>
            <a:off x="8315280" y="360360"/>
            <a:ext cx="444600" cy="588960"/>
          </a:xfrm>
          <a:prstGeom prst="rect">
            <a:avLst/>
          </a:prstGeom>
          <a:ln w="0">
            <a:noFill/>
          </a:ln>
        </p:spPr>
      </p:pic>
      <p:sp>
        <p:nvSpPr>
          <p:cNvPr id="2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Public  |  © Ericsson AB 2013  |  2013-07-25  |  Page </a:t>
            </a:r>
            <a:fld id="{68379EFD-F98C-48C7-96AB-D2A4F6847437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Ericsson Capital TT"/>
              </a:rPr>
              <a:t>Click to edit the title text format</a:t>
            </a: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eftInfo"/>
          <p:cNvSpPr/>
          <p:nvPr/>
        </p:nvSpPr>
        <p:spPr>
          <a:xfrm>
            <a:off x="-1514520" y="2828880"/>
            <a:ext cx="14763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fb7d3"/>
                </a:solidFill>
                <a:latin typeface="Arial"/>
              </a:rPr>
              <a:t>CAPITAL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2" name="Logo2011" descr="ERI_UF_rgb"/>
          <p:cNvPicPr/>
          <p:nvPr/>
        </p:nvPicPr>
        <p:blipFill>
          <a:blip r:embed="rId2"/>
          <a:stretch/>
        </p:blipFill>
        <p:spPr>
          <a:xfrm>
            <a:off x="7721640" y="431640"/>
            <a:ext cx="1027080" cy="900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Ericsson Capital TT"/>
              </a:rPr>
              <a:t>Click to edit the title text format</a:t>
            </a: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3480" y="1807920"/>
            <a:ext cx="8351640" cy="28400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Ericsson Capital TT"/>
              </a:rPr>
              <a:t>JCTVC-N0265 AHG13: </a:t>
            </a:r>
            <a:br>
              <a:rPr sz="4800"/>
            </a:br>
            <a:r>
              <a:rPr b="0" lang="en-US" sz="4800" spc="-1" strike="noStrike">
                <a:solidFill>
                  <a:srgbClr val="58585a"/>
                </a:solidFill>
                <a:latin typeface="Ericsson Capital TT"/>
              </a:rPr>
              <a:t>Complexity reduction of the up-sampling process</a:t>
            </a:r>
            <a:endParaRPr b="0" lang="en-US" sz="48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3840" y="5137200"/>
            <a:ext cx="8354880" cy="1386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Arial"/>
              </a:rPr>
              <a:t>K. Andersson, R. Sjöberg</a:t>
            </a:r>
            <a:endParaRPr b="0" lang="en-US" sz="3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96720" y="113184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 fontScale="88000"/>
          </a:bodyPr>
          <a:p>
            <a:pPr marL="154800" indent="-15480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It has been shown that the use of 4-tap filters for luma up-sampling for common conditions can reduce the average number of operations for MC and PU based up-sampling by 20% and memory access by 5% with a BDR loss of 0.9%. 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54800" indent="-15480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54800" indent="-15480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e BDR loss is larger for 2x spatial scalability than 1.5x spatial scalability. For all Intra 2x spatial scalability the loss is 1.9%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54800" indent="-15480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54800" indent="-15480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58585a"/>
                </a:solidFill>
                <a:latin typeface="Arial"/>
              </a:rPr>
              <a:t>By enabling the possibility to select the length of the luma up-sampling filter (4 or 8 tap) it is possible to trade complexity versus performance according to the needs of the applications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Ericsson Capital TT"/>
              </a:rPr>
              <a:t>Conclusions</a:t>
            </a: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Logo_ChapterSlide_Norma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96720" y="152712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 fontScale="89000"/>
          </a:bodyPr>
          <a:p>
            <a:pPr marL="156600" indent="-15660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Multi-loop scalable decoding has a significant impact on decoder complexity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56600" indent="-15660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o reduce complexity while maintaining coding efficiency it is proposed to enable use of 4-tap luma up-sampling filters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56600" indent="-15660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r common conditions, the average number of operations (mult/add) for MC and up-sampling is reduced by 20% and the memory access is reduced by 5%, at a luma BDR loss of 0.9%.  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56600" indent="-15660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It is also shown that the BDR loss can be reduced by having 8-tap up-sampling filter for intra slices and 4-tap up-sampling filter for other slices. 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56600" indent="-15660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anks to Canon for cross-check (JCTVC-N0280)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Ericsson Capital TT"/>
              </a:rPr>
              <a:t>Summary</a:t>
            </a: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ompared to single layer decoding SHVC requires both motion compensation in the base layer and motion compensation or up-sampling in the enhancement layers. Both MC and up-sampling requires 8-tap filtering for luma and 4-tap filtering for chroma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o reduce the computations the use of 4-tap up-sampling filter for luma is investigated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Ericsson Capital TT"/>
              </a:rPr>
              <a:t>Background</a:t>
            </a: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Ericsson Capital TT"/>
              </a:rPr>
              <a:t>4-tap up-SAMPLING FILTEr</a:t>
            </a: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19240" y="2293920"/>
          <a:ext cx="8678520" cy="3451320"/>
        </p:xfrm>
        <a:graphic>
          <a:graphicData uri="http://schemas.openxmlformats.org/drawingml/2006/table">
            <a:tbl>
              <a:tblPr/>
              <a:tblGrid>
                <a:gridCol w="1566720"/>
                <a:gridCol w="3587760"/>
                <a:gridCol w="3524040"/>
              </a:tblGrid>
              <a:tr h="1042920"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 shift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M-2.0 Luma up-sampling filter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sed 4 taps Luma up-sampling filter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</a:tr>
              <a:tr h="520920"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{ 0, 0,  0, 64, 0, 0, 0, 0}/64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{ 0, 64, 0, 0}/64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</a:tr>
              <a:tr h="628560"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3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{-1, 4, -11, 52, 26,  -8, 3, -1}/64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{ -</a:t>
                      </a: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, 52, 26, -</a:t>
                      </a: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}/64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</a:tr>
              <a:tr h="630360"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2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{-1,  4, -11,  40,  40, -11,  4, -1}/64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{</a:t>
                      </a: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8</a:t>
                      </a:r>
                      <a:r>
                        <a:rPr b="0" lang="ru-RU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40</a:t>
                      </a:r>
                      <a:r>
                        <a:rPr b="0" lang="ru-RU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40</a:t>
                      </a:r>
                      <a:r>
                        <a:rPr b="0" lang="ru-RU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, -</a:t>
                      </a: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}/64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</a:tr>
              <a:tr h="628560"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/3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{-1, 3,  -8, 26, 52, -11, 4, -1}/64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400" rIns="68400" tIns="0" bIns="0" anchor="ctr" anchorCtr="1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{-</a:t>
                      </a: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, 26, 52, -</a:t>
                      </a: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}/64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96720" y="1800360"/>
          <a:ext cx="8352000" cy="2966760"/>
        </p:xfrm>
        <a:graphic>
          <a:graphicData uri="http://schemas.openxmlformats.org/drawingml/2006/table">
            <a:tbl>
              <a:tblPr/>
              <a:tblGrid>
                <a:gridCol w="1194120"/>
                <a:gridCol w="1191960"/>
                <a:gridCol w="1193760"/>
                <a:gridCol w="1192320"/>
                <a:gridCol w="1193760"/>
                <a:gridCol w="1192320"/>
                <a:gridCol w="11937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tial scalability 2x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tial scalability 1.5x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U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U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Intra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,9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,6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,6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,1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,1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,1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RA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,0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4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4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4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3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3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LD-B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7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2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2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4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1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1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Avg CC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,2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8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7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6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5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5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LD-P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9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3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2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6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2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2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Avg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,1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6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6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6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4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0,4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</a:tr>
            </a:tbl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Ericsson Capital TT"/>
              </a:rPr>
              <a:t>BDR performance compared to SHM-2.0</a:t>
            </a: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8585a"/>
                </a:solidFill>
                <a:latin typeface="Ericsson Capital TT"/>
              </a:rPr>
              <a:t>AVERAGE OPERATIONS PER pixel for MC and up-SAMPLING</a:t>
            </a:r>
            <a:endParaRPr b="0" lang="en-US" sz="4000" spc="-1" strike="noStrike">
              <a:solidFill>
                <a:srgbClr val="58585a"/>
              </a:solidFill>
              <a:latin typeface="Ericsson Capital TT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96720" y="1569960"/>
          <a:ext cx="8201160" cy="4314960"/>
        </p:xfrm>
        <a:graphic>
          <a:graphicData uri="http://schemas.openxmlformats.org/drawingml/2006/table">
            <a:tbl>
              <a:tblPr/>
              <a:tblGrid>
                <a:gridCol w="911520"/>
                <a:gridCol w="911160"/>
                <a:gridCol w="911160"/>
                <a:gridCol w="911160"/>
                <a:gridCol w="911160"/>
                <a:gridCol w="911520"/>
                <a:gridCol w="911160"/>
                <a:gridCol w="911160"/>
                <a:gridCol w="911160"/>
              </a:tblGrid>
              <a:tr h="839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tial scalability 2x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tial scalability 1.5x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</a:tr>
              <a:tr h="1344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PU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SHM-2.0 [Op/pix]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PU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4-tap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Reduction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[%]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Pic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SHM-2.0 [Op/pix]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Pic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4-tap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Reduction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[%]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PU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SHM-2.0 [Op/pix]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PU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4-tap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Reduction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[%]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Pic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SHM-2.0 [Op/pix]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Pic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4-tap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Reduction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[%]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</a:tr>
              <a:tr h="344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Intra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1,7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46,9%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4,0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44,8%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1,7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46,9%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1,4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45,5%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</a:tr>
              <a:tr h="342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RA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,4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6,5%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34,2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22,4%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3,1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7,9%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33,8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20,1%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</a:tr>
              <a:tr h="362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LD-B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8,3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7,8%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31,7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24,0%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1,1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0,2%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31,0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21,7%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</a:tr>
              <a:tr h="382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Avg CC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,1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20,4%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30,0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30,4%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2,0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21,7%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8,7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29,1%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</a:tr>
              <a:tr h="353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LD-P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2,6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9,9%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6,4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28,7%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4,1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3,9%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4,4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27,3%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</a:tr>
              <a:tr h="344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Avg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8,2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7,8%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9,1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30,0%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0,0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9,7%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27,6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28,6%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</a:tr>
            </a:tbl>
          </a:graphicData>
        </a:graphic>
      </p:graphicFrame>
      <p:sp>
        <p:nvSpPr>
          <p:cNvPr id="101" name="TextBox 1"/>
          <p:cNvSpPr/>
          <p:nvPr/>
        </p:nvSpPr>
        <p:spPr>
          <a:xfrm>
            <a:off x="3798360" y="6210360"/>
            <a:ext cx="48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omplexity module from JCTVC-L0440v6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8585a"/>
                </a:solidFill>
                <a:latin typeface="Ericsson Capital TT"/>
              </a:rPr>
              <a:t>AVERAGE MEMORY ACCESS</a:t>
            </a: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96720" y="1569960"/>
          <a:ext cx="8201160" cy="4267440"/>
        </p:xfrm>
        <a:graphic>
          <a:graphicData uri="http://schemas.openxmlformats.org/drawingml/2006/table">
            <a:tbl>
              <a:tblPr/>
              <a:tblGrid>
                <a:gridCol w="911520"/>
                <a:gridCol w="911160"/>
                <a:gridCol w="911160"/>
                <a:gridCol w="911160"/>
                <a:gridCol w="911160"/>
                <a:gridCol w="911520"/>
                <a:gridCol w="911160"/>
                <a:gridCol w="911160"/>
                <a:gridCol w="9111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tial scalability 2x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tial scalability 1.5x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</a:tr>
              <a:tr h="1308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PU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SHM-2.0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PU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4-tap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Reduction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[%]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Pic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SHM-2.0 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Pic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4-tap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Reduction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[%]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PU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SHM-2.0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PU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4-tap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Reduction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[%]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Pic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SHM-2.0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Pic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4-tap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Reduction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[%]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Intra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7235373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1,3%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0432990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,6%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6511056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2,3%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8773598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2,1%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RA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2560365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0,9%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7861909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0,7%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9674608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,6%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4181257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,1%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LD-B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1750775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0,9%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7026889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0,6%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8991556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,8%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3397979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,1%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Avg CC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0515504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4,4%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5107263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,0%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8392407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5,2%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2117611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,4%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LD-P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9395321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,2%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4731693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0,9%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7164954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2,3%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1622646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,3%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Avg</a:t>
                      </a:r>
                      <a:endParaRPr b="0" lang="en-US" sz="16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0235459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3,6%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5013370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0,9%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8085543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4,5%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11993870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-1,4%</a:t>
                      </a:r>
                      <a:endParaRPr b="0" lang="en-US" sz="14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</a:tr>
            </a:tbl>
          </a:graphicData>
        </a:graphic>
      </p:graphicFrame>
      <p:sp>
        <p:nvSpPr>
          <p:cNvPr id="105" name="TextBox 4"/>
          <p:cNvSpPr/>
          <p:nvPr/>
        </p:nvSpPr>
        <p:spPr>
          <a:xfrm>
            <a:off x="3757680" y="6210360"/>
            <a:ext cx="495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omplexity module from JCTVC-M0455v2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8585a"/>
                </a:solidFill>
                <a:latin typeface="Ericsson Capital TT"/>
              </a:rPr>
              <a:t>BDR performance with 4-tap only for inter slices</a:t>
            </a:r>
            <a:endParaRPr b="0" lang="en-US" sz="4000" spc="-1" strike="noStrike">
              <a:solidFill>
                <a:srgbClr val="58585a"/>
              </a:solidFill>
              <a:latin typeface="Ericsson Capital TT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96720" y="1800360"/>
          <a:ext cx="8352000" cy="2966760"/>
        </p:xfrm>
        <a:graphic>
          <a:graphicData uri="http://schemas.openxmlformats.org/drawingml/2006/table">
            <a:tbl>
              <a:tblPr/>
              <a:tblGrid>
                <a:gridCol w="1194120"/>
                <a:gridCol w="1191960"/>
                <a:gridCol w="1193760"/>
                <a:gridCol w="1192320"/>
                <a:gridCol w="1193760"/>
                <a:gridCol w="1192320"/>
                <a:gridCol w="11937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tial scalability 2x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atial scalability 1.5x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9ba1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U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U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Intra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RA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LD-B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Avg CC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LD-P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3e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8585a"/>
                          </a:solidFill>
                          <a:latin typeface="Arial"/>
                        </a:rPr>
                        <a:t>Avg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%</a:t>
                      </a:r>
                      <a:endParaRPr b="0" lang="en-US" sz="1800" spc="-1" strike="noStrike">
                        <a:solidFill>
                          <a:srgbClr val="58585a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7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96720" y="1800360"/>
            <a:ext cx="8352000" cy="3851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58585a"/>
                </a:solidFill>
                <a:latin typeface="Arial"/>
              </a:rPr>
              <a:t>To be able to trade coding efficiency versus complexity we propose: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58585a"/>
                </a:solidFill>
                <a:latin typeface="Arial"/>
              </a:rPr>
              <a:t>one flag in SPS extension that indicates if the filter length for up-sampling is fixed for the whole sequence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58585a"/>
                </a:solidFill>
                <a:latin typeface="Arial"/>
              </a:rPr>
              <a:t>one flag in SPS extension that selects 4-tap or 8-tap filter for luma up-sampling.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58585a"/>
                </a:solidFill>
                <a:latin typeface="Arial"/>
              </a:rPr>
              <a:t>one flag in slice header that selects 4-tap or 8-tap filter for luma up-sampling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3840" y="239760"/>
            <a:ext cx="7494480" cy="1085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58585a"/>
                </a:solidFill>
                <a:latin typeface="Ericsson Capital TT"/>
              </a:rPr>
              <a:t>Signalling of filter size for up-sampling</a:t>
            </a:r>
            <a:endParaRPr b="0" lang="en-US" sz="44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09:22:48Z</dcterms:created>
  <dc:creator>Kenneth Andersson R</dc:creator>
  <dc:description>Rev PA1</dc:description>
  <dc:language>en-US</dc:language>
  <cp:lastModifiedBy>Kenneth Andersson R</cp:lastModifiedBy>
  <dcterms:modified xsi:type="dcterms:W3CDTF">2013-07-27T14:38:23Z</dcterms:modified>
  <cp:revision>133</cp:revision>
  <dc:subject/>
  <dc:title>JCTVC-N0265 AHG13: Complexity reduction of the up-sampling proc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3-07-25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Presentation2011</vt:lpwstr>
  </property>
  <property fmtid="{D5CDD505-2E9C-101B-9397-08002B2CF9AE}" pid="8" name="DocumentType2">
    <vt:lpwstr>Presentation2011</vt:lpwstr>
  </property>
  <property fmtid="{D5CDD505-2E9C-101B-9397-08002B2CF9AE}" pid="9" name="EmbeddedFonts">
    <vt:bool>1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>© Ericsson AB 2013</vt:lpwstr>
  </property>
  <property fmtid="{D5CDD505-2E9C-101B-9397-08002B2CF9AE}" pid="13" name="MiddleFooterField">
    <vt:lpwstr>Public</vt:lpwstr>
  </property>
  <property fmtid="{D5CDD505-2E9C-101B-9397-08002B2CF9AE}" pid="14" name="PackageNo">
    <vt:lpwstr>LXA 119 603</vt:lpwstr>
  </property>
  <property fmtid="{D5CDD505-2E9C-101B-9397-08002B2CF9AE}" pid="15" name="PackageVersion">
    <vt:lpwstr>R3A</vt:lpwstr>
  </property>
  <property fmtid="{D5CDD505-2E9C-101B-9397-08002B2CF9AE}" pid="16" name="Pages">
    <vt:bool>1</vt:bool>
  </property>
  <property fmtid="{D5CDD505-2E9C-101B-9397-08002B2CF9AE}" pid="17" name="Prepared">
    <vt:lpwstr/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/>
  </property>
  <property fmtid="{D5CDD505-2E9C-101B-9397-08002B2CF9AE}" pid="21" name="RightFooterField2">
    <vt:lpwstr>2013-07-25</vt:lpwstr>
  </property>
  <property fmtid="{D5CDD505-2E9C-101B-9397-08002B2CF9AE}" pid="22" name="SecurityClass">
    <vt:lpwstr>Public</vt:lpwstr>
  </property>
  <property fmtid="{D5CDD505-2E9C-101B-9397-08002B2CF9AE}" pid="23" name="TemplateName">
    <vt:lpwstr>CXC 173 2731/1</vt:lpwstr>
  </property>
  <property fmtid="{D5CDD505-2E9C-101B-9397-08002B2CF9AE}" pid="24" name="TemplateName2">
    <vt:lpwstr>CXC 173 2731/1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/>
  </property>
  <property fmtid="{D5CDD505-2E9C-101B-9397-08002B2CF9AE}" pid="28" name="TotalNumb">
    <vt:bool>0</vt:bool>
  </property>
  <property fmtid="{D5CDD505-2E9C-101B-9397-08002B2CF9AE}" pid="29" name="UpdateProcess">
    <vt:lpwstr>End</vt:lpwstr>
  </property>
  <property fmtid="{D5CDD505-2E9C-101B-9397-08002B2CF9AE}" pid="30" name="UsedFont">
    <vt:lpwstr>Ericsson Capital TT</vt:lpwstr>
  </property>
  <property fmtid="{D5CDD505-2E9C-101B-9397-08002B2CF9AE}" pid="31" name="White">
    <vt:bool>1</vt:bool>
  </property>
  <property fmtid="{D5CDD505-2E9C-101B-9397-08002B2CF9AE}" pid="32" name="chkMetaData">
    <vt:bool>0</vt:bool>
  </property>
  <property fmtid="{D5CDD505-2E9C-101B-9397-08002B2CF9AE}" pid="33" name="chkTaglines">
    <vt:bool>0</vt:bool>
  </property>
  <property fmtid="{D5CDD505-2E9C-101B-9397-08002B2CF9AE}" pid="34" name="optEnterText1">
    <vt:bool>0</vt:bool>
  </property>
  <property fmtid="{D5CDD505-2E9C-101B-9397-08002B2CF9AE}" pid="35" name="optEnterText2">
    <vt:bool>0</vt:bool>
  </property>
  <property fmtid="{D5CDD505-2E9C-101B-9397-08002B2CF9AE}" pid="36" name="optEnterText3">
    <vt:bool>0</vt:bool>
  </property>
  <property fmtid="{D5CDD505-2E9C-101B-9397-08002B2CF9AE}" pid="37" name="optEnterText4">
    <vt:bool>0</vt:bool>
  </property>
  <property fmtid="{D5CDD505-2E9C-101B-9397-08002B2CF9AE}" pid="38" name="optFooterCVLConfLabel">
    <vt:bool>1</vt:bool>
  </property>
  <property fmtid="{D5CDD505-2E9C-101B-9397-08002B2CF9AE}" pid="39" name="optFooterCVLCopyright">
    <vt:bool>1</vt:bool>
  </property>
  <property fmtid="{D5CDD505-2E9C-101B-9397-08002B2CF9AE}" pid="40" name="optFooterCVLDate">
    <vt:bool>1</vt:bool>
  </property>
  <property fmtid="{D5CDD505-2E9C-101B-9397-08002B2CF9AE}" pid="41" name="optFooterCVLDocNo">
    <vt:bool>0</vt:bool>
  </property>
  <property fmtid="{D5CDD505-2E9C-101B-9397-08002B2CF9AE}" pid="42" name="optFooterCVLPrep">
    <vt:bool>0</vt:bool>
  </property>
  <property fmtid="{D5CDD505-2E9C-101B-9397-08002B2CF9AE}" pid="43" name="optFooterCVLTitle">
    <vt:bool>1</vt:bool>
  </property>
  <property fmtid="{D5CDD505-2E9C-101B-9397-08002B2CF9AE}" pid="44" name="optUseConfClass">
    <vt:bool>1</vt:bool>
  </property>
  <property fmtid="{D5CDD505-2E9C-101B-9397-08002B2CF9AE}" pid="45" name="optUseConfLabel">
    <vt:bool>0</vt:bool>
  </property>
  <property fmtid="{D5CDD505-2E9C-101B-9397-08002B2CF9AE}" pid="46" name="txtConfLabel">
    <vt:lpwstr>Public</vt:lpwstr>
  </property>
  <property fmtid="{D5CDD505-2E9C-101B-9397-08002B2CF9AE}" pid="47" name="x">
    <vt:lpwstr>1</vt:lpwstr>
  </property>
</Properties>
</file>