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23C-0898-4B58-A9BF-82D4B5ED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80A-1A22-46B7-A7A7-B5B833AD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796-7EE2-4578-AE11-99ACD65C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892-B78F-4B19-91AC-F3A601C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B10-A391-4600-A2EB-868F49DF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ACD-9E59-4C1B-A0EB-61F12C3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9C8-CB81-46B5-A104-B6D8A4F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95E-8062-457E-B20A-ADFB60D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DA1-14DC-4CC3-A705-862ADC1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7D7-FD9E-45C0-B227-C3ED8A4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593-77FB-49D6-8025-46F0395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B81-DD30-4D5E-AF37-BABF06F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A740-CF67-4A43-B5C6-F7FA84F50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N02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SCE1: Cross-check for Test1.3, accurate chroma position alignment          (JCTVC-N004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362320" y="40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ohyar Minoo and David Ba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133720" y="3429000"/>
            <a:ext cx="45720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verification of Test 1.3 confirm proponents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ginal reductions reported relative to SHM-2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vertical chroma error (1/8) tested may not be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cases yield larger vertical chroma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6"/>
          <p:cNvCxnSpPr/>
          <p:nvPr/>
        </p:nvCxnSpPr>
        <p:spPr>
          <a:xfrm>
            <a:off x="2514240" y="352548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7" name="TextBox 9"/>
          <p:cNvSpPr/>
          <p:nvPr/>
        </p:nvSpPr>
        <p:spPr>
          <a:xfrm>
            <a:off x="2438280" y="3471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curate vertical chroma position align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91120" y="3473280"/>
            <a:ext cx="4572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7"/>
          <p:cNvCxnSpPr/>
          <p:nvPr/>
        </p:nvCxnSpPr>
        <p:spPr>
          <a:xfrm>
            <a:off x="4571640" y="3580920"/>
            <a:ext cx="1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1" name="TextBox 10"/>
          <p:cNvSpPr/>
          <p:nvPr/>
        </p:nvSpPr>
        <p:spPr>
          <a:xfrm>
            <a:off x="449568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990720" y="340992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3429000" y="3429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5235480" y="3956040"/>
                <a:ext cx="315936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rom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55" name="Straight Arrow Connector 14"/>
          <p:cNvCxnSpPr/>
          <p:nvPr/>
        </p:nvCxnSpPr>
        <p:spPr>
          <a:xfrm>
            <a:off x="2209320" y="35514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6" name="TextBox 9"/>
          <p:cNvSpPr/>
          <p:nvPr/>
        </p:nvSpPr>
        <p:spPr>
          <a:xfrm>
            <a:off x="1752480" y="3657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1:40:19Z</dcterms:created>
  <dc:creator>K.  Minoo</dc:creator>
  <dc:description/>
  <dc:language>en-US</dc:language>
  <cp:lastModifiedBy>K.  Minoo</cp:lastModifiedBy>
  <dcterms:modified xsi:type="dcterms:W3CDTF">2013-07-26T02:26:16Z</dcterms:modified>
  <cp:revision>91</cp:revision>
  <dc:subject/>
  <dc:title>JCTVC-M0263</dc:title>
</cp:coreProperties>
</file>