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FA33-5423-4834-8A2A-3AD1766C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E4FA-ACFE-40C4-97CB-7CC81FFB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6246-1D1A-4DA3-B7B9-98407FE8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A384-8889-4F41-A86E-2357AEA4D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B9B5-F1AE-4302-A1A4-52084246F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8231-B232-43B5-823F-BB9176B02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6AE0-AC00-415C-8971-BA76C3F72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1196-DEA4-40DE-9C8B-C11117017A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5AA6-D883-4087-A6A8-3D91831FA4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0DFC-66DC-4114-BC8A-FE433FB770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DACC-2B26-45EC-A858-AF77747704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C251-951C-492A-B3E0-EAFABE64C8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C93C-FBE6-4CAA-A52B-3DB1CFD61B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360B-2594-4B92-B06B-FAECFAD98E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297C-59F5-4FF1-B963-95E939626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C06A-71C6-4004-8796-51EBF5E15E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AF6D-4906-4F08-9909-AD52F3EC19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108C-5865-4217-A178-B4B83C955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1AF1-C99C-4702-B9B4-0B9628DD3E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126F-24B0-4101-89F6-011A8DCCE5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467-B83A-4B92-9CFD-538003DB32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31F-99E6-4572-AC57-05372B3918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4B4-D28A-4C72-A936-494648038B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9D5-CA34-4715-B6D8-A68C270FBF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5A3-3FA1-4789-92FD-3F8A7F002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19EB-3C5B-47D5-8F76-B466A2E2EF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E44-BB45-408C-A0D9-4AB6CF0A00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AC6-8DF3-4AA7-B681-1E440A0564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3DE-8E8D-4B84-B609-0836DA686F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C5B-A510-4ADA-810D-F91E520684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B97-6DFD-4212-AD45-C025BA9AC8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E56-B1B9-4C4C-95D5-C4C4447296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1DE-5636-459A-AAFF-F366BD869D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27922-8127-455D-8A55-C6FB4861AB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71F7C-D56E-4CC6-986D-61A95D9295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397F5-ADE0-4997-AF59-40D24EFE6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A596-ED02-4936-B354-614EDF912B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E1E4F-8310-4515-9B7A-91535E69B8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EC101-B372-4996-AD61-B41410A2AE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F041B-43BE-434B-81FE-2355B04A93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A6BC1-2E3B-4E04-8EF8-41B3DABA9F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49C8D-348D-4CDF-9958-E3DF55B9F4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6F705-2BA9-43B8-A1E5-9821BA5635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BD40B-3A35-4AAA-BF04-BDEBCA5D36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DD482-14D4-4F3F-8784-296734606D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091C-B593-438F-B7CB-30A9DC330F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C1CB9-C774-4601-B329-DAB596671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A52B-7418-4586-8954-6A7EFE5CC8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6421C-35FB-470D-9537-8094AEA435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52E2A-630F-4B95-AB48-3E4FE5930F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D4FA8-2AD1-4C42-8557-F80276C186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F3F9C-60E0-46D0-8610-C26D37DD7C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B0B1D-6AA1-40FE-A911-AE36E6A264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E2CAA-4EE0-4650-BA93-5144942315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9C810-4097-487C-8134-805B7ABDA6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0A1FD-A8BF-47FF-8A8F-50A5987A4F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A107E-18ED-411E-8742-623A718847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8825B-99BB-4ACF-AE73-34FF62820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395B-4140-411D-9381-8E3BED7E66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3780E-1427-4A49-84D9-DB4277366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78D2-118D-4CAC-96A5-E2A7625F4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BD8E-A213-40CD-8D0D-3DF2DD648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CE31-ABD9-4307-8EB7-6F5A713E4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7A63-BAD2-4BD3-B735-DC4EAD93CA6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203-A802-423C-8239-21756C6D3B7D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584A-204E-409F-A56D-21F94BE6AC4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816-59A0-42F5-8621-9014833B36F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5899-4776-4854-AB27-C8BE9401417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A212-0DCD-44A7-8640-07F4771F9F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N0206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Non-RCE3: Intra motion compensation with variable length intra MV coding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3360" y="11188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creen content video, patterns (e.g. text characters, icons, lines etc.) can repeat within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motion compensation can code repeated patterns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AB40-ACDD-4031-8D61-791653132C8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151000" y="2585880"/>
            <a:ext cx="4211640" cy="3138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2133720" y="5840280"/>
            <a:ext cx="42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peated pattern (red) in screen content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E6BD-3DA4-4284-B283-86778849CEE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Previous work (RCE3.3, JCTVC-N0205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3360" y="1081080"/>
            <a:ext cx="84391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ra motion compensation with fixed-length MV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ither horizontal or vertical motion component is sign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Two encoder configs for search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Option 1: Horizontal and vertical motions are limited to -63 ~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Need to store 3 LCU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2: Horizontal motion is limited to -63 ~ 0, and vertical motion is limited so that a displaced block is included in the current L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Need to store 2 left L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bsolute value of motion is always coded in 6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2"/>
          <p:cNvGrpSpPr/>
          <p:nvPr/>
        </p:nvGrpSpPr>
        <p:grpSpPr>
          <a:xfrm>
            <a:off x="971640" y="3848040"/>
            <a:ext cx="3209760" cy="2133720"/>
            <a:chOff x="971640" y="3848040"/>
            <a:chExt cx="3209760" cy="2133720"/>
          </a:xfrm>
        </p:grpSpPr>
        <p:sp>
          <p:nvSpPr>
            <p:cNvPr id="227" name="Rectangle 40"/>
            <p:cNvSpPr/>
            <p:nvPr/>
          </p:nvSpPr>
          <p:spPr>
            <a:xfrm>
              <a:off x="3022200" y="3848040"/>
              <a:ext cx="1159200" cy="925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2487240" y="3848040"/>
              <a:ext cx="534960" cy="1192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2754720" y="5033520"/>
              <a:ext cx="267480" cy="26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3"/>
            <p:cNvSpPr/>
            <p:nvPr/>
          </p:nvSpPr>
          <p:spPr>
            <a:xfrm>
              <a:off x="2754720" y="4766760"/>
              <a:ext cx="267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4"/>
            <p:cNvSpPr/>
            <p:nvPr/>
          </p:nvSpPr>
          <p:spPr>
            <a:xfrm>
              <a:off x="2487240" y="4770360"/>
              <a:ext cx="267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5"/>
            <p:cNvSpPr/>
            <p:nvPr/>
          </p:nvSpPr>
          <p:spPr>
            <a:xfrm>
              <a:off x="971640" y="3848040"/>
              <a:ext cx="1515600" cy="146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6"/>
            <p:cNvSpPr/>
            <p:nvPr/>
          </p:nvSpPr>
          <p:spPr>
            <a:xfrm>
              <a:off x="971640" y="3848040"/>
              <a:ext cx="320976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47"/>
            <p:cNvSpPr/>
            <p:nvPr/>
          </p:nvSpPr>
          <p:spPr>
            <a:xfrm>
              <a:off x="2487240" y="5033520"/>
              <a:ext cx="267480" cy="26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2485440" y="4203720"/>
              <a:ext cx="269280" cy="829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9"/>
            <p:cNvSpPr/>
            <p:nvPr/>
          </p:nvSpPr>
          <p:spPr>
            <a:xfrm>
              <a:off x="1595520" y="5033520"/>
              <a:ext cx="887760" cy="266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0"/>
            <p:cNvSpPr/>
            <p:nvPr/>
          </p:nvSpPr>
          <p:spPr>
            <a:xfrm>
              <a:off x="2839320" y="551880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rrent 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1"/>
            <p:cNvSpPr/>
            <p:nvPr/>
          </p:nvSpPr>
          <p:spPr>
            <a:xfrm>
              <a:off x="1560240" y="423324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 flipV="1">
              <a:off x="3022200" y="4914720"/>
              <a:ext cx="356400" cy="29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 flipH="1" flipV="1">
              <a:off x="1900440" y="4682880"/>
              <a:ext cx="141120" cy="40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4"/>
            <p:cNvSpPr/>
            <p:nvPr/>
          </p:nvSpPr>
          <p:spPr>
            <a:xfrm flipH="1" flipV="1">
              <a:off x="2160000" y="4433040"/>
              <a:ext cx="415800" cy="2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2487240" y="4766760"/>
              <a:ext cx="53496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6"/>
            <p:cNvSpPr/>
            <p:nvPr/>
          </p:nvSpPr>
          <p:spPr>
            <a:xfrm>
              <a:off x="2647080" y="5224320"/>
              <a:ext cx="189360" cy="32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3267720" y="4737240"/>
              <a:ext cx="78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L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64x6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8"/>
            <p:cNvSpPr/>
            <p:nvPr/>
          </p:nvSpPr>
          <p:spPr>
            <a:xfrm>
              <a:off x="2785320" y="4075560"/>
              <a:ext cx="87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63 – cuHeigh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59"/>
            <p:cNvSpPr/>
            <p:nvPr/>
          </p:nvSpPr>
          <p:spPr>
            <a:xfrm>
              <a:off x="2831040" y="4470120"/>
              <a:ext cx="72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He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0"/>
            <p:cNvSpPr/>
            <p:nvPr/>
          </p:nvSpPr>
          <p:spPr>
            <a:xfrm>
              <a:off x="1942200" y="528156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1"/>
            <p:cNvSpPr/>
            <p:nvPr/>
          </p:nvSpPr>
          <p:spPr>
            <a:xfrm>
              <a:off x="1149840" y="5459400"/>
              <a:ext cx="98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63 - 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2205000" y="5033520"/>
              <a:ext cx="278640" cy="26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>
              <a:off x="1595520" y="5281560"/>
              <a:ext cx="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64"/>
            <p:cNvSpPr/>
            <p:nvPr/>
          </p:nvSpPr>
          <p:spPr>
            <a:xfrm>
              <a:off x="2487240" y="4776120"/>
              <a:ext cx="267480" cy="26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V="1">
              <a:off x="2754720" y="4642200"/>
              <a:ext cx="144720" cy="12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57"/>
          <p:cNvGrpSpPr/>
          <p:nvPr/>
        </p:nvGrpSpPr>
        <p:grpSpPr>
          <a:xfrm>
            <a:off x="4657680" y="3848040"/>
            <a:ext cx="3210120" cy="2130480"/>
            <a:chOff x="4657680" y="3848040"/>
            <a:chExt cx="3210120" cy="2130480"/>
          </a:xfrm>
        </p:grpSpPr>
        <p:sp>
          <p:nvSpPr>
            <p:cNvPr id="254" name="Rectangle 66"/>
            <p:cNvSpPr/>
            <p:nvPr/>
          </p:nvSpPr>
          <p:spPr>
            <a:xfrm>
              <a:off x="6708600" y="3848040"/>
              <a:ext cx="1159200" cy="924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7"/>
            <p:cNvSpPr/>
            <p:nvPr/>
          </p:nvSpPr>
          <p:spPr>
            <a:xfrm>
              <a:off x="6173640" y="3848040"/>
              <a:ext cx="534960" cy="1190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8"/>
            <p:cNvSpPr/>
            <p:nvPr/>
          </p:nvSpPr>
          <p:spPr>
            <a:xfrm>
              <a:off x="6441120" y="5031720"/>
              <a:ext cx="26748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9"/>
            <p:cNvSpPr/>
            <p:nvPr/>
          </p:nvSpPr>
          <p:spPr>
            <a:xfrm>
              <a:off x="6441120" y="4765320"/>
              <a:ext cx="26748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0"/>
            <p:cNvSpPr/>
            <p:nvPr/>
          </p:nvSpPr>
          <p:spPr>
            <a:xfrm>
              <a:off x="6173640" y="4768920"/>
              <a:ext cx="26748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1"/>
            <p:cNvSpPr/>
            <p:nvPr/>
          </p:nvSpPr>
          <p:spPr>
            <a:xfrm>
              <a:off x="4657680" y="3848040"/>
              <a:ext cx="1515960" cy="145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2"/>
            <p:cNvSpPr/>
            <p:nvPr/>
          </p:nvSpPr>
          <p:spPr>
            <a:xfrm>
              <a:off x="4657680" y="3848040"/>
              <a:ext cx="3210120" cy="213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3"/>
            <p:cNvSpPr/>
            <p:nvPr/>
          </p:nvSpPr>
          <p:spPr>
            <a:xfrm>
              <a:off x="6173640" y="5031720"/>
              <a:ext cx="267480" cy="26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4"/>
            <p:cNvSpPr/>
            <p:nvPr/>
          </p:nvSpPr>
          <p:spPr>
            <a:xfrm>
              <a:off x="6171840" y="4768920"/>
              <a:ext cx="269280" cy="262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5"/>
            <p:cNvSpPr/>
            <p:nvPr/>
          </p:nvSpPr>
          <p:spPr>
            <a:xfrm>
              <a:off x="5281920" y="5031720"/>
              <a:ext cx="887760" cy="266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6"/>
            <p:cNvSpPr/>
            <p:nvPr/>
          </p:nvSpPr>
          <p:spPr>
            <a:xfrm>
              <a:off x="6525360" y="5516280"/>
              <a:ext cx="79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rrent 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7"/>
            <p:cNvSpPr/>
            <p:nvPr/>
          </p:nvSpPr>
          <p:spPr>
            <a:xfrm>
              <a:off x="5246280" y="423252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 flipV="1">
              <a:off x="6708600" y="4913280"/>
              <a:ext cx="356400" cy="29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9"/>
            <p:cNvSpPr/>
            <p:nvPr/>
          </p:nvSpPr>
          <p:spPr>
            <a:xfrm flipH="1" flipV="1">
              <a:off x="5586480" y="4682160"/>
              <a:ext cx="135360" cy="41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0"/>
            <p:cNvSpPr/>
            <p:nvPr/>
          </p:nvSpPr>
          <p:spPr>
            <a:xfrm flipH="1" flipV="1">
              <a:off x="5846040" y="4431960"/>
              <a:ext cx="427320" cy="44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1"/>
            <p:cNvSpPr/>
            <p:nvPr/>
          </p:nvSpPr>
          <p:spPr>
            <a:xfrm>
              <a:off x="6173640" y="4765320"/>
              <a:ext cx="534960" cy="53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6333480" y="5222160"/>
              <a:ext cx="189360" cy="31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3"/>
            <p:cNvSpPr/>
            <p:nvPr/>
          </p:nvSpPr>
          <p:spPr>
            <a:xfrm>
              <a:off x="5628240" y="526860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84"/>
            <p:cNvSpPr/>
            <p:nvPr/>
          </p:nvSpPr>
          <p:spPr>
            <a:xfrm>
              <a:off x="4835880" y="5446080"/>
              <a:ext cx="98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63 - 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5"/>
            <p:cNvSpPr/>
            <p:nvPr/>
          </p:nvSpPr>
          <p:spPr>
            <a:xfrm>
              <a:off x="6953760" y="4735800"/>
              <a:ext cx="78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L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64x6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6"/>
            <p:cNvSpPr/>
            <p:nvPr/>
          </p:nvSpPr>
          <p:spPr>
            <a:xfrm>
              <a:off x="5891040" y="5031720"/>
              <a:ext cx="278640" cy="26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5281920" y="526860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8"/>
            <p:cNvSpPr/>
            <p:nvPr/>
          </p:nvSpPr>
          <p:spPr>
            <a:xfrm>
              <a:off x="6517440" y="4469400"/>
              <a:ext cx="72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cuHe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 flipV="1">
              <a:off x="6441120" y="4641120"/>
              <a:ext cx="144720" cy="12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58"/>
          <p:cNvSpPr/>
          <p:nvPr/>
        </p:nvSpPr>
        <p:spPr>
          <a:xfrm>
            <a:off x="1314360" y="60022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arch range,  Op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9"/>
          <p:cNvSpPr/>
          <p:nvPr/>
        </p:nvSpPr>
        <p:spPr>
          <a:xfrm>
            <a:off x="5124600" y="6002280"/>
            <a:ext cx="22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arch range, Op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IntraMC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33360" y="11188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ra motion compensation with variable-length MV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ither horizontal or vertical motion component is sign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motion is limited so that a displaced block does not go beyond 2 previous LCUs, and vertical motion is limited so that a displaced block is included in the current L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Need to store 2 left L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bsolute value of motion is coded by the 3rd-order Exp-Golomb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Horizontal search range varies based on CU position and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Bigger search range for smaller CU compared with fixed-length MV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ED09-292A-41E9-A2F1-3636F8A049E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2657520" y="3828960"/>
            <a:ext cx="3562200" cy="2143080"/>
            <a:chOff x="2657520" y="3828960"/>
            <a:chExt cx="3562200" cy="2143080"/>
          </a:xfrm>
        </p:grpSpPr>
        <p:sp>
          <p:nvSpPr>
            <p:cNvPr id="284" name="Rectangle 4"/>
            <p:cNvSpPr/>
            <p:nvPr/>
          </p:nvSpPr>
          <p:spPr>
            <a:xfrm>
              <a:off x="4991040" y="3828960"/>
              <a:ext cx="1228680" cy="930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4423680" y="3828960"/>
              <a:ext cx="567000" cy="1315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9"/>
            <p:cNvSpPr/>
            <p:nvPr/>
          </p:nvSpPr>
          <p:spPr>
            <a:xfrm>
              <a:off x="2663280" y="3828960"/>
              <a:ext cx="1760400" cy="1467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2657520" y="3828960"/>
              <a:ext cx="3562200" cy="214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3289680" y="5148000"/>
              <a:ext cx="1417680" cy="139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4"/>
            <p:cNvSpPr/>
            <p:nvPr/>
          </p:nvSpPr>
          <p:spPr>
            <a:xfrm>
              <a:off x="5088600" y="5506920"/>
              <a:ext cx="793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current 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(16x16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5"/>
            <p:cNvSpPr/>
            <p:nvPr/>
          </p:nvSpPr>
          <p:spPr>
            <a:xfrm>
              <a:off x="3762000" y="4007520"/>
              <a:ext cx="113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Gulim"/>
                </a:rPr>
                <a:t>Search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 flipH="1" flipV="1">
              <a:off x="3289320" y="4543200"/>
              <a:ext cx="171000" cy="200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"/>
            <p:cNvSpPr/>
            <p:nvPr/>
          </p:nvSpPr>
          <p:spPr>
            <a:xfrm flipV="1">
              <a:off x="3962880" y="4314240"/>
              <a:ext cx="236160" cy="915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1"/>
            <p:cNvSpPr/>
            <p:nvPr/>
          </p:nvSpPr>
          <p:spPr>
            <a:xfrm>
              <a:off x="4271040" y="545328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Gulim"/>
                </a:rPr>
                <a:t>-cuWid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3"/>
            <p:cNvSpPr/>
            <p:nvPr/>
          </p:nvSpPr>
          <p:spPr>
            <a:xfrm>
              <a:off x="2817000" y="4096800"/>
              <a:ext cx="82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Gulim"/>
                </a:rPr>
                <a:t>LC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Gulim"/>
                </a:rPr>
                <a:t>(64x6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5168160" y="4883760"/>
              <a:ext cx="76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Gulim"/>
                </a:rPr>
                <a:t>-cuHe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 flipV="1">
              <a:off x="4872960" y="5017320"/>
              <a:ext cx="366120" cy="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8"/>
            <p:cNvSpPr/>
            <p:nvPr/>
          </p:nvSpPr>
          <p:spPr>
            <a:xfrm>
              <a:off x="3856680" y="4751640"/>
              <a:ext cx="567000" cy="535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9"/>
            <p:cNvSpPr/>
            <p:nvPr/>
          </p:nvSpPr>
          <p:spPr>
            <a:xfrm>
              <a:off x="3289680" y="4751640"/>
              <a:ext cx="567000" cy="535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0"/>
            <p:cNvSpPr/>
            <p:nvPr/>
          </p:nvSpPr>
          <p:spPr>
            <a:xfrm>
              <a:off x="4707360" y="5148000"/>
              <a:ext cx="145440" cy="13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1"/>
            <p:cNvSpPr/>
            <p:nvPr/>
          </p:nvSpPr>
          <p:spPr>
            <a:xfrm>
              <a:off x="4707360" y="4755240"/>
              <a:ext cx="145440" cy="392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8"/>
            <p:cNvSpPr/>
            <p:nvPr/>
          </p:nvSpPr>
          <p:spPr>
            <a:xfrm flipH="1" flipV="1">
              <a:off x="4447080" y="4314240"/>
              <a:ext cx="336600" cy="51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4802040" y="5207400"/>
              <a:ext cx="283320" cy="317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4707360" y="5023440"/>
              <a:ext cx="141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4567680" y="51498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8"/>
            <p:cNvSpPr/>
            <p:nvPr/>
          </p:nvSpPr>
          <p:spPr>
            <a:xfrm>
              <a:off x="4423680" y="4751640"/>
              <a:ext cx="567000" cy="535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9"/>
            <p:cNvSpPr/>
            <p:nvPr/>
          </p:nvSpPr>
          <p:spPr>
            <a:xfrm>
              <a:off x="4565520" y="530784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29"/>
          <p:cNvSpPr/>
          <p:nvPr/>
        </p:nvSpPr>
        <p:spPr>
          <a:xfrm>
            <a:off x="2419200" y="6021360"/>
            <a:ext cx="40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arch range with variable length MV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ed vs. Rext-3.0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143-637D-4D27-80DD-CCA32AA61B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10" descr=""/>
          <p:cNvPicPr/>
          <p:nvPr/>
        </p:nvPicPr>
        <p:blipFill>
          <a:blip r:embed="rId1"/>
          <a:stretch/>
        </p:blipFill>
        <p:spPr>
          <a:xfrm>
            <a:off x="1771560" y="2781360"/>
            <a:ext cx="5810400" cy="387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11" descr=""/>
          <p:cNvPicPr/>
          <p:nvPr/>
        </p:nvPicPr>
        <p:blipFill>
          <a:blip r:embed="rId2"/>
          <a:stretch/>
        </p:blipFill>
        <p:spPr>
          <a:xfrm>
            <a:off x="1771560" y="1095480"/>
            <a:ext cx="5781600" cy="14889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3"/>
          <p:cNvSpPr/>
          <p:nvPr/>
        </p:nvSpPr>
        <p:spPr>
          <a:xfrm>
            <a:off x="666720" y="12114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666720" y="290664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68356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ed vs. RCE3.3 Option 2 (3 LCU line buffer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CF0B-21DD-43AF-9013-AF37FA57F03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3"/>
          <p:cNvSpPr/>
          <p:nvPr/>
        </p:nvSpPr>
        <p:spPr>
          <a:xfrm>
            <a:off x="666720" y="12114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4"/>
          <p:cNvSpPr/>
          <p:nvPr/>
        </p:nvSpPr>
        <p:spPr>
          <a:xfrm>
            <a:off x="666720" y="290664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1771560" y="1090440"/>
            <a:ext cx="5789880" cy="1490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1781280" y="2771640"/>
            <a:ext cx="58068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he proposed intra MC provides significant coding gains in both lossless and lossy coding for screen content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Friendly to the current HEVC architecture, so easy to be ext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Need to store 2 left LCUs additionally in the propose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ore gain is expected by extending search rang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F4DF-D3A5-45E9-BCA2-FA09861D4D0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ed (1 left LCU) vs. Rext-3.0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5536-6B19-43B2-90B6-70DFDF4855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3"/>
          <p:cNvSpPr/>
          <p:nvPr/>
        </p:nvSpPr>
        <p:spPr>
          <a:xfrm>
            <a:off x="666720" y="121140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666720" y="290664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oss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771560" y="1095480"/>
            <a:ext cx="5789880" cy="1490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1771560" y="2781360"/>
            <a:ext cx="58057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7-25T00:23:05Z</dcterms:modified>
  <cp:revision>219</cp:revision>
  <dc:subject/>
  <dc:title>Presentation Title Here</dc:title>
</cp:coreProperties>
</file>