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372-F1BF-49A9-A624-614D132D7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5A2-2359-450A-BB3C-B7DCFC92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2D7-4A97-47F1-AF77-0AAE3628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351F-9DF6-4FDB-9C86-19FF7378F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F02A-46AA-4859-8818-394093FD5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A8B5-8784-4F9C-ACE8-1A8154433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DA65-2261-461D-9134-89D331B1A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6962-8098-4B70-8F02-AE479CF50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1608-0D59-463C-8A6E-C73A6507D9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047A-8D4C-4F79-87DE-A9DB51CFC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F685-B4B1-4B0F-8F3E-3651F4CD60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D276-741E-4C62-963C-8DD8927D1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B0E1-D146-4BDD-A10F-70CA0165CB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3908-6C01-4E10-B20D-8048E7484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3E8F-EE9D-4633-A540-ED76DD6EF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7D3B-D117-4A30-B625-9F77A3753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6FEA-D9A4-4A48-9032-8D699C06C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C03B-52D5-4D52-8EF9-B3DD9A2C2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D810-86DF-47C9-9B41-1634B357A4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843E-0583-4360-A983-478BE19DBB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AFF-EA6E-4DD3-8AE2-76BB3AF37D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0FC-A565-4B42-ACC0-EE75B67F47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A0E-DE20-4DB0-9A4A-43F02A5590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3B7-C9FC-4585-90BE-14A566CBFF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411-280B-457C-9C4E-BF341C062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3B9D-D7C7-4B59-BE51-638A66D62C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D5C-7690-482F-BE70-D264C764F8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9B9-3BBB-48AF-A908-4ABE8D9B80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E46-9EDA-40EB-AD91-6EB797D0E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E75-E4E9-4E17-B2B7-F97B823EFC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6D0-8410-49FE-A0F7-411BB96F06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ED6-0B75-4341-ADD5-9C7BF73537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C0C-E859-4F30-8DC3-2F0CD707E5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82C51-AA15-43A6-A1F4-96EAB2E864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D6729-8124-46AD-8DE2-B24D3A1CCA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95B89-49D7-4103-8F04-5F8564F99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AA91-A285-4055-97CA-4045227D82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DE4A5-F333-4D79-99D0-0AA7E99FB9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A348-3121-4E83-A9BA-316414707D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D96DB-DD0E-4672-9D2D-DF59DCEA26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E1B94-1FC5-40A7-B97B-CAC361C71E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5266A-1111-452C-BF95-5B8CE0602E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FC3D3-F050-4150-A230-2FB81C5A35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997A-A069-441C-AA1F-756A028C9B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41C71-7428-4490-B31A-C530A3196B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635C8-4598-4B28-B602-D9D716C311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4B95-965E-4CBE-A6C2-33EAB880E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6225-F396-4770-A271-943F9202EB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ABF2-39AA-4A74-841B-62D2901357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9385B-383F-4F62-B2DD-F5690A1162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53661-D065-4A6C-A73C-94A4F98FE6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1F74-7464-4C89-9A61-50C3C623D5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F6E57-6AD0-4BB1-A4CF-885942F8BD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618AE-3047-4985-963E-A7AC7C89C0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CADD-1726-438D-A013-BC1CC18E28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129C5-106A-4361-B504-AAAC6D9913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FEAF-0102-4545-BFE6-7DDF81FEE7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4608-20DD-4DD6-B597-033B12CC7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E6B0-0638-44E5-A324-A89C92B28E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E171-F65D-4B65-929F-BD51BD279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00F3-61A2-43E2-98FF-202FDE78E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035A-C84F-44DD-92C8-E06D7C77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91E5-5E45-4246-BB41-B67BD4050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96D-B44A-4BF8-B057-3557222B847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34F-F9FB-491C-976C-7C155CCEE29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949E-23F8-4201-B607-9741934EC31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F85-87EB-4A14-8FFD-41B0334A7B4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2BA0-CDF9-4107-9DE4-AADD6146B32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B9CB-5203-4EA4-9211-052E6BE337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N0205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RCE3: Results of test 3.3 on Intra motion compensation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360" y="11188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creen content video, patterns (e.g. text characters, icons, lines etc.) can repeat within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motion compensation can code repeated patterns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7EF-CC1C-4031-BFE7-DDCBD94556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151000" y="258588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2133720" y="5840280"/>
            <a:ext cx="42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peated pattern (red) in screen content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E91-5D5C-40FA-A6A2-094EB1CCE3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oposed method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3360" y="1081080"/>
            <a:ext cx="8439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a motion compensation with fixed-length MV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ither horizontal or vertical motion component is sign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Two encoder configs for search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Option 1: Horizontal and vertical motions are limited to -63 ~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Need to store 3 LCU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Option 2: Horizontal motion is limited to -63 ~ 0, and vertical motion is limited so that a displaced block is included in the current L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Need to store 2 left L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bsolute value of motion is always coded in 6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2"/>
          <p:cNvGrpSpPr/>
          <p:nvPr/>
        </p:nvGrpSpPr>
        <p:grpSpPr>
          <a:xfrm>
            <a:off x="971640" y="3848040"/>
            <a:ext cx="3209760" cy="2133720"/>
            <a:chOff x="971640" y="3848040"/>
            <a:chExt cx="3209760" cy="2133720"/>
          </a:xfrm>
        </p:grpSpPr>
        <p:sp>
          <p:nvSpPr>
            <p:cNvPr id="227" name="Rectangle 40"/>
            <p:cNvSpPr/>
            <p:nvPr/>
          </p:nvSpPr>
          <p:spPr>
            <a:xfrm>
              <a:off x="3022200" y="3848040"/>
              <a:ext cx="1159200" cy="925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2487240" y="3848040"/>
              <a:ext cx="534960" cy="1192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2754720" y="5033520"/>
              <a:ext cx="26748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3"/>
            <p:cNvSpPr/>
            <p:nvPr/>
          </p:nvSpPr>
          <p:spPr>
            <a:xfrm>
              <a:off x="2754720" y="4766760"/>
              <a:ext cx="267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4"/>
            <p:cNvSpPr/>
            <p:nvPr/>
          </p:nvSpPr>
          <p:spPr>
            <a:xfrm>
              <a:off x="2487240" y="4770360"/>
              <a:ext cx="267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5"/>
            <p:cNvSpPr/>
            <p:nvPr/>
          </p:nvSpPr>
          <p:spPr>
            <a:xfrm>
              <a:off x="971640" y="3848040"/>
              <a:ext cx="1515600" cy="146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6"/>
            <p:cNvSpPr/>
            <p:nvPr/>
          </p:nvSpPr>
          <p:spPr>
            <a:xfrm>
              <a:off x="971640" y="3848040"/>
              <a:ext cx="320976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47"/>
            <p:cNvSpPr/>
            <p:nvPr/>
          </p:nvSpPr>
          <p:spPr>
            <a:xfrm>
              <a:off x="2487240" y="5033520"/>
              <a:ext cx="267480" cy="26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2485440" y="4203720"/>
              <a:ext cx="269280" cy="829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9"/>
            <p:cNvSpPr/>
            <p:nvPr/>
          </p:nvSpPr>
          <p:spPr>
            <a:xfrm>
              <a:off x="1595520" y="5033520"/>
              <a:ext cx="887760" cy="266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0"/>
            <p:cNvSpPr/>
            <p:nvPr/>
          </p:nvSpPr>
          <p:spPr>
            <a:xfrm>
              <a:off x="2839320" y="551880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rent 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1"/>
            <p:cNvSpPr/>
            <p:nvPr/>
          </p:nvSpPr>
          <p:spPr>
            <a:xfrm>
              <a:off x="1560240" y="423324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 flipV="1">
              <a:off x="3022200" y="4914720"/>
              <a:ext cx="356400" cy="29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 flipH="1" flipV="1">
              <a:off x="1900440" y="4682880"/>
              <a:ext cx="141120" cy="40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4"/>
            <p:cNvSpPr/>
            <p:nvPr/>
          </p:nvSpPr>
          <p:spPr>
            <a:xfrm flipH="1" flipV="1">
              <a:off x="2160000" y="4433040"/>
              <a:ext cx="415800" cy="2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2487240" y="4766760"/>
              <a:ext cx="53496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6"/>
            <p:cNvSpPr/>
            <p:nvPr/>
          </p:nvSpPr>
          <p:spPr>
            <a:xfrm>
              <a:off x="2647080" y="5224320"/>
              <a:ext cx="189360" cy="32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3267720" y="4737240"/>
              <a:ext cx="78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L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64x6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8"/>
            <p:cNvSpPr/>
            <p:nvPr/>
          </p:nvSpPr>
          <p:spPr>
            <a:xfrm>
              <a:off x="2785320" y="4075560"/>
              <a:ext cx="87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– cuHeigh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9"/>
            <p:cNvSpPr/>
            <p:nvPr/>
          </p:nvSpPr>
          <p:spPr>
            <a:xfrm>
              <a:off x="2831040" y="4470120"/>
              <a:ext cx="72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0"/>
            <p:cNvSpPr/>
            <p:nvPr/>
          </p:nvSpPr>
          <p:spPr>
            <a:xfrm>
              <a:off x="1942200" y="528156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1"/>
            <p:cNvSpPr/>
            <p:nvPr/>
          </p:nvSpPr>
          <p:spPr>
            <a:xfrm>
              <a:off x="1149840" y="5459400"/>
              <a:ext cx="98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- 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2205000" y="5033520"/>
              <a:ext cx="27864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>
              <a:off x="1595520" y="528156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4"/>
            <p:cNvSpPr/>
            <p:nvPr/>
          </p:nvSpPr>
          <p:spPr>
            <a:xfrm>
              <a:off x="2487240" y="4776120"/>
              <a:ext cx="26748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V="1">
              <a:off x="2754720" y="4642200"/>
              <a:ext cx="144720" cy="12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57"/>
          <p:cNvGrpSpPr/>
          <p:nvPr/>
        </p:nvGrpSpPr>
        <p:grpSpPr>
          <a:xfrm>
            <a:off x="4657680" y="3848040"/>
            <a:ext cx="3210120" cy="2130480"/>
            <a:chOff x="4657680" y="3848040"/>
            <a:chExt cx="3210120" cy="2130480"/>
          </a:xfrm>
        </p:grpSpPr>
        <p:sp>
          <p:nvSpPr>
            <p:cNvPr id="254" name="Rectangle 66"/>
            <p:cNvSpPr/>
            <p:nvPr/>
          </p:nvSpPr>
          <p:spPr>
            <a:xfrm>
              <a:off x="6708600" y="3848040"/>
              <a:ext cx="1159200" cy="924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7"/>
            <p:cNvSpPr/>
            <p:nvPr/>
          </p:nvSpPr>
          <p:spPr>
            <a:xfrm>
              <a:off x="6173640" y="3848040"/>
              <a:ext cx="534960" cy="1190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8"/>
            <p:cNvSpPr/>
            <p:nvPr/>
          </p:nvSpPr>
          <p:spPr>
            <a:xfrm>
              <a:off x="6441120" y="50317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9"/>
            <p:cNvSpPr/>
            <p:nvPr/>
          </p:nvSpPr>
          <p:spPr>
            <a:xfrm>
              <a:off x="6441120" y="47653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0"/>
            <p:cNvSpPr/>
            <p:nvPr/>
          </p:nvSpPr>
          <p:spPr>
            <a:xfrm>
              <a:off x="6173640" y="47689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1"/>
            <p:cNvSpPr/>
            <p:nvPr/>
          </p:nvSpPr>
          <p:spPr>
            <a:xfrm>
              <a:off x="4657680" y="3848040"/>
              <a:ext cx="1515960" cy="145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2"/>
            <p:cNvSpPr/>
            <p:nvPr/>
          </p:nvSpPr>
          <p:spPr>
            <a:xfrm>
              <a:off x="4657680" y="3848040"/>
              <a:ext cx="3210120" cy="213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3"/>
            <p:cNvSpPr/>
            <p:nvPr/>
          </p:nvSpPr>
          <p:spPr>
            <a:xfrm>
              <a:off x="6173640" y="5031720"/>
              <a:ext cx="267480" cy="26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4"/>
            <p:cNvSpPr/>
            <p:nvPr/>
          </p:nvSpPr>
          <p:spPr>
            <a:xfrm>
              <a:off x="6171840" y="4768920"/>
              <a:ext cx="269280" cy="262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5"/>
            <p:cNvSpPr/>
            <p:nvPr/>
          </p:nvSpPr>
          <p:spPr>
            <a:xfrm>
              <a:off x="5281920" y="5031720"/>
              <a:ext cx="887760" cy="266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6"/>
            <p:cNvSpPr/>
            <p:nvPr/>
          </p:nvSpPr>
          <p:spPr>
            <a:xfrm>
              <a:off x="6525360" y="551628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rent 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7"/>
            <p:cNvSpPr/>
            <p:nvPr/>
          </p:nvSpPr>
          <p:spPr>
            <a:xfrm>
              <a:off x="5246280" y="423252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 flipV="1">
              <a:off x="6708600" y="4913280"/>
              <a:ext cx="356400" cy="29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9"/>
            <p:cNvSpPr/>
            <p:nvPr/>
          </p:nvSpPr>
          <p:spPr>
            <a:xfrm flipH="1" flipV="1">
              <a:off x="5586480" y="4682160"/>
              <a:ext cx="135360" cy="41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0"/>
            <p:cNvSpPr/>
            <p:nvPr/>
          </p:nvSpPr>
          <p:spPr>
            <a:xfrm flipH="1" flipV="1">
              <a:off x="5846040" y="4431960"/>
              <a:ext cx="427320" cy="44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1"/>
            <p:cNvSpPr/>
            <p:nvPr/>
          </p:nvSpPr>
          <p:spPr>
            <a:xfrm>
              <a:off x="6173640" y="4765320"/>
              <a:ext cx="534960" cy="53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6333480" y="5222160"/>
              <a:ext cx="189360" cy="31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3"/>
            <p:cNvSpPr/>
            <p:nvPr/>
          </p:nvSpPr>
          <p:spPr>
            <a:xfrm>
              <a:off x="5628240" y="526860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84"/>
            <p:cNvSpPr/>
            <p:nvPr/>
          </p:nvSpPr>
          <p:spPr>
            <a:xfrm>
              <a:off x="4835880" y="5446080"/>
              <a:ext cx="98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- 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5"/>
            <p:cNvSpPr/>
            <p:nvPr/>
          </p:nvSpPr>
          <p:spPr>
            <a:xfrm>
              <a:off x="6953760" y="4735800"/>
              <a:ext cx="78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L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64x6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6"/>
            <p:cNvSpPr/>
            <p:nvPr/>
          </p:nvSpPr>
          <p:spPr>
            <a:xfrm>
              <a:off x="5891040" y="5031720"/>
              <a:ext cx="27864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5281920" y="5268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8"/>
            <p:cNvSpPr/>
            <p:nvPr/>
          </p:nvSpPr>
          <p:spPr>
            <a:xfrm>
              <a:off x="6517440" y="4469400"/>
              <a:ext cx="72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 flipV="1">
              <a:off x="6441120" y="4641120"/>
              <a:ext cx="144720" cy="12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58"/>
          <p:cNvSpPr/>
          <p:nvPr/>
        </p:nvSpPr>
        <p:spPr>
          <a:xfrm>
            <a:off x="1314360" y="60022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arch range,  Op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9"/>
          <p:cNvSpPr/>
          <p:nvPr/>
        </p:nvSpPr>
        <p:spPr>
          <a:xfrm>
            <a:off x="5124600" y="6002280"/>
            <a:ext cx="22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arch range, Op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on 1 vs. Rext-3.0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257F-20CD-48D5-A9D9-8657CB9584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666720" y="12114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666720" y="290664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"/>
          <a:stretch/>
        </p:blipFill>
        <p:spPr>
          <a:xfrm>
            <a:off x="1771560" y="1081080"/>
            <a:ext cx="5778720" cy="149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2"/>
          <a:stretch/>
        </p:blipFill>
        <p:spPr>
          <a:xfrm>
            <a:off x="1781280" y="2771640"/>
            <a:ext cx="58068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8356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on 2 vs. Rext-3.0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E43-86F5-40EF-B8B1-FB63B033F8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666720" y="12114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666720" y="290664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1"/>
          <a:stretch/>
        </p:blipFill>
        <p:spPr>
          <a:xfrm>
            <a:off x="1771560" y="1095480"/>
            <a:ext cx="5789880" cy="1490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1781280" y="2766960"/>
            <a:ext cx="58068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he proposed intra MC provides significant coding gains in both lossless and lossy coding for screen content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Friendly to the current HEVC architecture, so easy to be 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ption 2 needs to store 2 left LCUs additio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ore gain is expected by extending search rang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1DDF-1AF4-45E5-A3B4-98A8ED789D6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7-27T10:01:49Z</dcterms:modified>
  <cp:revision>222</cp:revision>
  <dc:subject/>
  <dc:title>Presentation Title Here</dc:title>
</cp:coreProperties>
</file>