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png" ContentType="image/png"/>
  <Override PartName="/ppt/media/image3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777420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80520" y="4201560"/>
            <a:ext cx="777420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36428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420156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364280" y="420156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09240" y="129528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37600" y="129528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380520" y="420156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09240" y="420156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637600" y="420156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380520" y="1295280"/>
            <a:ext cx="7774200" cy="55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777420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79368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364280" y="1295280"/>
            <a:ext cx="379368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304920" y="-360"/>
            <a:ext cx="77738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364280" y="1295280"/>
            <a:ext cx="379368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380520" y="420156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380520" y="1295280"/>
            <a:ext cx="7774200" cy="55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79368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364280" y="420156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80520" y="4201560"/>
            <a:ext cx="777420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777420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80520" y="4201560"/>
            <a:ext cx="777420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36428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80520" y="420156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364280" y="420156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009240" y="129528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637600" y="129528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380520" y="420156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009240" y="420156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637600" y="420156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380520" y="1295280"/>
            <a:ext cx="7774200" cy="55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777420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79368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364280" y="1295280"/>
            <a:ext cx="379368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777420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304920" y="-360"/>
            <a:ext cx="77738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364280" y="1295280"/>
            <a:ext cx="379368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380520" y="420156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79368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364280" y="420156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380520" y="4201560"/>
            <a:ext cx="777420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777420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80520" y="4201560"/>
            <a:ext cx="777420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36428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80520" y="420156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364280" y="420156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009240" y="129528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637600" y="129528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380520" y="420156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009240" y="420156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637600" y="420156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79368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364280" y="1295280"/>
            <a:ext cx="379368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304920" y="-360"/>
            <a:ext cx="77738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64280" y="1295280"/>
            <a:ext cx="379368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380520" y="420156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79368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36428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364280" y="420156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36428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80520" y="4201560"/>
            <a:ext cx="777420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438280"/>
            <a:ext cx="7773840" cy="14493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Arial Bold"/>
              </a:rPr>
              <a:t>Click to edit the title text format</a:t>
            </a:r>
            <a:endParaRPr b="0" lang="en-US" sz="41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14400" y="3887280"/>
            <a:ext cx="6400800" cy="2171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 fontScale="62000"/>
          </a:bodyPr>
          <a:p>
            <a:pPr marL="244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24480" indent="-244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2" marL="24480" indent="-24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3" marL="24480" indent="-244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4" marL="24480" indent="-2448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5" marL="24480" indent="-2448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6" marL="24480" indent="-2448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2708c"/>
                </a:solidFill>
                <a:latin typeface="Arial Bold"/>
              </a:rPr>
              <a:t>Click to edit the title text format</a:t>
            </a: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5280"/>
            <a:ext cx="777420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marL="309600" indent="-30492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63480" indent="-250560">
              <a:spcBef>
                <a:spcPts val="400"/>
              </a:spcBef>
              <a:buClr>
                <a:srgbClr val="6270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20600" indent="-20304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5600" indent="-201600">
              <a:spcBef>
                <a:spcPts val="400"/>
              </a:spcBef>
              <a:buClr>
                <a:srgbClr val="6270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33480" indent="-203040">
              <a:spcBef>
                <a:spcPts val="400"/>
              </a:spcBef>
              <a:buClr>
                <a:srgbClr val="62708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33480" indent="-20304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33480" indent="-20304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1" descr="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3"/>
          <p:cNvSpPr/>
          <p:nvPr/>
        </p:nvSpPr>
        <p:spPr>
          <a:xfrm>
            <a:off x="801720" y="6480000"/>
            <a:ext cx="46483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116280" tIns="63360" bIns="63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Gill Sans"/>
                <a:ea typeface="Gill Sans"/>
              </a:rPr>
              <a:t> </a:t>
            </a:r>
            <a:r>
              <a:rPr b="0" lang="en-US" sz="1500" spc="-1" strike="noStrike">
                <a:solidFill>
                  <a:srgbClr val="ffffff"/>
                </a:solidFill>
                <a:latin typeface="Gill Sans"/>
                <a:ea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"/>
          <p:cNvPicPr/>
          <p:nvPr/>
        </p:nvPicPr>
        <p:blipFill>
          <a:blip r:embed="rId3"/>
          <a:stretch/>
        </p:blipFill>
        <p:spPr>
          <a:xfrm>
            <a:off x="193680" y="655308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5"/>
          <p:cNvSpPr/>
          <p:nvPr/>
        </p:nvSpPr>
        <p:spPr>
          <a:xfrm>
            <a:off x="7404120" y="6534000"/>
            <a:ext cx="175248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©</a:t>
            </a: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Arial"/>
              </a:rPr>
              <a:t> BBC MMXII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2"/>
          <p:cNvSpPr/>
          <p:nvPr/>
        </p:nvSpPr>
        <p:spPr>
          <a:xfrm>
            <a:off x="304920" y="762120"/>
            <a:ext cx="8535960" cy="144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5"/>
          <p:cNvSpPr/>
          <p:nvPr/>
        </p:nvSpPr>
        <p:spPr>
          <a:xfrm>
            <a:off x="3492360" y="6526080"/>
            <a:ext cx="175284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JCTVC-N017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2708c"/>
                </a:solidFill>
                <a:latin typeface="Arial Bold"/>
              </a:rPr>
              <a:t>Click to edit the title text format</a:t>
            </a: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80520" y="1295280"/>
            <a:ext cx="777420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marL="309600" indent="-30492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63480" indent="-250560">
              <a:spcBef>
                <a:spcPts val="400"/>
              </a:spcBef>
              <a:buClr>
                <a:srgbClr val="6270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20600" indent="-20304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5600" indent="-201600">
              <a:spcBef>
                <a:spcPts val="400"/>
              </a:spcBef>
              <a:buClr>
                <a:srgbClr val="6270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33480" indent="-203040">
              <a:spcBef>
                <a:spcPts val="400"/>
              </a:spcBef>
              <a:buClr>
                <a:srgbClr val="62708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33480" indent="-20304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33480" indent="-20304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1" descr=""/>
          <p:cNvPicPr/>
          <p:nvPr/>
        </p:nvPicPr>
        <p:blipFill>
          <a:blip r:embed="rId1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2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3"/>
          <p:cNvSpPr/>
          <p:nvPr/>
        </p:nvSpPr>
        <p:spPr>
          <a:xfrm>
            <a:off x="828720" y="3887640"/>
            <a:ext cx="77760" cy="4572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801720" y="6480000"/>
            <a:ext cx="46483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116280" tIns="63360" bIns="63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  <a:ea typeface="Gill Sans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Gill Sans"/>
                <a:ea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5" descr=""/>
          <p:cNvPicPr/>
          <p:nvPr/>
        </p:nvPicPr>
        <p:blipFill>
          <a:blip r:embed="rId2"/>
          <a:stretch/>
        </p:blipFill>
        <p:spPr>
          <a:xfrm>
            <a:off x="193680" y="655308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6"/>
          <p:cNvSpPr/>
          <p:nvPr/>
        </p:nvSpPr>
        <p:spPr>
          <a:xfrm>
            <a:off x="7404120" y="6534000"/>
            <a:ext cx="175248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©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 BBC MMXI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52000" y="1270080"/>
            <a:ext cx="8712360" cy="2185920"/>
          </a:xfrm>
          <a:prstGeom prst="rect">
            <a:avLst/>
          </a:prstGeom>
          <a:noFill/>
          <a:ln w="0">
            <a:noFill/>
          </a:ln>
        </p:spPr>
        <p:txBody>
          <a:bodyPr lIns="38160" rIns="124560" tIns="38160" bIns="38160" anchor="ctr">
            <a:noAutofit/>
          </a:bodyPr>
          <a:p>
            <a:pPr marL="42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 Bold"/>
              </a:rPr>
              <a:t>JCTVC-N0175</a:t>
            </a:r>
            <a:br>
              <a:rPr sz="3000"/>
            </a:br>
            <a:br>
              <a:rPr sz="3000"/>
            </a:br>
            <a:r>
              <a:rPr b="1" lang="en-CA" sz="3200" spc="-1" strike="noStrike">
                <a:solidFill>
                  <a:srgbClr val="ffffff"/>
                </a:solidFill>
                <a:latin typeface="Arial Bold"/>
              </a:rPr>
              <a:t>RCE2 Test B.3: </a:t>
            </a:r>
            <a:r>
              <a:rPr b="1" lang="en-GB" sz="3200" spc="-1" strike="noStrike">
                <a:solidFill>
                  <a:srgbClr val="ffffff"/>
                </a:solidFill>
                <a:latin typeface="Arial Bold"/>
              </a:rPr>
              <a:t>Mirroring of Coefficients for Transform Skipping</a:t>
            </a:r>
            <a:endParaRPr b="0" lang="en-US" sz="32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99640" y="3849840"/>
            <a:ext cx="8231400" cy="2171520"/>
          </a:xfrm>
          <a:prstGeom prst="rect">
            <a:avLst/>
          </a:prstGeom>
          <a:noFill/>
          <a:ln w="0">
            <a:noFill/>
          </a:ln>
        </p:spPr>
        <p:txBody>
          <a:bodyPr lIns="50760" rIns="36000" tIns="50760" bIns="50760" anchor="t">
            <a:normAutofit/>
          </a:bodyPr>
          <a:p>
            <a:pPr marL="39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Rajitha Weerakkody and Marta Mrak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9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9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Arial"/>
              </a:rPr>
              <a:t>BBC Research and Development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55600" y="70920"/>
            <a:ext cx="7773840" cy="6937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2708c"/>
                </a:solidFill>
                <a:latin typeface="Arial Bold"/>
              </a:rPr>
              <a:t>Transform skip</a:t>
            </a:r>
            <a:endParaRPr b="0" lang="en-US" sz="24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80520" y="1294920"/>
            <a:ext cx="7774200" cy="508644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marL="309600" indent="-30492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Coefficient coding design assumes usage of transforms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63480" indent="-250560">
              <a:spcBef>
                <a:spcPts val="400"/>
              </a:spcBef>
              <a:buClr>
                <a:srgbClr val="6270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Significant coefficients closer to top-left corner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63480" indent="-250560">
              <a:spcBef>
                <a:spcPts val="400"/>
              </a:spcBef>
              <a:buClr>
                <a:srgbClr val="6270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marL="309600" indent="-30492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Suboptimal performance when the transform is skipped (or is not performed to achieve lossless coding)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63480" indent="-250560">
              <a:spcBef>
                <a:spcPts val="400"/>
              </a:spcBef>
              <a:buClr>
                <a:srgbClr val="6270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808080"/>
                </a:solidFill>
                <a:latin typeface="Arial"/>
              </a:rPr>
              <a:t>Enabling better efficiency in those cases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2" marL="1020600" indent="-20304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808080"/>
                </a:solidFill>
                <a:latin typeface="Arial"/>
              </a:rPr>
              <a:t>Simple rearrangements of coefficients can lead to improved compression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marL="309600" indent="-30492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2708c"/>
                </a:solidFill>
                <a:latin typeface="Arial Bold"/>
              </a:rPr>
              <a:t>Proposal - mirroring of coefficients</a:t>
            </a:r>
            <a:endParaRPr b="0" lang="en-US" sz="24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252000" y="909360"/>
            <a:ext cx="7774200" cy="508644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marL="309600" indent="-30492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Before entropy coding residual coefficients are rearranged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63480" indent="-250560">
              <a:spcBef>
                <a:spcPts val="400"/>
              </a:spcBef>
              <a:buClr>
                <a:srgbClr val="6270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Same at the decoder after entropy decod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309600" indent="-30492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Depending on the scanning order for the given block, the coefficients are rearranged relative to their original spatial position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2" name="Rectangle 2"/>
          <p:cNvSpPr/>
          <p:nvPr/>
        </p:nvSpPr>
        <p:spPr>
          <a:xfrm>
            <a:off x="0" y="0"/>
            <a:ext cx="91454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Object 1"/>
          <p:cNvGraphicFramePr/>
          <p:nvPr/>
        </p:nvGraphicFramePr>
        <p:xfrm>
          <a:off x="324000" y="2494080"/>
          <a:ext cx="8157960" cy="367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2494080"/>
                    <a:ext cx="8157960" cy="36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2708c"/>
                </a:solidFill>
                <a:latin typeface="Arial Bold"/>
              </a:rPr>
              <a:t>Implementation</a:t>
            </a:r>
            <a:endParaRPr b="0" lang="en-US" sz="24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80880" y="1294920"/>
            <a:ext cx="8764560" cy="5015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marL="309600" indent="-30492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Mirroring implemented during transform skipping normalisation 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63480" indent="-250560">
              <a:spcBef>
                <a:spcPts val="400"/>
              </a:spcBef>
              <a:buClr>
                <a:srgbClr val="6270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Before quantization, after dequantizatio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309600" indent="-30492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309600" indent="-30492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808080"/>
                </a:solidFill>
                <a:latin typeface="Arial"/>
              </a:rPr>
              <a:t>Decoder: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309600" indent="-30492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309600" indent="-3049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808080"/>
                </a:solidFill>
                <a:latin typeface="Courier New"/>
                <a:ea typeface="Courier New"/>
              </a:rPr>
              <a:t>if (diag)</a:t>
            </a:r>
            <a:endParaRPr b="0" lang="en-US" sz="1200" spc="-1" strike="noStrike">
              <a:solidFill>
                <a:srgbClr val="808080"/>
              </a:solidFill>
              <a:latin typeface="Arial"/>
            </a:endParaRPr>
          </a:p>
          <a:p>
            <a:pPr marL="309600" indent="-3049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808080"/>
                </a:solidFill>
                <a:latin typeface="Courier New"/>
                <a:ea typeface="Courier New"/>
              </a:rPr>
              <a:t>  </a:t>
            </a:r>
            <a:r>
              <a:rPr b="0" lang="en-CA" sz="1200" spc="-1" strike="noStrike">
                <a:solidFill>
                  <a:srgbClr val="808080"/>
                </a:solidFill>
                <a:latin typeface="Courier New"/>
                <a:ea typeface="Courier New"/>
              </a:rPr>
              <a:t>pResidual[j*uiStride+k]=(plCoef[(width*height)-1-width*k-j]+offset)&gt;&gt; transformSkipShift;</a:t>
            </a:r>
            <a:endParaRPr b="0" lang="en-US" sz="1200" spc="-1" strike="noStrike">
              <a:solidFill>
                <a:srgbClr val="808080"/>
              </a:solidFill>
              <a:latin typeface="Arial"/>
            </a:endParaRPr>
          </a:p>
          <a:p>
            <a:pPr marL="309600" indent="-3049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808080"/>
                </a:solidFill>
                <a:latin typeface="Courier New"/>
                <a:ea typeface="Courier New"/>
              </a:rPr>
              <a:t>else</a:t>
            </a:r>
            <a:endParaRPr b="0" lang="en-US" sz="1200" spc="-1" strike="noStrike">
              <a:solidFill>
                <a:srgbClr val="808080"/>
              </a:solidFill>
              <a:latin typeface="Arial"/>
            </a:endParaRPr>
          </a:p>
          <a:p>
            <a:pPr marL="309600" indent="-3049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808080"/>
                </a:solidFill>
                <a:latin typeface="Courier New"/>
                <a:ea typeface="Courier New"/>
              </a:rPr>
              <a:t>  </a:t>
            </a:r>
            <a:r>
              <a:rPr b="0" lang="en-CA" sz="1200" spc="-1" strike="noStrike">
                <a:solidFill>
                  <a:srgbClr val="808080"/>
                </a:solidFill>
                <a:latin typeface="Courier New"/>
                <a:ea typeface="Courier New"/>
              </a:rPr>
              <a:t>pResidual[j*uiStride+k]= (plCoef[k*width + j] + offset) &gt;&gt; transformSkipShift;</a:t>
            </a:r>
            <a:endParaRPr b="0" lang="en-US" sz="1200" spc="-1" strike="noStrike">
              <a:solidFill>
                <a:srgbClr val="808080"/>
              </a:solidFill>
              <a:latin typeface="Arial"/>
            </a:endParaRPr>
          </a:p>
          <a:p>
            <a:pPr marL="309600" indent="-30492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marL="309600" indent="-30492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graphicFrame>
        <p:nvGraphicFramePr>
          <p:cNvPr id="137" name="Object 3"/>
          <p:cNvGraphicFramePr/>
          <p:nvPr/>
        </p:nvGraphicFramePr>
        <p:xfrm>
          <a:off x="2484360" y="4294080"/>
          <a:ext cx="4484880" cy="201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84360" y="4294080"/>
                    <a:ext cx="4484880" cy="201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04920" y="-8604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2708c"/>
                </a:solidFill>
                <a:latin typeface="Arial Bold"/>
              </a:rPr>
              <a:t>Results</a:t>
            </a:r>
            <a:br>
              <a:rPr sz="2400"/>
            </a:br>
            <a:r>
              <a:rPr b="0" lang="en-GB" sz="2400" spc="-1" strike="noStrike">
                <a:solidFill>
                  <a:srgbClr val="62708c"/>
                </a:solidFill>
                <a:latin typeface="Arial Bold"/>
              </a:rPr>
              <a:t>Mirroring</a:t>
            </a:r>
            <a:endParaRPr b="0" lang="en-US" sz="2400" spc="-1" strike="noStrike">
              <a:solidFill>
                <a:srgbClr val="62708c"/>
              </a:solidFill>
              <a:latin typeface="Arial Bold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1362240" y="1270080"/>
          <a:ext cx="6883200" cy="4533840"/>
        </p:xfrm>
        <a:graphic>
          <a:graphicData uri="http://schemas.openxmlformats.org/drawingml/2006/table">
            <a:tbl>
              <a:tblPr/>
              <a:tblGrid>
                <a:gridCol w="823680"/>
                <a:gridCol w="673200"/>
                <a:gridCol w="674640"/>
                <a:gridCol w="673200"/>
                <a:gridCol w="672840"/>
                <a:gridCol w="673200"/>
                <a:gridCol w="673200"/>
                <a:gridCol w="673200"/>
                <a:gridCol w="672840"/>
                <a:gridCol w="673200"/>
              </a:tblGrid>
              <a:tr h="1522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 Intra HE Main-ti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 Intra HE High-ti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 Intra HE Super-High-ti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2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2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6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7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9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6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7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9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5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6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7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52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B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22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 RGB 44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9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7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9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7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6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7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4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22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 YUV 44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9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9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8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9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9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8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9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7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2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ngeEx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2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c Time[%]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2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 Time[%]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2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522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ndom Access HE Main-ti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ndom Access HE High-ti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2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2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5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22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B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2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 RGB 44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5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4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5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4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22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 YUV 44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4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2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ngeEx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22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c Time[%]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2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 Time[%]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2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22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 delay B HE Main-ti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 delay B HE High-ti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2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22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8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6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7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6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22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B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2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 RGB 44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6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4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4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7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5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4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22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 YUV 44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8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6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5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7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7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7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2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ngeEx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22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c Time[%]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2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 Time[%]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4920" y="-8604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2708c"/>
                </a:solidFill>
                <a:latin typeface="Arial Bold"/>
              </a:rPr>
              <a:t>Results </a:t>
            </a:r>
            <a:br>
              <a:rPr sz="2400"/>
            </a:br>
            <a:r>
              <a:rPr b="0" lang="en-GB" sz="2400" spc="-1" strike="noStrike">
                <a:solidFill>
                  <a:srgbClr val="62708c"/>
                </a:solidFill>
                <a:latin typeface="Arial Bold"/>
              </a:rPr>
              <a:t>Mirroring and constant context for significance map</a:t>
            </a:r>
            <a:endParaRPr b="0" lang="en-US" sz="2400" spc="-1" strike="noStrike">
              <a:solidFill>
                <a:srgbClr val="62708c"/>
              </a:solidFill>
              <a:latin typeface="Arial Bold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1362240" y="1270080"/>
          <a:ext cx="6883200" cy="4533840"/>
        </p:xfrm>
        <a:graphic>
          <a:graphicData uri="http://schemas.openxmlformats.org/drawingml/2006/table">
            <a:tbl>
              <a:tblPr/>
              <a:tblGrid>
                <a:gridCol w="823680"/>
                <a:gridCol w="673200"/>
                <a:gridCol w="674640"/>
                <a:gridCol w="673200"/>
                <a:gridCol w="672840"/>
                <a:gridCol w="673200"/>
                <a:gridCol w="673200"/>
                <a:gridCol w="673200"/>
                <a:gridCol w="672840"/>
                <a:gridCol w="673200"/>
              </a:tblGrid>
              <a:tr h="1522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 Intra HE Main-ti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 Intra HE High-ti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 Intra HE Super-High-ti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2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2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9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.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52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B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22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 RGB 44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.6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.4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.5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.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9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22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 YUV 44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9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2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ngeEx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2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c Time[%]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2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 Time[%]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2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522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ndom Access HE Main-ti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ndom Access HE High-ti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2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2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4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5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5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5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22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B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2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 RGB 44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9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6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5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9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5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4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22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 YUV 44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9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7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5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7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6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4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2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ngeEx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22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c Time[%]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2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 Time[%]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2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22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 delay B HE Main-ti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 delay B HE High-ti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2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22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5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6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9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7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22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B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2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 RGB 44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6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22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 YUV 44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8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6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6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9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8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8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2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ngeEx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22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c Time[%]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2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 Time[%]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4920" y="-8604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2708c"/>
                </a:solidFill>
                <a:latin typeface="Arial Bold"/>
              </a:rPr>
              <a:t>Results for lossless coding</a:t>
            </a:r>
            <a:br>
              <a:rPr sz="2400"/>
            </a:br>
            <a:r>
              <a:rPr b="0" lang="en-GB" sz="2400" spc="-1" strike="noStrike">
                <a:solidFill>
                  <a:srgbClr val="62708c"/>
                </a:solidFill>
                <a:latin typeface="Arial Bold"/>
              </a:rPr>
              <a:t>Mirroring</a:t>
            </a:r>
            <a:endParaRPr b="0" lang="en-US" sz="24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520" y="1294920"/>
            <a:ext cx="7774200" cy="508644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marL="309600" indent="-30492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4x4 block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309600" indent="-30492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309600" indent="-30492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309600" indent="-30492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309600" indent="-30492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309600" indent="-30492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4x4 and 8x8 block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309600" indent="-30492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309600" indent="-30492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309600" indent="-30492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309600" indent="-30492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309600" indent="-30492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All block size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1908000" y="1701720"/>
          <a:ext cx="4819680" cy="1100160"/>
        </p:xfrm>
        <a:graphic>
          <a:graphicData uri="http://schemas.openxmlformats.org/drawingml/2006/table">
            <a:tbl>
              <a:tblPr/>
              <a:tblGrid>
                <a:gridCol w="747720"/>
                <a:gridCol w="1357560"/>
                <a:gridCol w="1357200"/>
                <a:gridCol w="1357200"/>
              </a:tblGrid>
              <a:tr h="182520">
                <a:tc>
                  <a:txBody>
                    <a:bodyPr lIns="17640" rIns="1764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 Intra Mai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ndom Access Mai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 delay B Mai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4320">
                <a:tc>
                  <a:txBody>
                    <a:bodyPr lIns="17640" rIns="1764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8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4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4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3960">
                <a:tc>
                  <a:txBody>
                    <a:bodyPr lIns="17640" rIns="1764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B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4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17640" rIns="1764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 RGB 44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3960">
                <a:tc>
                  <a:txBody>
                    <a:bodyPr lIns="17640" rIns="1764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 YUV 44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5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5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520">
                <a:tc>
                  <a:txBody>
                    <a:bodyPr lIns="17640" rIns="1764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ngeEx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4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6" name=""/>
          <p:cNvGraphicFramePr/>
          <p:nvPr/>
        </p:nvGraphicFramePr>
        <p:xfrm>
          <a:off x="1908000" y="3357720"/>
          <a:ext cx="4819680" cy="1101600"/>
        </p:xfrm>
        <a:graphic>
          <a:graphicData uri="http://schemas.openxmlformats.org/drawingml/2006/table">
            <a:tbl>
              <a:tblPr/>
              <a:tblGrid>
                <a:gridCol w="747720"/>
                <a:gridCol w="1357560"/>
                <a:gridCol w="1357200"/>
                <a:gridCol w="1357200"/>
              </a:tblGrid>
              <a:tr h="183960">
                <a:tc>
                  <a:txBody>
                    <a:bodyPr lIns="17640" rIns="1764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 Intra Mai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ndom Access Mai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 delay B Mai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520">
                <a:tc>
                  <a:txBody>
                    <a:bodyPr lIns="17640" rIns="1764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8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4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4320">
                <a:tc>
                  <a:txBody>
                    <a:bodyPr lIns="17640" rIns="1764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B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4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3960">
                <a:tc>
                  <a:txBody>
                    <a:bodyPr lIns="17640" rIns="1764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 RGB 44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520">
                <a:tc>
                  <a:txBody>
                    <a:bodyPr lIns="17640" rIns="1764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 YUV 44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5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4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4320">
                <a:tc>
                  <a:txBody>
                    <a:bodyPr lIns="17640" rIns="1764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ngeEx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4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7" name=""/>
          <p:cNvGraphicFramePr/>
          <p:nvPr/>
        </p:nvGraphicFramePr>
        <p:xfrm>
          <a:off x="1913040" y="5065560"/>
          <a:ext cx="4819680" cy="1100160"/>
        </p:xfrm>
        <a:graphic>
          <a:graphicData uri="http://schemas.openxmlformats.org/drawingml/2006/table">
            <a:tbl>
              <a:tblPr/>
              <a:tblGrid>
                <a:gridCol w="747720"/>
                <a:gridCol w="1357200"/>
                <a:gridCol w="1357200"/>
                <a:gridCol w="1357560"/>
              </a:tblGrid>
              <a:tr h="182880">
                <a:tc>
                  <a:txBody>
                    <a:bodyPr lIns="17640" rIns="1764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 Intra Mai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ndom Access Mai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 delay B Mai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3960">
                <a:tc>
                  <a:txBody>
                    <a:bodyPr lIns="17640" rIns="1764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9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4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520">
                <a:tc>
                  <a:txBody>
                    <a:bodyPr lIns="17640" rIns="1764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B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4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4320">
                <a:tc>
                  <a:txBody>
                    <a:bodyPr lIns="17640" rIns="1764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 RGB 44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4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3960">
                <a:tc>
                  <a:txBody>
                    <a:bodyPr lIns="17640" rIns="1764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 YUV 44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6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520">
                <a:tc>
                  <a:txBody>
                    <a:bodyPr lIns="17640" rIns="1764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ngeEx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4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04920" y="-8604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2708c"/>
                </a:solidFill>
                <a:latin typeface="Arial Bold"/>
              </a:rPr>
              <a:t>Results for lossless coding</a:t>
            </a:r>
            <a:br>
              <a:rPr sz="2400"/>
            </a:br>
            <a:r>
              <a:rPr b="0" lang="en-GB" sz="2400" spc="-1" strike="noStrike">
                <a:solidFill>
                  <a:srgbClr val="62708c"/>
                </a:solidFill>
                <a:latin typeface="Arial Bold"/>
              </a:rPr>
              <a:t>Mirroring and constant context for significance map</a:t>
            </a:r>
            <a:endParaRPr b="0" lang="en-US" sz="24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80520" y="1294920"/>
            <a:ext cx="7774200" cy="508644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marL="309600" indent="-30492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4x4 block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309600" indent="-30492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309600" indent="-30492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309600" indent="-30492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309600" indent="-30492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309600" indent="-30492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4x4 and 8x8 block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309600" indent="-30492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309600" indent="-30492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309600" indent="-30492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309600" indent="-30492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309600" indent="-30492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All block size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057400" y="1773360"/>
          <a:ext cx="4819680" cy="1101600"/>
        </p:xfrm>
        <a:graphic>
          <a:graphicData uri="http://schemas.openxmlformats.org/drawingml/2006/table">
            <a:tbl>
              <a:tblPr/>
              <a:tblGrid>
                <a:gridCol w="747720"/>
                <a:gridCol w="1357200"/>
                <a:gridCol w="1357560"/>
                <a:gridCol w="1357200"/>
              </a:tblGrid>
              <a:tr h="183960">
                <a:tc>
                  <a:txBody>
                    <a:bodyPr lIns="17640" rIns="1764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 Intra Mai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ndom Access Mai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 delay B Mai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520">
                <a:tc>
                  <a:txBody>
                    <a:bodyPr lIns="17640" rIns="1764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4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8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4320">
                <a:tc>
                  <a:txBody>
                    <a:bodyPr lIns="17640" rIns="1764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B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6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5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5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3960">
                <a:tc>
                  <a:txBody>
                    <a:bodyPr lIns="17640" rIns="1764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 RGB 44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520">
                <a:tc>
                  <a:txBody>
                    <a:bodyPr lIns="17640" rIns="1764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 YUV 44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7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7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6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4320">
                <a:tc>
                  <a:txBody>
                    <a:bodyPr lIns="17640" rIns="1764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ngeEx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5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5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5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1" name=""/>
          <p:cNvGraphicFramePr/>
          <p:nvPr/>
        </p:nvGraphicFramePr>
        <p:xfrm>
          <a:off x="2057400" y="3430440"/>
          <a:ext cx="4819680" cy="1100160"/>
        </p:xfrm>
        <a:graphic>
          <a:graphicData uri="http://schemas.openxmlformats.org/drawingml/2006/table">
            <a:tbl>
              <a:tblPr/>
              <a:tblGrid>
                <a:gridCol w="747720"/>
                <a:gridCol w="1357200"/>
                <a:gridCol w="1357560"/>
                <a:gridCol w="1357200"/>
              </a:tblGrid>
              <a:tr h="182880">
                <a:tc>
                  <a:txBody>
                    <a:bodyPr lIns="17640" rIns="1764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 Intra Mai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ndom Access Mai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 delay B Mai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3960">
                <a:tc>
                  <a:txBody>
                    <a:bodyPr lIns="17640" rIns="1764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4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9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7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520">
                <a:tc>
                  <a:txBody>
                    <a:bodyPr lIns="17640" rIns="1764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B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5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4320">
                <a:tc>
                  <a:txBody>
                    <a:bodyPr lIns="17640" rIns="1764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 RGB 44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3960">
                <a:tc>
                  <a:txBody>
                    <a:bodyPr lIns="17640" rIns="1764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 YUV 44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7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5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6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520">
                <a:tc>
                  <a:txBody>
                    <a:bodyPr lIns="17640" rIns="1764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ngeEx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5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2" name=""/>
          <p:cNvGraphicFramePr/>
          <p:nvPr/>
        </p:nvGraphicFramePr>
        <p:xfrm>
          <a:off x="2057400" y="5065560"/>
          <a:ext cx="4819680" cy="1100160"/>
        </p:xfrm>
        <a:graphic>
          <a:graphicData uri="http://schemas.openxmlformats.org/drawingml/2006/table">
            <a:tbl>
              <a:tblPr/>
              <a:tblGrid>
                <a:gridCol w="747720"/>
                <a:gridCol w="1357200"/>
                <a:gridCol w="1357560"/>
                <a:gridCol w="1357200"/>
              </a:tblGrid>
              <a:tr h="182880">
                <a:tc>
                  <a:txBody>
                    <a:bodyPr lIns="17640" rIns="1764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 Intra Mai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ndom Access Mai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 delay B Mai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3960">
                <a:tc>
                  <a:txBody>
                    <a:bodyPr lIns="17640" rIns="1764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5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9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6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520">
                <a:tc>
                  <a:txBody>
                    <a:bodyPr lIns="17640" rIns="1764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B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6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4320">
                <a:tc>
                  <a:txBody>
                    <a:bodyPr lIns="17640" rIns="1764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 RGB 44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3960">
                <a:tc>
                  <a:txBody>
                    <a:bodyPr lIns="17640" rIns="1764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 YUV 44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8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5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5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520">
                <a:tc>
                  <a:txBody>
                    <a:bodyPr lIns="17640" rIns="1764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ngeEx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5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2708c"/>
                </a:solidFill>
                <a:latin typeface="Arial Bold"/>
              </a:rPr>
              <a:t>Conclusions</a:t>
            </a: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80520" y="1294920"/>
            <a:ext cx="7936200" cy="508644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marL="309600" indent="-30492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Mirroring of coefficients  is applied on blocks where transform is skipped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309600" indent="-30492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309600" indent="-30492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Consistent coding gains for all test points that benefit from transform skip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63480" indent="-250560">
              <a:spcBef>
                <a:spcPts val="400"/>
              </a:spcBef>
              <a:buClr>
                <a:srgbClr val="6270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For screen content for all configuration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63480" indent="-250560">
              <a:spcBef>
                <a:spcPts val="400"/>
              </a:spcBef>
              <a:buClr>
                <a:srgbClr val="6270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For all content types for lossless coding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63480" indent="-250560">
              <a:spcBef>
                <a:spcPts val="400"/>
              </a:spcBef>
              <a:buClr>
                <a:srgbClr val="6270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309600" indent="-30492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Further studies reporting interaction of mirroring with other tools from this CE, particularly interaction of mirroring and prediction of residual: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63480" indent="-250560">
              <a:spcBef>
                <a:spcPts val="400"/>
              </a:spcBef>
              <a:buClr>
                <a:srgbClr val="6270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JCTVC-N0207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63480" indent="-250560">
              <a:spcBef>
                <a:spcPts val="400"/>
              </a:spcBef>
              <a:buClr>
                <a:srgbClr val="6270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JCTVC-N0353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1T18:54:04Z</dcterms:created>
  <dc:creator>Matteo Naccari</dc:creator>
  <dc:description/>
  <dc:language>en-US</dc:language>
  <cp:lastModifiedBy>Marta Mrak</cp:lastModifiedBy>
  <dcterms:modified xsi:type="dcterms:W3CDTF">2013-07-26T21:44:14Z</dcterms:modified>
  <cp:revision>153</cp:revision>
  <dc:subject/>
  <dc:title>JCTVC-H0477 On Just Noticeable Distortion Quantization in the HEVC Codec</dc:title>
</cp:coreProperties>
</file>