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1403-0E03-4F64-AE95-DC8C12420B1F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4C27-7F0F-407D-8170-2D199903982A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0834-9825-47F9-86EF-C23C65679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1DF9-040B-4708-8576-E49A4505A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BBF7-C29B-4A0A-9B19-B98924118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CE4A-6477-42B3-8A76-226E19B9F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F60F-45EF-47D0-96E5-BEAFE54AE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FC1C-0CD7-4233-A287-EDBA914B1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0DD1-95EA-443C-AA5E-C9F5A14D9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3D15-AB82-433E-914F-424F68B6B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2418-27C5-4AB4-AAEE-E48DE3959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09E9-2268-4650-91EF-A6CDA13DA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4280-A8AB-4321-B3FE-416CCA4C8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FD23-962B-455E-AD70-EC3451D94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D4D3-928C-462B-8D46-B9B7477C8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Extension of maximum number of layers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N0135/JCT3V-E011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July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a follow-up proposal of JCTVC-M0164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was agreed by experts that it is useful to support more than 64 layers conforming to the current HEVC extension draft design in the last Incheon meet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cating extra bits to represent additional layers on top of nuh_layer_id 6 bits could be a promising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asserted that those extra bits shall be easily accessible by middle bo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NAL unit header has no roo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0EEF-8257-42CA-85A9-82669CB014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erved flags in slice headers could be an alternative place, instead of NU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erved bits in SH are easily accessible without entropy decoding, and only one bit is allocated for discardable_flag. 7bits are f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posal is to allocates 3 bits in the reserved flags in slice headers for extra bits of nuh_layer_id to represent the extended number of layers greater than 5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3C58-59D5-40DA-AB3E-63B42395AA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yntax in SH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reserved flags in slice headers could be an alternative place, instead of NU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e reserved bits in SH are easily accessible without entropy decoding, and only one bit is allocated for discardable_flag. 7bits are f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FB1C-E001-45A1-A6CB-EC00BE0AF7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표 4" descr=""/>
          <p:cNvPicPr/>
          <p:nvPr/>
        </p:nvPicPr>
        <p:blipFill>
          <a:blip r:embed="rId1"/>
          <a:stretch/>
        </p:blipFill>
        <p:spPr>
          <a:xfrm>
            <a:off x="285840" y="2011320"/>
            <a:ext cx="8572320" cy="42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yntax changes in VPS exten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8248-7C6B-46F6-BA74-A7F96D9DB4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표 5" descr=""/>
          <p:cNvPicPr/>
          <p:nvPr/>
        </p:nvPicPr>
        <p:blipFill>
          <a:blip r:embed="rId1"/>
          <a:stretch/>
        </p:blipFill>
        <p:spPr>
          <a:xfrm>
            <a:off x="682560" y="719280"/>
            <a:ext cx="7778880" cy="64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22A8-9B9D-4210-8F2D-830EFCAE67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최병두</cp:lastModifiedBy>
  <dcterms:modified xsi:type="dcterms:W3CDTF">2013-07-24T22:12:09Z</dcterms:modified>
  <cp:revision>4566</cp:revision>
  <dc:subject/>
  <dc:title>Visual SNHC Tools</dc:title>
</cp:coreProperties>
</file>