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27E-9576-40F7-95E9-A6624E69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BBA-762E-4004-8D13-4455A67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E12-5A10-4518-8EFA-75A1A606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ACD-0353-4DBB-A7AB-CCF774DE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F76-4908-4B6C-B004-321A5FE3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0B7-BA26-4A5D-9788-4D17010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B78-DD00-44CB-AD63-5D05D80E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816-8A20-42A1-9FF0-1E221D2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D33-B77E-4F1A-A40E-2300CA7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0CA-51D2-435E-A890-0ACFBB83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B42-C898-4A30-A63A-1C7592F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0D6-EF7C-44EC-98CB-467507DE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1FCA-C722-438A-93F9-D2F578620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N007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898989"/>
                </a:solidFill>
                <a:latin typeface="Calibri"/>
              </a:rPr>
              <a:t>SCE1: 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Results of Test 2.2 on phase compensation by signaling filter coefficients at PPS with sample shi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362320" y="40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ohyar Minoo and David Ba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(s) Being Addre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upsampling filters in SHM are fixed.   This will have the following implic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-sampling phase offset should be known during the up-sampling process. Currently these phase offsets are assumed to be know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ver a reasonable number of sub-pixel positions at the base layer SHVC needs a large number of filters (for each luma and chroma) to be designe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ensating for the down-sampling phase offs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solution is proposed in Test 2.2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der signals the filter coefficients for each sub-pixel filter index (indices are calculated assuming zero phase offset). The filter coefficients will make sure the interpolation for each index has the proper phase shi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ling of filter parameters occurs at PPS leve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vs. SHM-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43000" y="1981080"/>
          <a:ext cx="6900840" cy="2971800"/>
        </p:xfrm>
        <a:graphic>
          <a:graphicData uri="http://schemas.openxmlformats.org/drawingml/2006/table">
            <a:tbl>
              <a:tblPr/>
              <a:tblGrid>
                <a:gridCol w="1720800"/>
                <a:gridCol w="862200"/>
                <a:gridCol w="863640"/>
                <a:gridCol w="863280"/>
                <a:gridCol w="863640"/>
                <a:gridCol w="863640"/>
                <a:gridCol w="863640"/>
              </a:tblGrid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9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P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vs. Test 1.2 (1/16 pe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362320" y="1981080"/>
          <a:ext cx="4309920" cy="2971800"/>
        </p:xfrm>
        <a:graphic>
          <a:graphicData uri="http://schemas.openxmlformats.org/drawingml/2006/table">
            <a:tbl>
              <a:tblPr/>
              <a:tblGrid>
                <a:gridCol w="1720800"/>
                <a:gridCol w="861840"/>
                <a:gridCol w="863640"/>
                <a:gridCol w="863640"/>
              </a:tblGrid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P (opt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 of Proposed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nsates for arbitrary phase shift due to down-sampling with a small number of fil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ed to design and verify a large set of fixed of filters, given the limited test conditions available and afford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computation and rounding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ized filters increase cod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1:40:19Z</dcterms:created>
  <dc:creator>K.  Minoo</dc:creator>
  <dc:description/>
  <dc:language>en-US</dc:language>
  <cp:lastModifiedBy>DB</cp:lastModifiedBy>
  <dcterms:modified xsi:type="dcterms:W3CDTF">2013-07-24T23:47:30Z</dcterms:modified>
  <cp:revision>49</cp:revision>
  <dc:subject/>
  <dc:title>JCTVC-M026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4313710</vt:r8>
  </property>
  <property fmtid="{D5CDD505-2E9C-101B-9397-08002B2CF9AE}" pid="3" name="_AuthorEmail">
    <vt:lpwstr>David.Baylon@arrisi.com</vt:lpwstr>
  </property>
  <property fmtid="{D5CDD505-2E9C-101B-9397-08002B2CF9AE}" pid="4" name="_AuthorEmailDisplayName">
    <vt:lpwstr>Baylon, David</vt:lpwstr>
  </property>
  <property fmtid="{D5CDD505-2E9C-101B-9397-08002B2CF9AE}" pid="5" name="_EmailSubject">
    <vt:lpwstr>draft slides for our three contributions</vt:lpwstr>
  </property>
  <property fmtid="{D5CDD505-2E9C-101B-9397-08002B2CF9AE}" pid="6" name="_NewReviewCycle">
    <vt:lpwstr/>
  </property>
</Properties>
</file>