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2000"/>
          </a:bodyPr>
          <a:p>
            <a:pPr marL="24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19080" y="1116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828720" y="4797360"/>
            <a:ext cx="71280" cy="93672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0720" y="1917360"/>
            <a:ext cx="8854920" cy="175428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Bold"/>
              </a:rPr>
              <a:t>Non-RCE2: Complexity reduction for inter residual DPCM in lossless coding</a:t>
            </a:r>
            <a:br>
              <a:rPr sz="3000"/>
            </a:b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 Bold"/>
              </a:rPr>
              <a:t>JCTVC-N0075</a:t>
            </a:r>
            <a:endParaRPr b="0" lang="en-US" sz="30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99640" y="4726080"/>
            <a:ext cx="823140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36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Matteo Naccari and Marta Mra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BBC Research and Developm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Outline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7640" y="764640"/>
            <a:ext cx="8929800" cy="547380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Proposed residual DPCM chunk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412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Experimental result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2708c"/>
                </a:solidFill>
                <a:latin typeface="Arial Bold"/>
              </a:rPr>
              <a:t>Introduction</a:t>
            </a:r>
            <a:endParaRPr b="0" lang="en-US" sz="22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7640" y="764640"/>
            <a:ext cx="8929800" cy="12970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Inter Residual DPCM (RDPCM) is proposed in JCTVC-N0074 and tested in RCE2 for lossless cod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It improves the compression efficiency by exploiting spatial redundancy in still present in motion compensated residual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1628640" y="2205000"/>
            <a:ext cx="5886720" cy="2529000"/>
          </a:xfrm>
          <a:prstGeom prst="rect">
            <a:avLst/>
          </a:prstGeom>
          <a:ln w="0">
            <a:noFill/>
          </a:ln>
        </p:spPr>
      </p:pic>
      <p:sp>
        <p:nvSpPr>
          <p:cNvPr id="132" name="Content Placeholder 9"/>
          <p:cNvSpPr/>
          <p:nvPr/>
        </p:nvSpPr>
        <p:spPr>
          <a:xfrm>
            <a:off x="106200" y="5013360"/>
            <a:ext cx="6699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Residual reconstruction at the 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9"/>
              <p:cNvSpPr txBox="1"/>
              <p:nvPr/>
            </p:nvSpPr>
            <p:spPr>
              <a:xfrm>
                <a:off x="1547640" y="5445000"/>
                <a:ext cx="25765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o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r>
                          <m:t xml:space="preserve">r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Rectangle 17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5316480" y="5477040"/>
                <a:ext cx="249732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r>
                          <m:t xml:space="preserve">r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e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2708c"/>
                </a:solidFill>
                <a:latin typeface="Arial Bold"/>
              </a:rPr>
              <a:t>Complexity in inter residual DPCM</a:t>
            </a:r>
            <a:endParaRPr b="0" lang="en-US" sz="22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7640" y="764640"/>
            <a:ext cx="8929800" cy="1800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 fontScale="93000"/>
          </a:bodyPr>
          <a:p>
            <a:pPr marL="287640" indent="-2833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t the decoder the average number of operations per sample is: (N-1)/2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287640" indent="-283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287640" indent="-2833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In order to lower the number of operation per sample it is proposed to apply inter RDPCM on chunks of residuals with fixed length (8 in proposal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287640" indent="-283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287640" indent="-2833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Example for horizontal DPCM and 32×32 block siz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1" name="Picture 13" descr=""/>
          <p:cNvPicPr/>
          <p:nvPr/>
        </p:nvPicPr>
        <p:blipFill>
          <a:blip r:embed="rId1"/>
          <a:stretch/>
        </p:blipFill>
        <p:spPr>
          <a:xfrm>
            <a:off x="2989440" y="2925720"/>
            <a:ext cx="3369960" cy="34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2708c"/>
                </a:solidFill>
                <a:latin typeface="Arial Bold"/>
              </a:rPr>
              <a:t>Experimental results</a:t>
            </a:r>
            <a:endParaRPr b="0" lang="en-US" sz="22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43" name="Content Placeholder 9"/>
          <p:cNvSpPr/>
          <p:nvPr/>
        </p:nvSpPr>
        <p:spPr>
          <a:xfrm>
            <a:off x="324000" y="836640"/>
            <a:ext cx="7993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4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Inter RDPCM chunking for CU-based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343240" y="1413000"/>
          <a:ext cx="4459320" cy="1933560"/>
        </p:xfrm>
        <a:graphic>
          <a:graphicData uri="http://schemas.openxmlformats.org/drawingml/2006/table">
            <a:tbl>
              <a:tblPr/>
              <a:tblGrid>
                <a:gridCol w="1216080"/>
                <a:gridCol w="811080"/>
                <a:gridCol w="809640"/>
                <a:gridCol w="811080"/>
                <a:gridCol w="811440"/>
              </a:tblGrid>
              <a:tr h="167760">
                <a:tc rowSpan="3"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igu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 Access (R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 Delay (L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t-rate savings 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t-rate savings 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unk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unk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unk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unk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7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 RGB 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 YUV 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ge Ex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. Time 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. Time 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343240" y="4149720"/>
          <a:ext cx="4459320" cy="1933560"/>
        </p:xfrm>
        <a:graphic>
          <a:graphicData uri="http://schemas.openxmlformats.org/drawingml/2006/table">
            <a:tbl>
              <a:tblPr/>
              <a:tblGrid>
                <a:gridCol w="1216080"/>
                <a:gridCol w="811080"/>
                <a:gridCol w="809640"/>
                <a:gridCol w="811080"/>
                <a:gridCol w="811440"/>
              </a:tblGrid>
              <a:tr h="167760">
                <a:tc rowSpan="3"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igu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 Access (R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 Delay (L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t-rate savings 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t-rate savings 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unk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unk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unk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unk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7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 RGB 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 YUV 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ge Ex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. Time 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. Time 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Content Placeholder 9"/>
          <p:cNvSpPr/>
          <p:nvPr/>
        </p:nvSpPr>
        <p:spPr>
          <a:xfrm>
            <a:off x="324000" y="3571920"/>
            <a:ext cx="7993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4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Inter RDPCM chunking for TU-based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2708c"/>
                </a:solidFill>
                <a:latin typeface="Arial Bold"/>
              </a:rPr>
              <a:t>Conclusions</a:t>
            </a:r>
            <a:endParaRPr b="0" lang="en-US" sz="22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7640" y="765000"/>
            <a:ext cx="8929800" cy="345600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The proposed residual DPCM chunking reduces the average number of operations per sample with a little loss in compression efficienc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It is proposed to accept the presented chunk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2"/>
          <p:cNvGrpSpPr/>
          <p:nvPr/>
        </p:nvGrpSpPr>
        <p:grpSpPr>
          <a:xfrm>
            <a:off x="2413080" y="1270080"/>
            <a:ext cx="4535280" cy="4968720"/>
            <a:chOff x="2413080" y="1270080"/>
            <a:chExt cx="4535280" cy="4968720"/>
          </a:xfrm>
        </p:grpSpPr>
        <p:sp>
          <p:nvSpPr>
            <p:cNvPr id="150" name="Rectangle 42"/>
            <p:cNvSpPr/>
            <p:nvPr/>
          </p:nvSpPr>
          <p:spPr>
            <a:xfrm>
              <a:off x="2413080" y="2062080"/>
              <a:ext cx="4176720" cy="4176720"/>
            </a:xfrm>
            <a:prstGeom prst="rect">
              <a:avLst/>
            </a:prstGeom>
            <a:noFill/>
            <a:ln w="507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3"/>
            <p:cNvSpPr/>
            <p:nvPr/>
          </p:nvSpPr>
          <p:spPr>
            <a:xfrm>
              <a:off x="3276360" y="2062080"/>
              <a:ext cx="320400" cy="318960"/>
            </a:xfrm>
            <a:prstGeom prst="rect">
              <a:avLst/>
            </a:prstGeom>
            <a:noFill/>
            <a:ln w="507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53"/>
            <p:cNvSpPr/>
            <p:nvPr/>
          </p:nvSpPr>
          <p:spPr>
            <a:xfrm>
              <a:off x="4324320" y="2062080"/>
              <a:ext cx="320400" cy="318960"/>
            </a:xfrm>
            <a:prstGeom prst="rect">
              <a:avLst/>
            </a:prstGeom>
            <a:noFill/>
            <a:ln w="507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4"/>
            <p:cNvSpPr/>
            <p:nvPr/>
          </p:nvSpPr>
          <p:spPr>
            <a:xfrm>
              <a:off x="5332320" y="2062080"/>
              <a:ext cx="320400" cy="318960"/>
            </a:xfrm>
            <a:prstGeom prst="rect">
              <a:avLst/>
            </a:prstGeom>
            <a:noFill/>
            <a:ln w="507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4"/>
            <p:cNvSpPr/>
            <p:nvPr/>
          </p:nvSpPr>
          <p:spPr>
            <a:xfrm>
              <a:off x="3924360" y="1270080"/>
              <a:ext cx="302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808080"/>
                  </a:solidFill>
                  <a:latin typeface="Arial"/>
                </a:rPr>
                <a:t>Predictor reset every 8 samples: 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8 operations per sa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Elbow Connector 6"/>
            <p:cNvCxnSpPr>
              <a:stCxn id="154" idx="1"/>
              <a:endCxn id="151" idx="0"/>
            </p:cNvCxnSpPr>
            <p:nvPr/>
          </p:nvCxnSpPr>
          <p:spPr>
            <a:xfrm flipV="1" rot="10800000">
              <a:off x="3436200" y="1531440"/>
              <a:ext cx="487800" cy="530640"/>
            </a:xfrm>
            <a:prstGeom prst="bentConnector2">
              <a:avLst/>
            </a:prstGeom>
            <a:ln w="25560">
              <a:solidFill>
                <a:srgbClr val="ff0000"/>
              </a:solidFill>
              <a:round/>
              <a:tailEnd len="med" type="triangle" w="lg"/>
            </a:ln>
          </p:spPr>
        </p:cxnSp>
        <p:cxnSp>
          <p:nvCxnSpPr>
            <p:cNvPr id="156" name="Straight Arrow Connector 28"/>
            <p:cNvCxnSpPr/>
            <p:nvPr/>
          </p:nvCxnSpPr>
          <p:spPr>
            <a:xfrm>
              <a:off x="2555640" y="2204640"/>
              <a:ext cx="57636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157" name="Straight Arrow Connector 28"/>
            <p:cNvCxnSpPr/>
            <p:nvPr/>
          </p:nvCxnSpPr>
          <p:spPr>
            <a:xfrm>
              <a:off x="3708360" y="2204640"/>
              <a:ext cx="57636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158" name="Straight Arrow Connector 28"/>
            <p:cNvCxnSpPr/>
            <p:nvPr/>
          </p:nvCxnSpPr>
          <p:spPr>
            <a:xfrm>
              <a:off x="4716360" y="2204640"/>
              <a:ext cx="57636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</p:cxn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8:54:04Z</dcterms:created>
  <dc:creator>Matteo Naccari</dc:creator>
  <dc:description/>
  <dc:language>en-US</dc:language>
  <cp:lastModifiedBy>Matteo Naccari</cp:lastModifiedBy>
  <dcterms:modified xsi:type="dcterms:W3CDTF">2013-07-27T08:30:52Z</dcterms:modified>
  <cp:revision>1019</cp:revision>
  <dc:subject/>
  <dc:title>JCTVC-H0477 On Just Noticeable Distortion Quantization in the HEVC Codec</dc:title>
</cp:coreProperties>
</file>