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19080" y="1116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755640" y="4692600"/>
            <a:ext cx="171360" cy="10080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0720" y="1917360"/>
            <a:ext cx="8854920" cy="175428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rial Bold"/>
              </a:rPr>
              <a:t>RCE2: Experimental results for Test C.1</a:t>
            </a:r>
            <a:br>
              <a:rPr sz="3000"/>
            </a:b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 Bold"/>
              </a:rPr>
              <a:t>JCTVC-N0074</a:t>
            </a:r>
            <a:endParaRPr b="0" lang="en-US" sz="30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99640" y="4581000"/>
            <a:ext cx="8231400" cy="1009800"/>
          </a:xfrm>
          <a:prstGeom prst="rect">
            <a:avLst/>
          </a:prstGeom>
          <a:noFill/>
          <a:ln w="0">
            <a:noFill/>
          </a:ln>
        </p:spPr>
        <p:txBody>
          <a:bodyPr lIns="50760" rIns="36000" tIns="50760" bIns="50760" anchor="t">
            <a:normAutofit fontScale="99000"/>
          </a:bodyPr>
          <a:p>
            <a:pPr marL="3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Matteo Naccari and Marta Mrak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BBC Research and Developm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Outline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7640" y="764640"/>
            <a:ext cx="8929800" cy="54738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Proposed inter prediction residual DPC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412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xperimental result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2708c"/>
                </a:solidFill>
                <a:latin typeface="Arial Bold"/>
              </a:rPr>
              <a:t>Introduction</a:t>
            </a:r>
            <a:endParaRPr b="0" lang="en-US" sz="22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7640" y="764640"/>
            <a:ext cx="8929800" cy="23050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 fontScale="93000"/>
          </a:bodyPr>
          <a:p>
            <a:pPr marL="287640" indent="-2833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fter motion compensation, the residuals may present spatial correlation, namely in areas with high frequency details (sharp edges, text, etc.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287640" indent="-283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287640" indent="-2833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This spatial redundancy may be exploited in lossless coding by applying Residual DPCM (RDPCM) on top of motion compensated residu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287640" indent="-2833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287640" indent="-2833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Three RDPCM mode can be tested, the one bring the lowest error energy is select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539640" y="3995640"/>
            <a:ext cx="2057400" cy="2057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3564000" y="3995640"/>
            <a:ext cx="2057400" cy="2057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6691320" y="3995640"/>
            <a:ext cx="2057400" cy="2057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937080" y="353232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No RDP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3498120" y="3532320"/>
            <a:ext cx="24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RDPCM horizo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6"/>
          <p:cNvSpPr/>
          <p:nvPr/>
        </p:nvSpPr>
        <p:spPr>
          <a:xfrm>
            <a:off x="6669720" y="3532320"/>
            <a:ext cx="20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RDPCM 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3563640" y="4323960"/>
            <a:ext cx="2057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lg" type="triangle" w="lg"/>
          </a:ln>
        </p:spPr>
      </p:cxnSp>
      <p:cxnSp>
        <p:nvCxnSpPr>
          <p:cNvPr id="142" name="Straight Arrow Connector 19"/>
          <p:cNvCxnSpPr/>
          <p:nvPr/>
        </p:nvCxnSpPr>
        <p:spPr>
          <a:xfrm>
            <a:off x="3563640" y="4613040"/>
            <a:ext cx="2057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lg" type="triangle" w="lg"/>
          </a:ln>
        </p:spPr>
      </p:cxnSp>
      <p:cxnSp>
        <p:nvCxnSpPr>
          <p:cNvPr id="143" name="Straight Arrow Connector 20"/>
          <p:cNvCxnSpPr/>
          <p:nvPr/>
        </p:nvCxnSpPr>
        <p:spPr>
          <a:xfrm>
            <a:off x="3563640" y="4900320"/>
            <a:ext cx="2057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lg" type="triangle" w="lg"/>
          </a:ln>
        </p:spPr>
      </p:cxnSp>
      <p:cxnSp>
        <p:nvCxnSpPr>
          <p:cNvPr id="144" name="Straight Arrow Connector 21"/>
          <p:cNvCxnSpPr/>
          <p:nvPr/>
        </p:nvCxnSpPr>
        <p:spPr>
          <a:xfrm>
            <a:off x="3563640" y="5189040"/>
            <a:ext cx="2057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lg" type="triangle" w="lg"/>
          </a:ln>
        </p:spPr>
      </p:cxnSp>
      <p:cxnSp>
        <p:nvCxnSpPr>
          <p:cNvPr id="145" name="Straight Arrow Connector 22"/>
          <p:cNvCxnSpPr/>
          <p:nvPr/>
        </p:nvCxnSpPr>
        <p:spPr>
          <a:xfrm>
            <a:off x="3563640" y="5549400"/>
            <a:ext cx="2057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lg" type="triangle" w="lg"/>
          </a:ln>
        </p:spPr>
      </p:cxnSp>
      <p:cxnSp>
        <p:nvCxnSpPr>
          <p:cNvPr id="146" name="Straight Arrow Connector 23"/>
          <p:cNvCxnSpPr/>
          <p:nvPr/>
        </p:nvCxnSpPr>
        <p:spPr>
          <a:xfrm>
            <a:off x="3563640" y="5837040"/>
            <a:ext cx="20577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lg" type="triangle" w="lg"/>
          </a:ln>
        </p:spPr>
      </p:cxnSp>
      <p:cxnSp>
        <p:nvCxnSpPr>
          <p:cNvPr id="147" name="Straight Arrow Connector 6"/>
          <p:cNvCxnSpPr/>
          <p:nvPr/>
        </p:nvCxnSpPr>
        <p:spPr>
          <a:xfrm>
            <a:off x="6948000" y="3995280"/>
            <a:ext cx="1080" cy="20577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lg" type="triangle" w="lg"/>
          </a:ln>
        </p:spPr>
      </p:cxnSp>
      <p:cxnSp>
        <p:nvCxnSpPr>
          <p:cNvPr id="148" name="Straight Arrow Connector 26"/>
          <p:cNvCxnSpPr/>
          <p:nvPr/>
        </p:nvCxnSpPr>
        <p:spPr>
          <a:xfrm>
            <a:off x="7237080" y="3995280"/>
            <a:ext cx="1080" cy="20577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lg" type="triangle" w="lg"/>
          </a:ln>
        </p:spPr>
      </p:cxnSp>
      <p:cxnSp>
        <p:nvCxnSpPr>
          <p:cNvPr id="149" name="Straight Arrow Connector 27"/>
          <p:cNvCxnSpPr/>
          <p:nvPr/>
        </p:nvCxnSpPr>
        <p:spPr>
          <a:xfrm>
            <a:off x="7524360" y="3995280"/>
            <a:ext cx="1080" cy="20577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lg" type="triangle" w="lg"/>
          </a:ln>
        </p:spPr>
      </p:cxnSp>
      <p:cxnSp>
        <p:nvCxnSpPr>
          <p:cNvPr id="150" name="Straight Arrow Connector 28"/>
          <p:cNvCxnSpPr/>
          <p:nvPr/>
        </p:nvCxnSpPr>
        <p:spPr>
          <a:xfrm>
            <a:off x="7956360" y="3995280"/>
            <a:ext cx="1080" cy="20577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lg" type="triangle" w="lg"/>
          </a:ln>
        </p:spPr>
      </p:cxnSp>
      <p:cxnSp>
        <p:nvCxnSpPr>
          <p:cNvPr id="151" name="Straight Arrow Connector 29"/>
          <p:cNvCxnSpPr/>
          <p:nvPr/>
        </p:nvCxnSpPr>
        <p:spPr>
          <a:xfrm>
            <a:off x="8389440" y="4036680"/>
            <a:ext cx="1080" cy="205776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lg" type="triangle" w="lg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2708c"/>
                </a:solidFill>
                <a:latin typeface="Arial Bold"/>
              </a:rPr>
              <a:t>Proposed inter residual DPCM</a:t>
            </a:r>
            <a:endParaRPr b="0" lang="en-US" sz="22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7640" y="765000"/>
            <a:ext cx="8929800" cy="5400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nter RDPCM is tested for both lossless and lossy cod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For lossless coding, two different implementations are tested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Arial"/>
              </a:rPr>
              <a:t>CU-based (RDPCM over CU residuals and prediction mode sent one per CU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Arial"/>
              </a:rPr>
              <a:t>TU-based (RDPCM over TU residuals and prediction mode sent one per TU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For lossy coding, inter RDPCM is applied when transform skip is select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The best RDPCM mode is selected by minimising the SAD for the obtained residual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The inter RDPCM mode is signalled via two binary flag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One to indicate whether RDPCM is applied on the selected CU/T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One to indicate on which direction RDPCM is applied (horizontal or vertical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2708c"/>
                </a:solidFill>
                <a:latin typeface="Arial Bold"/>
              </a:rPr>
              <a:t>Experimental results (Lossless)</a:t>
            </a:r>
            <a:endParaRPr b="0" lang="en-US" sz="22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55" name="Content Placeholder 9"/>
          <p:cNvSpPr/>
          <p:nvPr/>
        </p:nvSpPr>
        <p:spPr>
          <a:xfrm>
            <a:off x="324000" y="836640"/>
            <a:ext cx="7993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4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nter RDPCM CU-based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292480" y="1413000"/>
          <a:ext cx="4560840" cy="1598400"/>
        </p:xfrm>
        <a:graphic>
          <a:graphicData uri="http://schemas.openxmlformats.org/drawingml/2006/table">
            <a:tbl>
              <a:tblPr/>
              <a:tblGrid>
                <a:gridCol w="1520640"/>
                <a:gridCol w="1519200"/>
                <a:gridCol w="1521000"/>
              </a:tblGrid>
              <a:tr h="1677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igu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 Access (R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 Delay (L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t-rate savings 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t-rate savings 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 RGB 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 YUV 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ge Ex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. Time 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. Time 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Content Placeholder 9"/>
          <p:cNvSpPr/>
          <p:nvPr/>
        </p:nvSpPr>
        <p:spPr>
          <a:xfrm>
            <a:off x="324000" y="3286080"/>
            <a:ext cx="7993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4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nter RDPCM TU-based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292480" y="3933720"/>
          <a:ext cx="4560840" cy="1596960"/>
        </p:xfrm>
        <a:graphic>
          <a:graphicData uri="http://schemas.openxmlformats.org/drawingml/2006/table">
            <a:tbl>
              <a:tblPr/>
              <a:tblGrid>
                <a:gridCol w="1520640"/>
                <a:gridCol w="1519200"/>
                <a:gridCol w="1521000"/>
              </a:tblGrid>
              <a:tr h="1677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igu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 Access (R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 Delay (L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t-rate savings 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t-rate savings 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 RGB 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 YUV 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ge Ex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. Time 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. Time 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2708c"/>
                </a:solidFill>
                <a:latin typeface="Arial Bold"/>
              </a:rPr>
              <a:t>Experimental results (Lossy)</a:t>
            </a:r>
            <a:endParaRPr b="0" lang="en-US" sz="2200" spc="-1" strike="noStrike">
              <a:solidFill>
                <a:srgbClr val="62708c"/>
              </a:solidFill>
              <a:latin typeface="Arial Bold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139840" y="1419120"/>
          <a:ext cx="4864320" cy="3019680"/>
        </p:xfrm>
        <a:graphic>
          <a:graphicData uri="http://schemas.openxmlformats.org/drawingml/2006/table">
            <a:tbl>
              <a:tblPr/>
              <a:tblGrid>
                <a:gridCol w="825480"/>
                <a:gridCol w="673200"/>
                <a:gridCol w="673200"/>
                <a:gridCol w="673200"/>
                <a:gridCol w="672840"/>
                <a:gridCol w="673200"/>
                <a:gridCol w="673200"/>
              </a:tblGrid>
              <a:tr h="168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 Main-t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 High-t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RGB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YUV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geEx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 Main-t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 High-t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RGB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YUV 4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geEx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2708c"/>
                </a:solidFill>
                <a:latin typeface="Arial Bold"/>
              </a:rPr>
              <a:t>Conclusions</a:t>
            </a:r>
            <a:endParaRPr b="0" lang="en-US" sz="22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7640" y="765000"/>
            <a:ext cx="8929800" cy="34560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nter residual DPCM brings compression improvements, namely for screen content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To harmonise lossless and lossy coding application, TU-based implementation should be adopt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t is proposed to consider the inter RDPCM for adop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8:54:04Z</dcterms:created>
  <dc:creator>Matteo Naccari</dc:creator>
  <dc:description/>
  <dc:language>en-US</dc:language>
  <cp:lastModifiedBy>Matteo Naccari</cp:lastModifiedBy>
  <dcterms:modified xsi:type="dcterms:W3CDTF">2013-07-27T08:41:00Z</dcterms:modified>
  <cp:revision>1051</cp:revision>
  <dc:subject/>
  <dc:title>JCTVC-H0477 On Just Noticeable Distortion Quantization in the HEVC Codec</dc:title>
</cp:coreProperties>
</file>