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629080" y="6526080"/>
            <a:ext cx="43192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Matteo Naccari, Senior Research Engineer (matteo.naccari@bbc.co.u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4797360"/>
            <a:ext cx="77760" cy="129708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 Bold"/>
              </a:rPr>
              <a:t>Complexity reduction for residual DPCM in HEVC lossless coding</a:t>
            </a:r>
            <a:br>
              <a:rPr sz="3000"/>
            </a:b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 Bold"/>
              </a:rPr>
              <a:t>JCTVC-M0439</a:t>
            </a:r>
            <a:endParaRPr b="0" lang="en-US" sz="30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, Marta Mrak and Andrea Gabriellin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Outline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7640" y="764640"/>
            <a:ext cx="8929800" cy="54738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trodu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Proposed residual DPCM chunk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412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xperimental result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7640" y="764640"/>
            <a:ext cx="8929800" cy="1297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Residual DPCM has been proposed for HEVC lossless coding in proposals JCTVC-L0117 and JCTVC-M007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mproves the compression efficiency by exploiting spatial redundancy in intra predicted residua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1628640" y="2197080"/>
            <a:ext cx="5886720" cy="252900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9"/>
          <p:cNvSpPr/>
          <p:nvPr/>
        </p:nvSpPr>
        <p:spPr>
          <a:xfrm>
            <a:off x="106200" y="4653000"/>
            <a:ext cx="66992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verse residual DPCM at the de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9"/>
              <p:cNvSpPr txBox="1"/>
              <p:nvPr/>
            </p:nvSpPr>
            <p:spPr>
              <a:xfrm>
                <a:off x="1547640" y="5229360"/>
                <a:ext cx="2576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j</m:t>
                        </m:r>
                      </m:sup>
                      <m:e>
                        <m:r>
                          <m:t xml:space="preserve">r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17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5316480" y="5261040"/>
                <a:ext cx="24973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e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r>
                          <m:t xml:space="preserve">r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Proposed residual DPCM chunking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7640" y="764640"/>
            <a:ext cx="8929800" cy="172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For larger PU sizes, the residual at column or row N-1 depend on the samples at position N-2, N-3, and so 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n order to limit this dependency it is proposed to apply residual DPCM on chunks of residuals with fixed length (8 in proposal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xample for horizontal DPCM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8000" y="304488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476360" y="304488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421080" y="304488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9"/>
          <p:cNvSpPr/>
          <p:nvPr/>
        </p:nvSpPr>
        <p:spPr>
          <a:xfrm>
            <a:off x="2844720" y="32734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402120" y="26384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unk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1769040" y="26384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unk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3642120" y="26384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unk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08000" y="350820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1476360" y="350820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3421080" y="350820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6"/>
          <p:cNvSpPr/>
          <p:nvPr/>
        </p:nvSpPr>
        <p:spPr>
          <a:xfrm>
            <a:off x="2844720" y="3736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108000" y="448452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476360" y="448452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3421080" y="4484520"/>
            <a:ext cx="1368360" cy="457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2844720" y="4713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2"/>
          <p:cNvSpPr/>
          <p:nvPr/>
        </p:nvSpPr>
        <p:spPr>
          <a:xfrm>
            <a:off x="792000" y="39654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2160720" y="39654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6"/>
          <p:cNvSpPr/>
          <p:nvPr/>
        </p:nvSpPr>
        <p:spPr>
          <a:xfrm>
            <a:off x="4105440" y="396540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28"/>
          <p:cNvCxnSpPr/>
          <p:nvPr/>
        </p:nvCxnSpPr>
        <p:spPr>
          <a:xfrm>
            <a:off x="252360" y="327312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1" name="Straight Arrow Connector 29"/>
          <p:cNvCxnSpPr/>
          <p:nvPr/>
        </p:nvCxnSpPr>
        <p:spPr>
          <a:xfrm>
            <a:off x="1608120" y="328572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2" name="Straight Arrow Connector 30"/>
          <p:cNvCxnSpPr/>
          <p:nvPr/>
        </p:nvCxnSpPr>
        <p:spPr>
          <a:xfrm>
            <a:off x="3578040" y="3285720"/>
            <a:ext cx="1091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3" name="Straight Arrow Connector 31"/>
          <p:cNvCxnSpPr/>
          <p:nvPr/>
        </p:nvCxnSpPr>
        <p:spPr>
          <a:xfrm>
            <a:off x="252360" y="371772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4" name="Straight Arrow Connector 32"/>
          <p:cNvCxnSpPr/>
          <p:nvPr/>
        </p:nvCxnSpPr>
        <p:spPr>
          <a:xfrm>
            <a:off x="1608120" y="373032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5" name="Straight Arrow Connector 33"/>
          <p:cNvCxnSpPr/>
          <p:nvPr/>
        </p:nvCxnSpPr>
        <p:spPr>
          <a:xfrm>
            <a:off x="3578040" y="3730320"/>
            <a:ext cx="1091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6" name="Straight Arrow Connector 34"/>
          <p:cNvCxnSpPr/>
          <p:nvPr/>
        </p:nvCxnSpPr>
        <p:spPr>
          <a:xfrm>
            <a:off x="252360" y="471276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7" name="Straight Arrow Connector 35"/>
          <p:cNvCxnSpPr/>
          <p:nvPr/>
        </p:nvCxnSpPr>
        <p:spPr>
          <a:xfrm>
            <a:off x="1608120" y="4725720"/>
            <a:ext cx="10929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68" name="Straight Arrow Connector 36"/>
          <p:cNvCxnSpPr/>
          <p:nvPr/>
        </p:nvCxnSpPr>
        <p:spPr>
          <a:xfrm>
            <a:off x="3578040" y="4725720"/>
            <a:ext cx="1091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69" name="Content Placeholder 9"/>
          <p:cNvSpPr/>
          <p:nvPr/>
        </p:nvSpPr>
        <p:spPr>
          <a:xfrm>
            <a:off x="5292720" y="3068640"/>
            <a:ext cx="3745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parallelism can be incr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Experimental result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55880" y="1569960"/>
          <a:ext cx="4992480" cy="1643040"/>
        </p:xfrm>
        <a:graphic>
          <a:graphicData uri="http://schemas.openxmlformats.org/drawingml/2006/table">
            <a:tbl>
              <a:tblPr/>
              <a:tblGrid>
                <a:gridCol w="1247760"/>
                <a:gridCol w="1249200"/>
                <a:gridCol w="1247760"/>
                <a:gridCol w="1247760"/>
              </a:tblGrid>
              <a:tr h="137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(GB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7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 (w/o 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 (w/ 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8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955880" y="4102200"/>
          <a:ext cx="4992480" cy="1703160"/>
        </p:xfrm>
        <a:graphic>
          <a:graphicData uri="http://schemas.openxmlformats.org/drawingml/2006/table">
            <a:tbl>
              <a:tblPr/>
              <a:tblGrid>
                <a:gridCol w="1247760"/>
                <a:gridCol w="1249200"/>
                <a:gridCol w="1247760"/>
                <a:gridCol w="1247760"/>
              </a:tblGrid>
              <a:tr h="1375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g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 Int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t-rate sav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0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(GBR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11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7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Ex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0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 (w/o 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 (w/ 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8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Gulim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Content Placeholder 9"/>
          <p:cNvSpPr/>
          <p:nvPr/>
        </p:nvSpPr>
        <p:spPr>
          <a:xfrm>
            <a:off x="324000" y="981000"/>
            <a:ext cx="799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mpression efficiency for residual 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tent Placeholder 9"/>
          <p:cNvSpPr/>
          <p:nvPr/>
        </p:nvSpPr>
        <p:spPr>
          <a:xfrm>
            <a:off x="324000" y="35020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4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Compression efficiency for residual DPCM plus proposed chu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7640" y="765000"/>
            <a:ext cx="8929800" cy="345600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The proposed residual DPCM chunking may increase the parallelism without compromising the compression performanc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It is proposed to accept the presented chunking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04-20T06:22:40Z</dcterms:modified>
  <cp:revision>984</cp:revision>
  <dc:subject/>
  <dc:title>JCTVC-H0477 On Just Noticeable Distortion Quantization in the HEVC Codec</dc:title>
</cp:coreProperties>
</file>