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CF6B-690C-4066-BB10-AC87C6388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4E739-988E-47B2-8AD3-C6B370CD9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8C208-3F19-4593-9484-D9781E6ED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7327-3AE9-4A2F-8B80-D7A6DC264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556A-AA2F-494B-87CB-4D9B1C30F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C399-CE00-42A5-A041-5B0BC0941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57DA-EEA4-4882-B517-019A31725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DDB8-2C0A-46EA-821E-06545B4F4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BDEC-F691-4E25-A28B-4A564F329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D7AB5-7166-4FF5-B2C2-E8EA8160F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7F93-4D81-4E87-8F58-3C737AD28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6041-16B7-4786-A14E-9B10217D1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ldNum" idx="1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2859-B211-41EC-94ED-10C87298BDCA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512640"/>
            <a:ext cx="9144000" cy="131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059600" y="0"/>
            <a:ext cx="2084400" cy="52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7772400" y="25560"/>
            <a:ext cx="12682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</a:rPr>
              <a:t>VLSI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</a:rPr>
              <a:t>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华文行楷"/>
              <a:ea typeface="华文行楷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19280" y="1233360"/>
            <a:ext cx="781200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Quantitative measurement for subjectively lossless 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creen content coding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808080"/>
            <a:ext cx="7921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JCTVC-M0348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18 April – 26 April 201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alibri"/>
              </a:rPr>
              <a:t>Tao L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04DD-178B-4015-B75B-CC168A383E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79640" y="115920"/>
            <a:ext cx="66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657360"/>
            <a:ext cx="8820360" cy="58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-count-dependent (CCD)-PSNR measurement makes more sense than single PSNR measurem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for assessing subjective losslessness onl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also help developing new subjectively lossless coding tool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also be used as a base for content-adaptive R-D requirement and measurem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, simple color-count is us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sort of color quantization/clustering may be needed before counting the col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ondition: QP=0, 5, 10, 15 + CCD-PSN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C276-602C-4783-9E03-E357BD3419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263700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458c"/>
                </a:solidFill>
                <a:latin typeface="Times New Roman"/>
              </a:rPr>
              <a:t>THANK  YOU</a:t>
            </a:r>
            <a:endParaRPr b="0" lang="en-US" sz="8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011C-45CA-4CC3-B186-145BB12F5C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87280" y="657360"/>
            <a:ext cx="871380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creen content coding, mathematical losslessness is an overkill requirem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y allowing subjective losslessness, compression ratio can have 2x or more improvem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eal practice, subjective or perceptual losslessness can not always be assessed by visual inspec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 quantitative measurement is indispensable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ust absolutely guarantee subjective losslessness in real applicati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-dependent Rate-Distortion measurement is requir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79640" y="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4AB7-D52A-4FAA-AD1F-88AF99555A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6000" y="765000"/>
            <a:ext cx="87138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known human visual masking effec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 reduction of the visibility of one stimulus, called the target, by a spatiotemporally contiguous second stimulus, called the mask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1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mber of distinct colors (stimulus to the eye) and color contrast in a small area is directly related to the visibility (visual sensitivity and response of human eye) of the area</a:t>
            </a:r>
            <a:r>
              <a:rPr b="0" lang="en-CA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 more distinct colors a 4x4 block has, the less sensitivity to the color deviation of the block human eye has, thus the lower PSNR the block can allow to maintain subjective (perceptual) losslessnes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eoretic Basi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A54E5-2392-4747-8557-92748B2005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692280"/>
            <a:ext cx="896472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11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-count-dependent-PSNR measurement</a:t>
            </a:r>
            <a:r>
              <a:rPr b="0" lang="en-CA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 following color-count-dependent-PSNR measurement condition is satisfied for all 4x4 blocks of the pictur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Proposed Measuremen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9280" y="2276640"/>
          <a:ext cx="8640720" cy="2627280"/>
        </p:xfrm>
        <a:graphic>
          <a:graphicData uri="http://schemas.openxmlformats.org/drawingml/2006/table">
            <a:tbl>
              <a:tblPr/>
              <a:tblGrid>
                <a:gridCol w="2870280"/>
                <a:gridCol w="961920"/>
                <a:gridCol w="961920"/>
                <a:gridCol w="962280"/>
                <a:gridCol w="960120"/>
                <a:gridCol w="962280"/>
                <a:gridCol w="961920"/>
              </a:tblGrid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Distinct color coun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 ~ 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 ~ 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 ~ 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 ~ 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 ~ 1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 ~ 1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SNR value (dB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&gt; 6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&gt; 6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&gt; 5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&gt; 50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&gt; 4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&gt; 40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aximum error allowed (Square Root of MS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796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98744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.143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.25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.453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.806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.43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.5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0" y="39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5084640"/>
            <a:ext cx="896472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still a very tight condi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ay use more relaxed PSNR values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1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97C8-47F1-48EE-9C55-B68731DC33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692280"/>
            <a:ext cx="89647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two types of maps to see the correlation between the color count in a 4x4 block and PSNR of the block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or an original picture, a 4x4 block color count map is drawn and each 4x4 block is filled with a solid color based on the color count of the bloc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or a reconstructed picture, a 4x4 block psnr map is drawn and each 4x4 block is filled with a solid color based on the psnr of the block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9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4184640"/>
          <a:ext cx="8964720" cy="2413080"/>
        </p:xfrm>
        <a:graphic>
          <a:graphicData uri="http://schemas.openxmlformats.org/drawingml/2006/table">
            <a:tbl>
              <a:tblPr/>
              <a:tblGrid>
                <a:gridCol w="900000"/>
                <a:gridCol w="1104840"/>
                <a:gridCol w="911520"/>
                <a:gridCol w="1008000"/>
                <a:gridCol w="1079280"/>
                <a:gridCol w="1008360"/>
                <a:gridCol w="1008000"/>
                <a:gridCol w="973080"/>
                <a:gridCol w="971640"/>
              </a:tblGrid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olor coun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 ~ 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 ~ 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 ~ 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 ~ 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 ~ 1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 ~ 1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3 ~ 1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 ~ 1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sn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5 ~ ∞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0 ~6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5 ~ 6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0 ~ 5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5 ~ 5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 ~ 4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5 ~ 4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 ~ 3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ap colo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yellow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re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urple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yan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green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lu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0" y="40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07A3-85A2-4809-96A4-7C403D3BA1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16000" y="0"/>
            <a:ext cx="66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al Dat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620640"/>
          <a:ext cx="4584600" cy="25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20640"/>
                    <a:ext cx="458460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535640" y="657360"/>
          <a:ext cx="4617720" cy="26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35640" y="657360"/>
                    <a:ext cx="4617720" cy="26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79280" y="4545000"/>
          <a:ext cx="8677080" cy="2174760"/>
        </p:xfrm>
        <a:graphic>
          <a:graphicData uri="http://schemas.openxmlformats.org/drawingml/2006/table">
            <a:tbl>
              <a:tblPr/>
              <a:tblGrid>
                <a:gridCol w="934920"/>
                <a:gridCol w="938160"/>
                <a:gridCol w="935280"/>
                <a:gridCol w="900000"/>
                <a:gridCol w="1008000"/>
                <a:gridCol w="1008000"/>
                <a:gridCol w="1008000"/>
                <a:gridCol w="973440"/>
                <a:gridCol w="971280"/>
              </a:tblGrid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olor coun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 ~ 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 ~ 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 ~ 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 ~ 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 ~ 1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 ~ 1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3 ~ 1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 ~ 1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sn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5 ~ ∞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0 ~6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5 ~ 6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0 ~ 5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5 ~ 5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 ~ 4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5 ~ 4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 ~ 3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ap colo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yellow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re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urple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yan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green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lu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755640" y="324972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r-count m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28464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NR map (QP=6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11280" y="375300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_map_1280x720_60_8bi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3A59-9B2D-46D0-B9DD-6F36E64561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16000" y="0"/>
            <a:ext cx="66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al Dat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314172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r-count m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08720" y="314172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NR map (QP=6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42920" y="4581360"/>
          <a:ext cx="8785080" cy="2071800"/>
        </p:xfrm>
        <a:graphic>
          <a:graphicData uri="http://schemas.openxmlformats.org/drawingml/2006/table">
            <a:tbl>
              <a:tblPr/>
              <a:tblGrid>
                <a:gridCol w="900000"/>
                <a:gridCol w="971640"/>
                <a:gridCol w="971640"/>
                <a:gridCol w="1008000"/>
                <a:gridCol w="1008000"/>
                <a:gridCol w="973080"/>
                <a:gridCol w="971640"/>
                <a:gridCol w="1028880"/>
                <a:gridCol w="9522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olor coun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 ~ 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 ~ 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 ~ 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 ~ 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 ~ 1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 ~ 1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3 ~ 1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 ~ 1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sn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5 ~ ∞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0 ~6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5 ~ 6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0 ~ 5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5 ~ 5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 ~ 4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5 ~ 4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 ~ 3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ap colo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yellow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re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urple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yan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green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lu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0" y="584280"/>
          <a:ext cx="4459320" cy="25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84280"/>
                    <a:ext cx="445932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835280" y="3897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c_programming_1280x720_60_8bi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0" y="584280"/>
          <a:ext cx="4444920" cy="25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584280"/>
                    <a:ext cx="444492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4748-05F7-4F0B-B93B-D29E7D12B2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0"/>
            <a:ext cx="66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al Dat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314172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r-count m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08720" y="314172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NR map (QP=6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4920" y="4486320"/>
          <a:ext cx="9001080" cy="2189160"/>
        </p:xfrm>
        <a:graphic>
          <a:graphicData uri="http://schemas.openxmlformats.org/drawingml/2006/table">
            <a:tbl>
              <a:tblPr/>
              <a:tblGrid>
                <a:gridCol w="1120680"/>
                <a:gridCol w="968400"/>
                <a:gridCol w="900360"/>
                <a:gridCol w="1008000"/>
                <a:gridCol w="1008000"/>
                <a:gridCol w="971640"/>
                <a:gridCol w="973080"/>
                <a:gridCol w="1008000"/>
                <a:gridCol w="1042920"/>
              </a:tblGrid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olor coun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 ~ 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 ~ 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 ~ 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 ~ 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 ~ 1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 ~ 1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3 ~ 1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 ~ 1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sn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5 ~ ∞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0 ~6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5 ~ 6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0 ~ 5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5 ~ 5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 ~ 4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5 ~ 4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 ~ 3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ap colo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yellow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re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urple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yan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green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lu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0" y="584280"/>
          <a:ext cx="4451400" cy="25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84280"/>
                    <a:ext cx="445140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835280" y="3860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c_wordEditing_1280x720_60_8bi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00720" y="620640"/>
          <a:ext cx="4451040" cy="25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620640"/>
                    <a:ext cx="445104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87A6-9F81-4FB2-9561-4EE542A5CA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16000" y="0"/>
            <a:ext cx="66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al Dat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314172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r-count m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314172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NR map (QP=8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42920" y="4834080"/>
          <a:ext cx="9000720" cy="1906560"/>
        </p:xfrm>
        <a:graphic>
          <a:graphicData uri="http://schemas.openxmlformats.org/drawingml/2006/table">
            <a:tbl>
              <a:tblPr/>
              <a:tblGrid>
                <a:gridCol w="923400"/>
                <a:gridCol w="994320"/>
                <a:gridCol w="993960"/>
                <a:gridCol w="1033560"/>
                <a:gridCol w="1033200"/>
                <a:gridCol w="997560"/>
                <a:gridCol w="993960"/>
                <a:gridCol w="1053000"/>
                <a:gridCol w="9777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olor coun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 ~ 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 ~ 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 ~ 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 ~ 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 ~ 1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 ~ 1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3 ~ 1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 ~ 1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sn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5 ~ ∞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0 ~6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5 ~ 6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0 ~ 5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5 ~ 5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 ~ 4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5 ~ 4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 ~ 3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ap colo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yellow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re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urple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yan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green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lu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0" y="620640"/>
          <a:ext cx="4456080" cy="25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20640"/>
                    <a:ext cx="4456080" cy="25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1835280" y="414972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nueVu_1920x1080_30_8bi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1440" y="620640"/>
          <a:ext cx="4462560" cy="251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1440" y="620640"/>
                    <a:ext cx="4462560" cy="25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21BBD-6BE0-412A-94F0-778E997F3C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03:13:52Z</dcterms:created>
  <dc:creator>tao lin</dc:creator>
  <dc:description/>
  <dc:language>en-US</dc:language>
  <cp:lastModifiedBy>u</cp:lastModifiedBy>
  <dcterms:modified xsi:type="dcterms:W3CDTF">2013-04-21T02:30:15Z</dcterms:modified>
  <cp:revision>1378</cp:revision>
  <dc:subject/>
  <dc:title>Slide 1</dc:title>
</cp:coreProperties>
</file>