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81F6D7-350A-499F-B7AA-AE618DC7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6A43E9-0159-4468-85E6-A73824F5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11C7BE-2A67-495A-A3CB-C73704AC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F417CB-B085-48F2-9DBB-6F74ED5B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AAEEA9-F9D5-4A72-8BE9-6336435F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853C2F-4B8F-469B-B5D1-ECA03651F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128-5585-49CC-9B6A-FB6C5E95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DC0-88E2-4E0F-A972-38766DE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3AC-8B8D-4581-91E4-EBC1D91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6FE-F46F-4210-858F-7F15A3F6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924-9F35-4F63-AA52-865B365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F3F-D0E1-4244-9C61-D3ED28D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6E3-E087-44C7-8718-45F2BA8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B8B-FD80-4CBF-A4B4-6F7338BF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06A-3D2A-4A7A-A264-E12BED2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632-57E1-4844-B4F6-F4C4AB0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4D9-7BDE-4515-BAB3-1712CA8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4C4-BFE8-41D9-92A4-DA3B12B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DDC-9254-4F1C-8618-E2B4C5B01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JCTVC-M0304&gt; </a:t>
            </a:r>
            <a:br>
              <a:rPr sz="2800"/>
            </a:br>
            <a:r>
              <a:rPr b="1" lang="en-CA" sz="2400" spc="-1" strike="noStrike">
                <a:solidFill>
                  <a:srgbClr val="0000ff"/>
                </a:solidFill>
                <a:latin typeface="Arial"/>
              </a:rPr>
              <a:t>Non-RCE1/Non-RCE2: Simplified level coding for Transform skip and lossless co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AA0-E899-4CA7-A7C8-B4FD56E6A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914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ed to update residual coding part for  the transform skipped 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pdate remaining level coding for lossless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336-CCE5-4ADB-B5F1-CF6FC4F8F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2320" y="75960"/>
            <a:ext cx="642132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act of transform skip on screen contents (JCTVC-L0428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18FB-1FFD-4E5A-9512-F4411000AF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1592280"/>
            <a:ext cx="491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BD-Rate changes for disabling transform skip are shown in the tables below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90920" y="2057400"/>
          <a:ext cx="4286160" cy="3336840"/>
        </p:xfrm>
        <a:graphic>
          <a:graphicData uri="http://schemas.openxmlformats.org/drawingml/2006/table">
            <a:tbl>
              <a:tblPr/>
              <a:tblGrid>
                <a:gridCol w="1547640"/>
                <a:gridCol w="912600"/>
                <a:gridCol w="912960"/>
                <a:gridCol w="9129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-HE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cad_wave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pcb_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ppt_doc_x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video_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web_brow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cg_twist_tu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wordEd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_program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51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generalized contents/condition considered in range ext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put formats: YUV 4:4:4, YUV 4:2:2, RGB 4:4:4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ents: natural images, screen contents, medical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re conditions: high bitrates, lossless, near-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importance of transform skipp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굴림"/>
              </a:rPr>
              <a:t>Impact of transform skip on screen content sequences [JCTVC-L04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굴림"/>
              </a:rPr>
              <a:t>BD-Rate change for disabling transform sk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25.9 % (AI), 23.5% (RA), 20.2% (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ossless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different statistics of residu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rrent Residual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igned for transformed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ep the coding performance for natural sequences and deal with  test sequences from range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ot of room for improvement in the aspect of complexity reduction and coding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FC1-7A30-48E5-8901-3663025AE6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rrent Residual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igned for transformed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ep the coding performance for natural sequences and deal with  test sequences from range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ot of room for improvement in the aspect of complexity reduction and coding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E293-0CD4-4E68-B06D-A49439346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ransform skipped block or transform_quant_bypass (loss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move GR_than_1 and GR_tha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remaining level coding for lossles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ignal the corresponding rice-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move rice-parameter upd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759-74D1-4440-970C-AF3B80FB34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17"/>
          <p:cNvSpPr/>
          <p:nvPr/>
        </p:nvSpPr>
        <p:spPr>
          <a:xfrm>
            <a:off x="8153280" y="6248520"/>
            <a:ext cx="533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98A3-68ED-4448-BA0E-DFF2693DF5B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657600" y="2133720"/>
            <a:ext cx="1714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ignificance Ma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525920" y="2514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795840" y="4495680"/>
            <a:ext cx="1522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aining Leve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50"/>
          <p:cNvSpPr/>
          <p:nvPr/>
        </p:nvSpPr>
        <p:spPr>
          <a:xfrm>
            <a:off x="4114800" y="5788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M10.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9880" y="266688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1 flag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525920" y="3057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48040" y="322884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2 fla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525920" y="3610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48040" y="3781440"/>
            <a:ext cx="1409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 da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524480" y="41608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610080" y="1592280"/>
            <a:ext cx="179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e_parameter = 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527720" y="1965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809880" y="5045040"/>
            <a:ext cx="1522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date rice-parame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519440" y="4870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3505320" y="4335480"/>
            <a:ext cx="1981080" cy="1379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5" name="Elbow Connector 30"/>
          <p:cNvCxnSpPr>
            <a:stCxn id="82" idx="1"/>
            <a:endCxn id="72" idx="1"/>
          </p:cNvCxnSpPr>
          <p:nvPr/>
        </p:nvCxnSpPr>
        <p:spPr>
          <a:xfrm rot="10800000">
            <a:off x="3795120" y="4685760"/>
            <a:ext cx="14760" cy="503640"/>
          </a:xfrm>
          <a:prstGeom prst="bentConnector3">
            <a:avLst>
              <a:gd name="adj1" fmla="val 17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6" name="TextBox 27"/>
          <p:cNvSpPr/>
          <p:nvPr/>
        </p:nvSpPr>
        <p:spPr>
          <a:xfrm>
            <a:off x="838080" y="990720"/>
            <a:ext cx="3276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 GR_than_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 GR_than_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2722680" y="15228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248520" y="2133720"/>
            <a:ext cx="1714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ignificance Ma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7116840" y="2514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386400" y="4495680"/>
            <a:ext cx="1522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aining Leve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50"/>
          <p:cNvSpPr/>
          <p:nvPr/>
        </p:nvSpPr>
        <p:spPr>
          <a:xfrm>
            <a:off x="6705720" y="5788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thod 1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400800" y="266688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1 flag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7116840" y="3057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438960" y="322884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2 fla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7116840" y="3610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38960" y="3781440"/>
            <a:ext cx="1409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 da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7115040" y="41608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200640" y="1592280"/>
            <a:ext cx="179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e_parameter = 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118280" y="1965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400800" y="5045040"/>
            <a:ext cx="1522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date rice-parame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7110360" y="4870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6095880" y="4343400"/>
            <a:ext cx="1981440" cy="1379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" name="Elbow Connector 30"/>
          <p:cNvCxnSpPr>
            <a:stCxn id="100" idx="1"/>
            <a:endCxn id="90" idx="1"/>
          </p:cNvCxnSpPr>
          <p:nvPr/>
        </p:nvCxnSpPr>
        <p:spPr>
          <a:xfrm rot="10800000">
            <a:off x="6385680" y="4685760"/>
            <a:ext cx="15120" cy="503640"/>
          </a:xfrm>
          <a:prstGeom prst="bentConnector3">
            <a:avLst>
              <a:gd name="adj1" fmla="val 17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7"/>
          <p:cNvSpPr/>
          <p:nvPr/>
        </p:nvSpPr>
        <p:spPr>
          <a:xfrm>
            <a:off x="8153280" y="6245280"/>
            <a:ext cx="533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6418-C319-41A1-9C25-2293E32060F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419720" y="2133720"/>
            <a:ext cx="1714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ignificance Ma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288040" y="2514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57600" y="4495680"/>
            <a:ext cx="1522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aining Leve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50"/>
          <p:cNvSpPr/>
          <p:nvPr/>
        </p:nvSpPr>
        <p:spPr>
          <a:xfrm>
            <a:off x="4876920" y="5788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M10.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51"/>
          <p:cNvSpPr/>
          <p:nvPr/>
        </p:nvSpPr>
        <p:spPr>
          <a:xfrm>
            <a:off x="7086600" y="5029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thod 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10160" y="268596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1 flag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288040" y="3057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610160" y="3228840"/>
            <a:ext cx="1409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er_than_2 fla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288040" y="3610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10160" y="3781440"/>
            <a:ext cx="1409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 da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5286240" y="41608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3368520"/>
            <a:ext cx="1714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ificance Map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757920" y="4473720"/>
            <a:ext cx="1522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aining Leve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coding l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7488360" y="37400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6810480" y="3911760"/>
            <a:ext cx="1409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 da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486560" y="429084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371840" y="1592280"/>
            <a:ext cx="179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e_parameter = 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289480" y="1965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553080" y="2819520"/>
            <a:ext cx="179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Decode rice parame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7470720" y="3192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0" y="5045040"/>
            <a:ext cx="1522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pdate rice-parame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5281560" y="4870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4267080" y="4335480"/>
            <a:ext cx="1981440" cy="1379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8" name="Elbow Connector 30"/>
          <p:cNvCxnSpPr>
            <a:stCxn id="125" idx="1"/>
            <a:endCxn id="107" idx="1"/>
          </p:cNvCxnSpPr>
          <p:nvPr/>
        </p:nvCxnSpPr>
        <p:spPr>
          <a:xfrm rot="10800000">
            <a:off x="4556880" y="4685760"/>
            <a:ext cx="15120" cy="503640"/>
          </a:xfrm>
          <a:prstGeom prst="bentConnector3">
            <a:avLst>
              <a:gd name="adj1" fmla="val 17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9" name="TextBox 27"/>
          <p:cNvSpPr/>
          <p:nvPr/>
        </p:nvSpPr>
        <p:spPr>
          <a:xfrm>
            <a:off x="838080" y="990720"/>
            <a:ext cx="3276720" cy="26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 GR_than_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 GR_than_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rice parameter (Truncated Unary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1 context bi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4 bypass bi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   Remove Rice-parameter update proce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2722680" y="15228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for RCE1 (Method 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12B-8E4C-4120-86FE-3B55A684E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2480" y="1447920"/>
          <a:ext cx="6782040" cy="1147680"/>
        </p:xfrm>
        <a:graphic>
          <a:graphicData uri="http://schemas.openxmlformats.org/drawingml/2006/table">
            <a:tbl>
              <a:tblPr/>
              <a:tblGrid>
                <a:gridCol w="914400"/>
                <a:gridCol w="621000"/>
                <a:gridCol w="655560"/>
                <a:gridCol w="655560"/>
                <a:gridCol w="657360"/>
                <a:gridCol w="655560"/>
                <a:gridCol w="655560"/>
                <a:gridCol w="655560"/>
                <a:gridCol w="655560"/>
                <a:gridCol w="655920"/>
              </a:tblGrid>
              <a:tr h="1915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 Main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 High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 Super-High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5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2: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52480" y="2895480"/>
          <a:ext cx="4876920" cy="1154160"/>
        </p:xfrm>
        <a:graphic>
          <a:graphicData uri="http://schemas.openxmlformats.org/drawingml/2006/table">
            <a:tbl>
              <a:tblPr/>
              <a:tblGrid>
                <a:gridCol w="860400"/>
                <a:gridCol w="641520"/>
                <a:gridCol w="631800"/>
                <a:gridCol w="685800"/>
                <a:gridCol w="685800"/>
                <a:gridCol w="685800"/>
                <a:gridCol w="6858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igh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2: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52480" y="4467240"/>
          <a:ext cx="4876920" cy="1184400"/>
        </p:xfrm>
        <a:graphic>
          <a:graphicData uri="http://schemas.openxmlformats.org/drawingml/2006/table">
            <a:tbl>
              <a:tblPr/>
              <a:tblGrid>
                <a:gridCol w="876600"/>
                <a:gridCol w="715680"/>
                <a:gridCol w="617760"/>
                <a:gridCol w="609480"/>
                <a:gridCol w="685800"/>
                <a:gridCol w="762120"/>
                <a:gridCol w="6094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 Main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 High-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 4:4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4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bCr 4:2: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for RCE2 (Method 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A9E7-866F-4E24-86CF-15A568211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86400" y="1066680"/>
          <a:ext cx="2666880" cy="1540080"/>
        </p:xfrm>
        <a:graphic>
          <a:graphicData uri="http://schemas.openxmlformats.org/drawingml/2006/table">
            <a:tbl>
              <a:tblPr/>
              <a:tblGrid>
                <a:gridCol w="641520"/>
                <a:gridCol w="674640"/>
                <a:gridCol w="695160"/>
                <a:gridCol w="6555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Intra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486400" y="2743200"/>
          <a:ext cx="2666880" cy="1539720"/>
        </p:xfrm>
        <a:graphic>
          <a:graphicData uri="http://schemas.openxmlformats.org/drawingml/2006/table">
            <a:tbl>
              <a:tblPr/>
              <a:tblGrid>
                <a:gridCol w="644400"/>
                <a:gridCol w="673200"/>
                <a:gridCol w="674640"/>
                <a:gridCol w="674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om Access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486400" y="4495680"/>
          <a:ext cx="2666880" cy="1540080"/>
        </p:xfrm>
        <a:graphic>
          <a:graphicData uri="http://schemas.openxmlformats.org/drawingml/2006/table">
            <a:tbl>
              <a:tblPr/>
              <a:tblGrid>
                <a:gridCol w="644400"/>
                <a:gridCol w="673200"/>
                <a:gridCol w="674640"/>
                <a:gridCol w="674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delay B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Content Placeholder 2"/>
          <p:cNvSpPr/>
          <p:nvPr/>
        </p:nvSpPr>
        <p:spPr>
          <a:xfrm>
            <a:off x="457200" y="1066680"/>
            <a:ext cx="426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 for Loss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move GR_than_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Remove GR_than_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orst case  context bin reduced  by 38%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(1.56 bins/pixel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 1bin/pixe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lo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for RCE2 (Method I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709-19FA-403A-830F-A6CF2782F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638680" y="1066680"/>
          <a:ext cx="2667240" cy="1540080"/>
        </p:xfrm>
        <a:graphic>
          <a:graphicData uri="http://schemas.openxmlformats.org/drawingml/2006/table">
            <a:tbl>
              <a:tblPr/>
              <a:tblGrid>
                <a:gridCol w="641520"/>
                <a:gridCol w="674640"/>
                <a:gridCol w="695160"/>
                <a:gridCol w="65592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Intra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638680" y="2743200"/>
          <a:ext cx="2667240" cy="1539720"/>
        </p:xfrm>
        <a:graphic>
          <a:graphicData uri="http://schemas.openxmlformats.org/drawingml/2006/table">
            <a:tbl>
              <a:tblPr/>
              <a:tblGrid>
                <a:gridCol w="644760"/>
                <a:gridCol w="672840"/>
                <a:gridCol w="675000"/>
                <a:gridCol w="674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om Access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638680" y="4495680"/>
          <a:ext cx="2667240" cy="1540080"/>
        </p:xfrm>
        <a:graphic>
          <a:graphicData uri="http://schemas.openxmlformats.org/drawingml/2006/table">
            <a:tbl>
              <a:tblPr/>
              <a:tblGrid>
                <a:gridCol w="644760"/>
                <a:gridCol w="672840"/>
                <a:gridCol w="675000"/>
                <a:gridCol w="674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delay B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ssion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sav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GB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Content Placeholder 2"/>
          <p:cNvSpPr/>
          <p:nvPr/>
        </p:nvSpPr>
        <p:spPr>
          <a:xfrm>
            <a:off x="457200" y="1066680"/>
            <a:ext cx="426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I for Loss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 I + 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duce the maximal number of context bin reduced  by 32%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(1.56 bins/pixel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 1.06bin/pixe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oding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mse</cp:lastModifiedBy>
  <dcterms:modified xsi:type="dcterms:W3CDTF">2013-04-21T01:25:51Z</dcterms:modified>
  <cp:revision>1072</cp:revision>
  <dc:subject/>
  <dc:title>Slide 1</dc:title>
</cp:coreProperties>
</file>