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FEAA-FC4A-45F5-AD5F-70EFB1B65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DA29-9EBD-4B90-B709-9101697F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B073-8A90-4196-986F-FE85A6E5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C7C7-568B-48C3-8616-99CCEC620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18B1-5895-4E82-8476-B52DF2C2F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C510-CEF1-4536-BB2F-4EF01442D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F43F-239D-4579-9352-4ACDF980F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3C84-CCA9-4C2B-98EB-75AD7CA4E7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3812-1D24-4EF8-A406-8B1F6EB43F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10ED-9C4A-4024-A020-5D388190B7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EDB8-2225-4F22-9835-D59A37E3DC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C4DA-F985-4882-8DB3-E813A6EA82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3826-5BDC-4C70-B164-D61642E9C5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1B60-E1CA-4042-ADAB-2F703235C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C0D4-CA30-403F-BA4D-DBAFD2862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5D1F-0F32-4F1B-B5F8-ACACACC37B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9571-4697-47F2-8976-2E373F72EE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D04C-52A8-44AD-82DA-1CD12055E0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4A7B-F7E5-41EA-965F-EF56A39F66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4EC6-908E-41B8-8E65-F1D2EAF6CA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CE8-2EC8-403F-AF41-CA96846920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C7A-D04F-47BA-937C-8E89530FEA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116-C6E4-4238-B04A-EB24D4DBB4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BD5-CA93-485D-8257-AA47CFBA84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342-BA27-4B29-B67B-07523416E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A2E7-18F7-45C9-B5E5-597BFFFC79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131-F0F1-4CC9-A9EA-9B5F6541B9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66F-F2D1-4CEC-9C33-63CD55300A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F74-FE39-4406-B5C0-362716A405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816-67F7-4B3F-A871-BF8B808D68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3BE-1E0A-4EA8-A0E1-6F1EBF55EB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1EC-BBF6-4CD7-8C32-710418586C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F0D-F5EA-4BC6-B7EA-78E548BAD6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829EC-7885-412D-B837-FB1855AC70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162CD-DBD6-4F73-927A-01B6642D3A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79142-9800-4BB1-B747-7DCB19092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9987-36E8-45E4-9455-66E93B05F4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3FC66-1A1D-42E7-A06B-84B10A03D8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A2E80-FBA6-4D98-82CE-CACB29E5F3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DCE02-4A52-4D41-BF67-5637B3AE55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82954-107D-42B1-8ACC-ACD467C125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CA444-A01F-4B49-9556-41AB75F4C5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CEFB8-9CD4-4796-9065-76AA078B3B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D28CF-9513-4B0C-AC8D-FD4B84EEB6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10EB0-A856-43AA-A921-7E69A136D2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F503C-58FD-47BA-8021-C33FD41BC23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15E1B-7C90-44FF-8A3B-79B85A119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4A68-8FAA-4BCA-8C6D-C98E5A2E27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3BFD6-B0AA-4C8E-B951-DF3CEE31D2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9F44C-74C9-415C-8431-B1A8967A7F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5029B-E6C6-467B-AC5A-2A24E8B1F8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CD7BC-48BF-424C-AEA8-6CBA3D63CC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06471-73B1-447C-9C88-1970A207CC2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79D45-F1BF-4B5D-81EA-0FA36EA011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7E69A-8323-4341-B1F3-33504C4014F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0BF0E-B022-411B-AC0B-30BCF045C3F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7A18B-D9D3-4821-8E4A-D1A8CD8FDA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387E7-5658-481D-946D-86E545EFE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432B-3E3F-4729-8CCF-FED8694F43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50C4E-6E5E-41D9-8FFA-83B8B9783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7635-837C-4FC0-A999-631CB4C74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CC65-8FD1-48CA-86EC-F7161A75C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E068-152A-4A59-B0CA-DCCB68A07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9FED-81C4-4A2F-A7D5-D8A28622D36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F42A-5939-4A66-AAC5-AEEEAAEA55A7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F064-4BB0-4442-9711-3E5CB4A7A0E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9DD-2127-41FE-A795-B6FEA3E52EA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4E68-362C-4F56-BA1F-C6966A00F00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D01A-B472-46DE-9FAB-BA3194DC01B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M0234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Combined Scalable + Multiview HEVC coding resul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8283-7548-4872-BD7C-A309F72D88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147320"/>
            <a:ext cx="84391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EVC extension is being designed to support scalable (SHVC) and multi-view coding (MV-HEVC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owever, software and results are not available for SHVC + MV-HE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 this contribu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er-view prediction is implemented on top of SHM-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er-view prediction based on HTM-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er-view prediction works with both TextureRL and RefIdx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 layers (D0V0, D0V1, D1V0 and D1V1) are coded for multi-view SNR cod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erformances of inter-layer prediction are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ureRL and RefIdx approaches are evaluated in the SHVC + MV-HEVC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-layer prediction structures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3360" y="1185840"/>
            <a:ext cx="84679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ter-layer prediction structures are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yers are coded independ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-HEVC simul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1 is predicted from V0 at the same D layer by using inter-view pred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VC + MV-HE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to inter-view prediction, D1 is predicted from D0 at the same V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CBD4-B3EB-420B-8BAF-0137A255816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358640" y="1895400"/>
            <a:ext cx="1825920" cy="1629000"/>
            <a:chOff x="1358640" y="1895400"/>
            <a:chExt cx="1825920" cy="1629000"/>
          </a:xfrm>
        </p:grpSpPr>
        <p:sp>
          <p:nvSpPr>
            <p:cNvPr id="224" name="Rectangle 4"/>
            <p:cNvSpPr/>
            <p:nvPr/>
          </p:nvSpPr>
          <p:spPr>
            <a:xfrm>
              <a:off x="1660320" y="271872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"/>
            <p:cNvSpPr/>
            <p:nvPr/>
          </p:nvSpPr>
          <p:spPr>
            <a:xfrm>
              <a:off x="2575080" y="271872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1660320" y="189540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2575080" y="189540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0"/>
            <p:cNvSpPr/>
            <p:nvPr/>
          </p:nvSpPr>
          <p:spPr>
            <a:xfrm>
              <a:off x="1815480" y="32781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1"/>
            <p:cNvSpPr/>
            <p:nvPr/>
          </p:nvSpPr>
          <p:spPr>
            <a:xfrm>
              <a:off x="2729880" y="32781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1358640" y="28800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1358640" y="20599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4"/>
            <p:cNvSpPr/>
            <p:nvPr/>
          </p:nvSpPr>
          <p:spPr>
            <a:xfrm>
              <a:off x="1740240" y="28954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1740240" y="20599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2655000" y="20599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2655000" y="28836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7"/>
          <p:cNvGrpSpPr/>
          <p:nvPr/>
        </p:nvGrpSpPr>
        <p:grpSpPr>
          <a:xfrm>
            <a:off x="3701880" y="1895400"/>
            <a:ext cx="1825920" cy="1629000"/>
            <a:chOff x="3701880" y="1895400"/>
            <a:chExt cx="1825920" cy="1629000"/>
          </a:xfrm>
        </p:grpSpPr>
        <p:sp>
          <p:nvSpPr>
            <p:cNvPr id="237" name="Rectangle 18"/>
            <p:cNvSpPr/>
            <p:nvPr/>
          </p:nvSpPr>
          <p:spPr>
            <a:xfrm>
              <a:off x="4003560" y="271872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4918320" y="271872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4003560" y="189540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4918320" y="189540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2"/>
            <p:cNvSpPr/>
            <p:nvPr/>
          </p:nvSpPr>
          <p:spPr>
            <a:xfrm>
              <a:off x="4158720" y="32781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3"/>
            <p:cNvSpPr/>
            <p:nvPr/>
          </p:nvSpPr>
          <p:spPr>
            <a:xfrm>
              <a:off x="5073120" y="32781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4"/>
            <p:cNvSpPr/>
            <p:nvPr/>
          </p:nvSpPr>
          <p:spPr>
            <a:xfrm>
              <a:off x="3701880" y="28800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5"/>
            <p:cNvSpPr/>
            <p:nvPr/>
          </p:nvSpPr>
          <p:spPr>
            <a:xfrm>
              <a:off x="3701880" y="20599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6"/>
            <p:cNvSpPr/>
            <p:nvPr/>
          </p:nvSpPr>
          <p:spPr>
            <a:xfrm>
              <a:off x="4083480" y="28954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7"/>
            <p:cNvSpPr/>
            <p:nvPr/>
          </p:nvSpPr>
          <p:spPr>
            <a:xfrm>
              <a:off x="4083480" y="20599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8"/>
            <p:cNvSpPr/>
            <p:nvPr/>
          </p:nvSpPr>
          <p:spPr>
            <a:xfrm>
              <a:off x="4998240" y="20599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9"/>
            <p:cNvSpPr/>
            <p:nvPr/>
          </p:nvSpPr>
          <p:spPr>
            <a:xfrm>
              <a:off x="4998240" y="28836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9" name="AutoShape 30"/>
            <p:cNvCxnSpPr>
              <a:stCxn id="238" idx="1"/>
              <a:endCxn id="237" idx="3"/>
            </p:cNvCxnSpPr>
            <p:nvPr/>
          </p:nvCxnSpPr>
          <p:spPr>
            <a:xfrm flipH="1" flipV="1">
              <a:off x="4613040" y="300636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250" name="AutoShape 31"/>
            <p:cNvCxnSpPr>
              <a:stCxn id="240" idx="1"/>
              <a:endCxn id="239" idx="3"/>
            </p:cNvCxnSpPr>
            <p:nvPr/>
          </p:nvCxnSpPr>
          <p:spPr>
            <a:xfrm flipH="1" flipV="1">
              <a:off x="4613040" y="218268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</p:grpSp>
      <p:grpSp>
        <p:nvGrpSpPr>
          <p:cNvPr id="251" name="Group 32"/>
          <p:cNvGrpSpPr/>
          <p:nvPr/>
        </p:nvGrpSpPr>
        <p:grpSpPr>
          <a:xfrm>
            <a:off x="6044760" y="1905120"/>
            <a:ext cx="1825920" cy="1628640"/>
            <a:chOff x="6044760" y="1905120"/>
            <a:chExt cx="1825920" cy="1628640"/>
          </a:xfrm>
        </p:grpSpPr>
        <p:sp>
          <p:nvSpPr>
            <p:cNvPr id="252" name="Rectangle 32"/>
            <p:cNvSpPr/>
            <p:nvPr/>
          </p:nvSpPr>
          <p:spPr>
            <a:xfrm>
              <a:off x="6346440" y="272844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7261200" y="272844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6346440" y="190512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7261200" y="1905120"/>
              <a:ext cx="60948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6"/>
            <p:cNvSpPr/>
            <p:nvPr/>
          </p:nvSpPr>
          <p:spPr>
            <a:xfrm>
              <a:off x="6501600" y="32875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7"/>
            <p:cNvSpPr/>
            <p:nvPr/>
          </p:nvSpPr>
          <p:spPr>
            <a:xfrm>
              <a:off x="7416000" y="32875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8"/>
            <p:cNvSpPr/>
            <p:nvPr/>
          </p:nvSpPr>
          <p:spPr>
            <a:xfrm>
              <a:off x="6044760" y="28897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39"/>
            <p:cNvSpPr/>
            <p:nvPr/>
          </p:nvSpPr>
          <p:spPr>
            <a:xfrm>
              <a:off x="6044760" y="20696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0"/>
            <p:cNvSpPr/>
            <p:nvPr/>
          </p:nvSpPr>
          <p:spPr>
            <a:xfrm>
              <a:off x="6426360" y="29052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1"/>
            <p:cNvSpPr/>
            <p:nvPr/>
          </p:nvSpPr>
          <p:spPr>
            <a:xfrm>
              <a:off x="6426360" y="206964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7341120" y="206964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43"/>
            <p:cNvSpPr/>
            <p:nvPr/>
          </p:nvSpPr>
          <p:spPr>
            <a:xfrm>
              <a:off x="7341120" y="289296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AutoShape 44"/>
            <p:cNvCxnSpPr>
              <a:stCxn id="253" idx="1"/>
              <a:endCxn id="252" idx="3"/>
            </p:cNvCxnSpPr>
            <p:nvPr/>
          </p:nvCxnSpPr>
          <p:spPr>
            <a:xfrm flipH="1" flipV="1">
              <a:off x="6955920" y="301572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265" name="AutoShape 45"/>
            <p:cNvCxnSpPr>
              <a:stCxn id="255" idx="1"/>
              <a:endCxn id="254" idx="3"/>
            </p:cNvCxnSpPr>
            <p:nvPr/>
          </p:nvCxnSpPr>
          <p:spPr>
            <a:xfrm flipH="1" flipV="1">
              <a:off x="6955920" y="219240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266" name="AutoShape 46"/>
            <p:cNvCxnSpPr>
              <a:stCxn id="252" idx="0"/>
              <a:endCxn id="254" idx="2"/>
            </p:cNvCxnSpPr>
            <p:nvPr/>
          </p:nvCxnSpPr>
          <p:spPr>
            <a:xfrm flipV="1">
              <a:off x="6651000" y="2481480"/>
              <a:ext cx="1080" cy="247320"/>
            </a:xfrm>
            <a:prstGeom prst="straightConnector1">
              <a:avLst/>
            </a:prstGeom>
            <a:ln w="9360">
              <a:solidFill>
                <a:srgbClr val="3366ff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67" name="AutoShape 47"/>
            <p:cNvCxnSpPr>
              <a:stCxn id="253" idx="0"/>
              <a:endCxn id="255" idx="2"/>
            </p:cNvCxnSpPr>
            <p:nvPr/>
          </p:nvCxnSpPr>
          <p:spPr>
            <a:xfrm flipV="1">
              <a:off x="7565760" y="2481480"/>
              <a:ext cx="1080" cy="247320"/>
            </a:xfrm>
            <a:prstGeom prst="straightConnector1">
              <a:avLst/>
            </a:prstGeom>
            <a:ln w="9360">
              <a:solidFill>
                <a:srgbClr val="3366ff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268" name="TextBox 49"/>
          <p:cNvSpPr/>
          <p:nvPr/>
        </p:nvSpPr>
        <p:spPr>
          <a:xfrm>
            <a:off x="1949760" y="359100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0"/>
          <p:cNvSpPr/>
          <p:nvPr/>
        </p:nvSpPr>
        <p:spPr>
          <a:xfrm>
            <a:off x="3903120" y="36100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-HEVC simul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1"/>
          <p:cNvSpPr/>
          <p:nvPr/>
        </p:nvSpPr>
        <p:spPr>
          <a:xfrm>
            <a:off x="6302520" y="361944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VC + MV-HE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2"/>
          <p:cNvSpPr/>
          <p:nvPr/>
        </p:nvSpPr>
        <p:spPr>
          <a:xfrm>
            <a:off x="691920" y="286704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3"/>
          <p:cNvSpPr/>
          <p:nvPr/>
        </p:nvSpPr>
        <p:spPr>
          <a:xfrm>
            <a:off x="691560" y="20541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 sequen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0960" indent="-210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and right views of MV-HEVC test sequences are used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16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16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0 and D1 have the same resolution (i.e. SNR scal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QP for the view pictures at the same D la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16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0 (i.e. D0V0 and D0V1) is coded using QP = 26, 30. 34 and 3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16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ta QP for D1 (i.e. D1V0 and D1V1) is set to -4 and -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D532-08E7-4FDF-BCBA-5C80B7F10C1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82600" y="1763640"/>
          <a:ext cx="6637320" cy="2827440"/>
        </p:xfrm>
        <a:graphic>
          <a:graphicData uri="http://schemas.openxmlformats.org/drawingml/2006/table">
            <a:tbl>
              <a:tblPr/>
              <a:tblGrid>
                <a:gridCol w="317520"/>
                <a:gridCol w="2790720"/>
                <a:gridCol w="2874960"/>
                <a:gridCol w="654120"/>
              </a:tblGrid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ra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allon_1024x768_1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allon_1024x768_5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ancer_c_1_1920x1088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ancer_c_9_1920x1088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T_Fly_c_1_1920x1088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GT_Fly_c_9_1920x1088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kendo_1024x768_1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Kendo_1024x768_5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ewspaper_R_1024x768_2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ewspaper_R_1024x768_6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oznan_Hall2_1920x1088_depth_cam05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oznan_Hall2_1920x1088_depth_cam07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oznan_Street_1920x1088_depth_cam03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oznan_Street_1920x1088_depth_cam05.yu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3480" indent="-2134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000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SHM-1.0 tools (inter-layer texture prediction and motion predictions) are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00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view prediction based on HTM-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00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fIdx approach, inter-layer reference is added before inter-view reference in reference pictur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000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s evaluated in terms of ‘BL_D + EL_D’ BD-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00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rate and PSNR of BL_D (dependency base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2440" indent="-154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ra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L_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Bitra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0V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itra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0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2440" indent="-154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N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L_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PSN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0V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PSN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0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00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rate and PSNR of EL_D (dependency enhancemen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2440" indent="-15480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ra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L_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Bitra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1V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itra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1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2440" indent="-15480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N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L_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PSN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1V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PSN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1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000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DA5C-3B77-4D56-9F06-81456E43A37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ulcast vs. TextureRL SHVC + MV-HEV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33000" y="1185480"/>
            <a:ext cx="834876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view and Inter-layer predictions improve average BD-rate by 40.5% ~ 18.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2B6F-2D99-4A2E-AB68-25BC372134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878040" y="2095560"/>
            <a:ext cx="1827000" cy="1628640"/>
            <a:chOff x="878040" y="2095560"/>
            <a:chExt cx="1827000" cy="1628640"/>
          </a:xfrm>
        </p:grpSpPr>
        <p:sp>
          <p:nvSpPr>
            <p:cNvPr id="284" name="Rectangle 4"/>
            <p:cNvSpPr/>
            <p:nvPr/>
          </p:nvSpPr>
          <p:spPr>
            <a:xfrm>
              <a:off x="1180800" y="291852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2095560" y="291852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1180800" y="209556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2095560" y="209556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0"/>
            <p:cNvSpPr/>
            <p:nvPr/>
          </p:nvSpPr>
          <p:spPr>
            <a:xfrm>
              <a:off x="1334880" y="34779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2249280" y="34779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878040" y="30798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878040" y="226008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4"/>
            <p:cNvSpPr/>
            <p:nvPr/>
          </p:nvSpPr>
          <p:spPr>
            <a:xfrm>
              <a:off x="1260720" y="30952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5"/>
            <p:cNvSpPr/>
            <p:nvPr/>
          </p:nvSpPr>
          <p:spPr>
            <a:xfrm>
              <a:off x="1260720" y="22600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6"/>
            <p:cNvSpPr/>
            <p:nvPr/>
          </p:nvSpPr>
          <p:spPr>
            <a:xfrm>
              <a:off x="2175480" y="22600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7"/>
            <p:cNvSpPr/>
            <p:nvPr/>
          </p:nvSpPr>
          <p:spPr>
            <a:xfrm>
              <a:off x="2175480" y="30834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878040" y="4248000"/>
            <a:ext cx="1827000" cy="1628640"/>
            <a:chOff x="878040" y="4248000"/>
            <a:chExt cx="1827000" cy="1628640"/>
          </a:xfrm>
        </p:grpSpPr>
        <p:sp>
          <p:nvSpPr>
            <p:cNvPr id="297" name="Rectangle 32"/>
            <p:cNvSpPr/>
            <p:nvPr/>
          </p:nvSpPr>
          <p:spPr>
            <a:xfrm>
              <a:off x="1180800" y="507096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2095560" y="507096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1180800" y="424800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2095560" y="424800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6"/>
            <p:cNvSpPr/>
            <p:nvPr/>
          </p:nvSpPr>
          <p:spPr>
            <a:xfrm>
              <a:off x="1334880" y="563040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2249280" y="563040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8"/>
            <p:cNvSpPr/>
            <p:nvPr/>
          </p:nvSpPr>
          <p:spPr>
            <a:xfrm>
              <a:off x="878040" y="52322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9"/>
            <p:cNvSpPr/>
            <p:nvPr/>
          </p:nvSpPr>
          <p:spPr>
            <a:xfrm>
              <a:off x="878040" y="4412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0"/>
            <p:cNvSpPr/>
            <p:nvPr/>
          </p:nvSpPr>
          <p:spPr>
            <a:xfrm>
              <a:off x="1260720" y="52477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41"/>
            <p:cNvSpPr/>
            <p:nvPr/>
          </p:nvSpPr>
          <p:spPr>
            <a:xfrm>
              <a:off x="1260720" y="44125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2"/>
            <p:cNvSpPr/>
            <p:nvPr/>
          </p:nvSpPr>
          <p:spPr>
            <a:xfrm>
              <a:off x="2175480" y="44125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3"/>
            <p:cNvSpPr/>
            <p:nvPr/>
          </p:nvSpPr>
          <p:spPr>
            <a:xfrm>
              <a:off x="2175480" y="523584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AutoShape 44"/>
            <p:cNvCxnSpPr>
              <a:stCxn id="298" idx="1"/>
              <a:endCxn id="297" idx="3"/>
            </p:cNvCxnSpPr>
            <p:nvPr/>
          </p:nvCxnSpPr>
          <p:spPr>
            <a:xfrm flipH="1" flipV="1">
              <a:off x="1790280" y="535860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310" name="AutoShape 45"/>
            <p:cNvCxnSpPr>
              <a:stCxn id="300" idx="1"/>
              <a:endCxn id="299" idx="3"/>
            </p:cNvCxnSpPr>
            <p:nvPr/>
          </p:nvCxnSpPr>
          <p:spPr>
            <a:xfrm flipH="1" flipV="1">
              <a:off x="1790280" y="453528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311" name="AutoShape 46"/>
            <p:cNvCxnSpPr>
              <a:stCxn id="297" idx="0"/>
              <a:endCxn id="299" idx="2"/>
            </p:cNvCxnSpPr>
            <p:nvPr/>
          </p:nvCxnSpPr>
          <p:spPr>
            <a:xfrm flipV="1">
              <a:off x="1485360" y="4824000"/>
              <a:ext cx="1080" cy="247320"/>
            </a:xfrm>
            <a:prstGeom prst="straightConnector1">
              <a:avLst/>
            </a:prstGeom>
            <a:ln w="9360">
              <a:solidFill>
                <a:srgbClr val="3366ff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12" name="AutoShape 47"/>
            <p:cNvCxnSpPr>
              <a:stCxn id="298" idx="0"/>
              <a:endCxn id="300" idx="2"/>
            </p:cNvCxnSpPr>
            <p:nvPr/>
          </p:nvCxnSpPr>
          <p:spPr>
            <a:xfrm flipV="1">
              <a:off x="2400120" y="4824000"/>
              <a:ext cx="1080" cy="247320"/>
            </a:xfrm>
            <a:prstGeom prst="straightConnector1">
              <a:avLst/>
            </a:prstGeom>
            <a:ln w="9360">
              <a:solidFill>
                <a:srgbClr val="3366ff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313" name="TextBox 34"/>
          <p:cNvSpPr/>
          <p:nvPr/>
        </p:nvSpPr>
        <p:spPr>
          <a:xfrm>
            <a:off x="1499760" y="372420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5"/>
          <p:cNvSpPr/>
          <p:nvPr/>
        </p:nvSpPr>
        <p:spPr>
          <a:xfrm>
            <a:off x="1165320" y="589608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VC + MV-HE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3354480" y="2146320"/>
            <a:ext cx="4687920" cy="35780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37"/>
          <p:cNvSpPr/>
          <p:nvPr/>
        </p:nvSpPr>
        <p:spPr>
          <a:xfrm>
            <a:off x="363960" y="306216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8"/>
          <p:cNvSpPr/>
          <p:nvPr/>
        </p:nvSpPr>
        <p:spPr>
          <a:xfrm>
            <a:off x="363600" y="22496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9"/>
          <p:cNvSpPr/>
          <p:nvPr/>
        </p:nvSpPr>
        <p:spPr>
          <a:xfrm>
            <a:off x="363960" y="521964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0"/>
          <p:cNvSpPr/>
          <p:nvPr/>
        </p:nvSpPr>
        <p:spPr>
          <a:xfrm>
            <a:off x="363600" y="4406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67564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V-HEVC Simulcast vs. TextureRL SHVC + MV-HEVC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layer prediction improves average BD-rate by 24.7% ~ 10.7% on top of inter-view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CAA9-8F38-4EB7-A3B5-939384739D6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9"/>
          <p:cNvGrpSpPr/>
          <p:nvPr/>
        </p:nvGrpSpPr>
        <p:grpSpPr>
          <a:xfrm>
            <a:off x="878040" y="4248000"/>
            <a:ext cx="1827000" cy="1628640"/>
            <a:chOff x="878040" y="4248000"/>
            <a:chExt cx="1827000" cy="1628640"/>
          </a:xfrm>
        </p:grpSpPr>
        <p:sp>
          <p:nvSpPr>
            <p:cNvPr id="324" name="Rectangle 32"/>
            <p:cNvSpPr/>
            <p:nvPr/>
          </p:nvSpPr>
          <p:spPr>
            <a:xfrm>
              <a:off x="1180800" y="507096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3"/>
            <p:cNvSpPr/>
            <p:nvPr/>
          </p:nvSpPr>
          <p:spPr>
            <a:xfrm>
              <a:off x="2095560" y="507096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4"/>
            <p:cNvSpPr/>
            <p:nvPr/>
          </p:nvSpPr>
          <p:spPr>
            <a:xfrm>
              <a:off x="1180800" y="424800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5"/>
            <p:cNvSpPr/>
            <p:nvPr/>
          </p:nvSpPr>
          <p:spPr>
            <a:xfrm>
              <a:off x="2095560" y="424800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6"/>
            <p:cNvSpPr/>
            <p:nvPr/>
          </p:nvSpPr>
          <p:spPr>
            <a:xfrm>
              <a:off x="1334880" y="563040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7"/>
            <p:cNvSpPr/>
            <p:nvPr/>
          </p:nvSpPr>
          <p:spPr>
            <a:xfrm>
              <a:off x="2249280" y="563040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8"/>
            <p:cNvSpPr/>
            <p:nvPr/>
          </p:nvSpPr>
          <p:spPr>
            <a:xfrm>
              <a:off x="878040" y="52322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9"/>
            <p:cNvSpPr/>
            <p:nvPr/>
          </p:nvSpPr>
          <p:spPr>
            <a:xfrm>
              <a:off x="878040" y="4412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40"/>
            <p:cNvSpPr/>
            <p:nvPr/>
          </p:nvSpPr>
          <p:spPr>
            <a:xfrm>
              <a:off x="1260720" y="52477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41"/>
            <p:cNvSpPr/>
            <p:nvPr/>
          </p:nvSpPr>
          <p:spPr>
            <a:xfrm>
              <a:off x="1260720" y="44125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42"/>
            <p:cNvSpPr/>
            <p:nvPr/>
          </p:nvSpPr>
          <p:spPr>
            <a:xfrm>
              <a:off x="2175480" y="44125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43"/>
            <p:cNvSpPr/>
            <p:nvPr/>
          </p:nvSpPr>
          <p:spPr>
            <a:xfrm>
              <a:off x="2175480" y="523584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AutoShape 44"/>
            <p:cNvCxnSpPr>
              <a:stCxn id="325" idx="1"/>
              <a:endCxn id="324" idx="3"/>
            </p:cNvCxnSpPr>
            <p:nvPr/>
          </p:nvCxnSpPr>
          <p:spPr>
            <a:xfrm flipH="1" flipV="1">
              <a:off x="1790280" y="535860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337" name="AutoShape 45"/>
            <p:cNvCxnSpPr>
              <a:stCxn id="327" idx="1"/>
              <a:endCxn id="326" idx="3"/>
            </p:cNvCxnSpPr>
            <p:nvPr/>
          </p:nvCxnSpPr>
          <p:spPr>
            <a:xfrm flipH="1" flipV="1">
              <a:off x="1790280" y="453528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338" name="AutoShape 46"/>
            <p:cNvCxnSpPr>
              <a:stCxn id="324" idx="0"/>
              <a:endCxn id="326" idx="2"/>
            </p:cNvCxnSpPr>
            <p:nvPr/>
          </p:nvCxnSpPr>
          <p:spPr>
            <a:xfrm flipV="1">
              <a:off x="1485360" y="4824000"/>
              <a:ext cx="1080" cy="247320"/>
            </a:xfrm>
            <a:prstGeom prst="straightConnector1">
              <a:avLst/>
            </a:prstGeom>
            <a:ln w="9360">
              <a:solidFill>
                <a:srgbClr val="3366ff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39" name="AutoShape 47"/>
            <p:cNvCxnSpPr>
              <a:stCxn id="325" idx="0"/>
              <a:endCxn id="327" idx="2"/>
            </p:cNvCxnSpPr>
            <p:nvPr/>
          </p:nvCxnSpPr>
          <p:spPr>
            <a:xfrm flipV="1">
              <a:off x="2400120" y="4824000"/>
              <a:ext cx="1080" cy="247320"/>
            </a:xfrm>
            <a:prstGeom prst="straightConnector1">
              <a:avLst/>
            </a:prstGeom>
            <a:ln w="9360">
              <a:solidFill>
                <a:srgbClr val="3366ff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340" name="TextBox 67"/>
          <p:cNvSpPr/>
          <p:nvPr/>
        </p:nvSpPr>
        <p:spPr>
          <a:xfrm>
            <a:off x="1165320" y="589608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VC + MV-HE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68"/>
          <p:cNvGrpSpPr/>
          <p:nvPr/>
        </p:nvGrpSpPr>
        <p:grpSpPr>
          <a:xfrm>
            <a:off x="874800" y="2090880"/>
            <a:ext cx="1827000" cy="1628280"/>
            <a:chOff x="874800" y="2090880"/>
            <a:chExt cx="1827000" cy="1628280"/>
          </a:xfrm>
        </p:grpSpPr>
        <p:sp>
          <p:nvSpPr>
            <p:cNvPr id="342" name="Rectangle 69"/>
            <p:cNvSpPr/>
            <p:nvPr/>
          </p:nvSpPr>
          <p:spPr>
            <a:xfrm>
              <a:off x="1177560" y="291384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70"/>
            <p:cNvSpPr/>
            <p:nvPr/>
          </p:nvSpPr>
          <p:spPr>
            <a:xfrm>
              <a:off x="2092320" y="291384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71"/>
            <p:cNvSpPr/>
            <p:nvPr/>
          </p:nvSpPr>
          <p:spPr>
            <a:xfrm>
              <a:off x="1177560" y="209088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72"/>
            <p:cNvSpPr/>
            <p:nvPr/>
          </p:nvSpPr>
          <p:spPr>
            <a:xfrm>
              <a:off x="2092320" y="2090880"/>
              <a:ext cx="60948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22"/>
            <p:cNvSpPr/>
            <p:nvPr/>
          </p:nvSpPr>
          <p:spPr>
            <a:xfrm>
              <a:off x="1331640" y="34729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3"/>
            <p:cNvSpPr/>
            <p:nvPr/>
          </p:nvSpPr>
          <p:spPr>
            <a:xfrm>
              <a:off x="2246040" y="34729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4"/>
            <p:cNvSpPr/>
            <p:nvPr/>
          </p:nvSpPr>
          <p:spPr>
            <a:xfrm>
              <a:off x="874800" y="30751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5"/>
            <p:cNvSpPr/>
            <p:nvPr/>
          </p:nvSpPr>
          <p:spPr>
            <a:xfrm>
              <a:off x="874800" y="22554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6"/>
            <p:cNvSpPr/>
            <p:nvPr/>
          </p:nvSpPr>
          <p:spPr>
            <a:xfrm>
              <a:off x="1257480" y="30906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7"/>
            <p:cNvSpPr/>
            <p:nvPr/>
          </p:nvSpPr>
          <p:spPr>
            <a:xfrm>
              <a:off x="1257480" y="22554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8"/>
            <p:cNvSpPr/>
            <p:nvPr/>
          </p:nvSpPr>
          <p:spPr>
            <a:xfrm>
              <a:off x="2172240" y="22554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29"/>
            <p:cNvSpPr/>
            <p:nvPr/>
          </p:nvSpPr>
          <p:spPr>
            <a:xfrm>
              <a:off x="2172240" y="307836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0V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AutoShape 30"/>
            <p:cNvCxnSpPr>
              <a:stCxn id="343" idx="1"/>
              <a:endCxn id="342" idx="3"/>
            </p:cNvCxnSpPr>
            <p:nvPr/>
          </p:nvCxnSpPr>
          <p:spPr>
            <a:xfrm flipH="1" flipV="1">
              <a:off x="1787040" y="320112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355" name="AutoShape 31"/>
            <p:cNvCxnSpPr>
              <a:stCxn id="345" idx="1"/>
              <a:endCxn id="344" idx="3"/>
            </p:cNvCxnSpPr>
            <p:nvPr/>
          </p:nvCxnSpPr>
          <p:spPr>
            <a:xfrm flipH="1" flipV="1">
              <a:off x="1787040" y="2378160"/>
              <a:ext cx="3052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</p:cxnSp>
      </p:grpSp>
      <p:sp>
        <p:nvSpPr>
          <p:cNvPr id="356" name="TextBox 83"/>
          <p:cNvSpPr/>
          <p:nvPr/>
        </p:nvSpPr>
        <p:spPr>
          <a:xfrm>
            <a:off x="1118520" y="369252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-HEVC simul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357720" y="2149560"/>
            <a:ext cx="4684680" cy="35748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9"/>
          <p:cNvSpPr/>
          <p:nvPr/>
        </p:nvSpPr>
        <p:spPr>
          <a:xfrm>
            <a:off x="363960" y="306216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0"/>
          <p:cNvSpPr/>
          <p:nvPr/>
        </p:nvSpPr>
        <p:spPr>
          <a:xfrm>
            <a:off x="363600" y="22496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1"/>
          <p:cNvSpPr/>
          <p:nvPr/>
        </p:nvSpPr>
        <p:spPr>
          <a:xfrm>
            <a:off x="363960" y="521964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2"/>
          <p:cNvSpPr/>
          <p:nvPr/>
        </p:nvSpPr>
        <p:spPr>
          <a:xfrm>
            <a:off x="363600" y="4406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_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67564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xtureRL vs. RefIdx for SHVC + MV-HEVC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ared to RefIdx approach, TextureRL approach improves BD-rate gain by 0.4% ~ 2.0% for multi-view SNR scalable 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33A-9630-4C68-BEA7-59049FD150D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tretch/>
        </p:blipFill>
        <p:spPr>
          <a:xfrm>
            <a:off x="2046240" y="1932120"/>
            <a:ext cx="471492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ter-view prediction is implemented on top of SHM-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erformances of inter-layer prediction are evaluated for multi-view SNR scalable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ter-layer and inter-view predictions impr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BD-rate by 40.5% ~ 18.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ter-layer predi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average BD-rate by 24.7% ~ 10.7% on top of inter-view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ureRL outperforms RefIdx by 0.4% ~ 2.0% in multi-view SNR scalable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t is recommended to evaluate TextureRL and RefIdx approaches in SHVC + MV-HEVC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E17A-BC6D-48F3-B512-82B8B8954FF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4-24T08:16:38Z</dcterms:modified>
  <cp:revision>197</cp:revision>
  <dc:subject/>
  <dc:title>Presentation Title Here</dc:title>
</cp:coreProperties>
</file>