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2DCD-724F-4F76-BD64-3C026F8E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725-C28F-48DB-8355-6B6CCC97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FD63-1EE7-43E0-AD38-DE0DEA119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0DD0-1135-4776-AF9D-8179ADADD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6A60-1550-4E48-ABAC-6A2C65ADF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C48D-5C91-463C-A666-224F11F64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0D2C-AF43-46B0-8533-254F7D5BA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93F7-B39F-422D-AB4F-9AAA9359B6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222B-FE61-4FE4-8159-390124D529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8716-6F67-472B-B3FD-704DAC0817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8240-B8E8-49C6-AA72-2C76F37A46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9DD4-77A9-446F-A58D-50DE8A5B3B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F2C70-71A4-458C-B473-8672776A28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4849-F6E4-423E-AB95-5B918527C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C519-39FB-4B08-8AFB-6F85EBC2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B168-7B48-4082-8AC0-6D30506FA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9A9F-5986-4551-AA73-F81C8C6C6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01F5-594E-4CB2-A786-8DF6388A72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5F2A-84E2-455B-B5A3-A95B511671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E6FB-9359-4330-BADF-936A28CC2E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8DF-4D59-4395-A06E-04A86EF74D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F4C-1BEF-47F2-826B-FC251BD026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092-156C-4210-8605-CADEE6E916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88E-DADB-47B4-B93A-ADCB6C8A17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A60-E42B-496D-BE62-431EBF9C6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B78A-A816-4017-A061-DCD91870F1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614-FEDB-4B3E-B84E-D7BBDB56CD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73B-87E8-4DFB-99D5-35915D2DF9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8AF-EBFF-4FA7-9078-06382713FE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E97-FB5C-415E-B19D-C630924D67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B22-9774-4051-BC50-A1FBFF22F8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1FA-D070-4EF8-8C9C-853C468933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ACD-3785-4769-B7D9-0C215D4CAC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720FC-D113-4394-AEAD-C656F959BD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2D6B-5C88-4F97-AB62-E7143B3BDB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F4E9D-1BFB-4718-BEFE-857C2A6C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6F23-DADD-4267-BFC9-27E04341A2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E12D-14F2-4BC3-B18F-A833A53F34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76894-BC77-43CD-9CC3-EE387A8B1A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6E70C-D601-4661-B252-4C4C87B77D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72B57-F3E8-424F-9604-45368335D4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638FF-7EF9-466F-8E84-45DD4569C3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EF3B4-FECF-4490-972E-7C4FDFC9A5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61A23-25D3-489F-831C-11FE5FCC31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4F27-9A9E-4D6A-86CB-76C73C3394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A50AB-CC9C-4D00-9C29-8B7C7AC8C9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FF7F1-5CF7-4D74-88FE-30E72E25B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83C3-3B05-4389-B77E-DAF7F09E23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8087-1D32-4688-A925-75F71E2B0A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16CB3-55FB-4603-A44D-A2F13E81D0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E72C3-67E5-40C4-B863-D8701D8E6D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877C1-F886-4265-8963-4F7EB16658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2E860-7152-4F07-B64D-CD9B2C7C32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0580-132B-473E-A2D5-9A18B5D739A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0B1DE-454B-4BA0-B001-9F384881DE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50387-BA6F-4E2D-B041-F453FE3F58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B54C-27A6-4C63-92FE-6174F21F24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2274-10A1-41F2-8009-6C9EB7EE9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73BE-17A9-477D-BCF1-04F88B63AA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D2236-671D-4CF9-A5C3-1D0CBB0FD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4986-9325-4AF2-AE72-EC07FA795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7B42-F9A0-40A1-ADC7-B24D623F7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0AA5-F24C-4FCB-A48D-85361D81B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E2D-A5E0-4D98-B81D-307DC27508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7B3F-7FB1-435F-A7A3-452644468B5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7047-38DE-4F5B-BBAB-DA0F22D6A2F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0079-BEDC-4494-A6E7-348BACD6A3B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998-17D1-4DA0-A0FC-E1D2DB4E208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80C1-E198-47FD-B5A5-4E3D6BCD5C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20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Non-SCE3: Uni-directional combined prediction (UCP) in Inter sli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C9FC-41C4-4B17-A11D-618208AE669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147320"/>
            <a:ext cx="84391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ombined prediction (CP) provides additional coding gain for EL at the increased memory bandwidth and computations due to combination of up to 3 samples (L0, L1 and B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 this contribution, uni-directional CP (UCP) is proposed to keep the worst-case memory bandwidth and computation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isable combined prediction for bi-predicted 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isable combined prediction for PU smaller than 8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aBL approach with UCP is fairly compared with RefIdx approach for RA and LD-B in terms of worst-case memory bandwidth and comp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CP is combined with SCE2 tools (PU level inter-layer prediction) and compared with RefIdx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7160"/>
            <a:ext cx="5121360" cy="496872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27BC-CB13-4F1B-A973-7058169D32B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5438880" y="1185840"/>
            <a:ext cx="323856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d_pred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signaled for a CU whose PU partition is larger than or equal to 8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pass combined prediction for bi-predicted 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ed prediction is applied to all color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CP vs. SHM-1.0 IntraBL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3360" y="10044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A and LD-B, improves average luma BD-rate by 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CE0-0BD1-4648-9D67-1B4722F25A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762200" y="1817640"/>
            <a:ext cx="54198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CP vs. SHM-1.0 IntraBL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71160" y="1042560"/>
            <a:ext cx="846756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5547-2438-476F-8C77-4DC120E4AC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409760" y="1646280"/>
          <a:ext cx="6372000" cy="3944880"/>
        </p:xfrm>
        <a:graphic>
          <a:graphicData uri="http://schemas.openxmlformats.org/drawingml/2006/table">
            <a:tbl>
              <a:tblPr/>
              <a:tblGrid>
                <a:gridCol w="658800"/>
                <a:gridCol w="380880"/>
                <a:gridCol w="419040"/>
                <a:gridCol w="352440"/>
                <a:gridCol w="400320"/>
                <a:gridCol w="380880"/>
                <a:gridCol w="417600"/>
                <a:gridCol w="380880"/>
                <a:gridCol w="380880"/>
                <a:gridCol w="408240"/>
                <a:gridCol w="409320"/>
                <a:gridCol w="343080"/>
                <a:gridCol w="344520"/>
                <a:gridCol w="352440"/>
                <a:gridCol w="390600"/>
                <a:gridCol w="352080"/>
              </a:tblGrid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2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1.5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S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P HEVC 2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P HEVC 1.5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P HEVC S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_B HEVC 2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 HEVC 1.5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 HEVC S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CP + SCE2 vs. SHM-1.0 RefIdx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33360" y="10522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sults for RA and LD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mpared to RefIdx anchor, UCP + SCE2 improves average BD-rate by 1.0%, 0.5% and 0.4% for Y, Cb and Cr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84CA-F65A-49F4-A207-4ADB537221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824040" y="2290680"/>
            <a:ext cx="7570800" cy="1685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833400" y="4157640"/>
            <a:ext cx="7570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CP + SCE2 vs. SHM-1.0 RefIdx anchor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3360" y="104256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1D74-9464-4443-AAE9-28967C3267D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38400" y="1879560"/>
          <a:ext cx="6505560" cy="1330200"/>
        </p:xfrm>
        <a:graphic>
          <a:graphicData uri="http://schemas.openxmlformats.org/drawingml/2006/table">
            <a:tbl>
              <a:tblPr/>
              <a:tblGrid>
                <a:gridCol w="672840"/>
                <a:gridCol w="389160"/>
                <a:gridCol w="426960"/>
                <a:gridCol w="360360"/>
                <a:gridCol w="407880"/>
                <a:gridCol w="389160"/>
                <a:gridCol w="425160"/>
                <a:gridCol w="389160"/>
                <a:gridCol w="388800"/>
                <a:gridCol w="417600"/>
                <a:gridCol w="417600"/>
                <a:gridCol w="350640"/>
                <a:gridCol w="351000"/>
                <a:gridCol w="360360"/>
                <a:gridCol w="398520"/>
                <a:gridCol w="360360"/>
              </a:tblGrid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2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1.5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EVC S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238400" y="3470400"/>
          <a:ext cx="6505560" cy="1330200"/>
        </p:xfrm>
        <a:graphic>
          <a:graphicData uri="http://schemas.openxmlformats.org/drawingml/2006/table">
            <a:tbl>
              <a:tblPr/>
              <a:tblGrid>
                <a:gridCol w="672840"/>
                <a:gridCol w="389160"/>
                <a:gridCol w="426960"/>
                <a:gridCol w="360360"/>
                <a:gridCol w="407880"/>
                <a:gridCol w="389160"/>
                <a:gridCol w="425160"/>
                <a:gridCol w="389160"/>
                <a:gridCol w="388800"/>
                <a:gridCol w="417600"/>
                <a:gridCol w="417600"/>
                <a:gridCol w="350640"/>
                <a:gridCol w="351000"/>
                <a:gridCol w="360360"/>
                <a:gridCol w="398520"/>
                <a:gridCol w="360360"/>
              </a:tblGrid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_B HEVC 2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 HEVC 1.5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B HEVC SN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b/8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256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b/512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ni-directional CP (UCP) was proposed to keep the worst-case memory bandwidth and computation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isable combined prediction for bi-predicted 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isable combined prediction for PU smaller than 8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For RA and LD-B, UCP improves average luma BD-rate by 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hen UCP is combined with PU-level inter-layer prediction (SCE2 tools), IntraBL approach provide 1.0% more luma BD-rate gain when compared to RefIdx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3F7-48BA-46C1-AC7D-2155207C78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18T01:08:02Z</dcterms:modified>
  <cp:revision>200</cp:revision>
  <dc:subject/>
  <dc:title>Presentation Title Here</dc:title>
</cp:coreProperties>
</file>