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6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8"/>
          </p:nvPr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DFD3-029F-4C7B-9E0D-FB6768B98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A72A-502B-4FCB-8968-AB8100059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0142-85D7-45B8-96D6-63851D60C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2FC70-16B8-4F66-BB35-27B1CAE6B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3FBA-0DAA-4DE1-A76F-8A144AB31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92DB5-5497-4A71-83E2-8B94A44C7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9B64D-69A9-481A-A5B6-7F47C057A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89964-1EFA-4BEC-8120-C4E870D649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CF3D9-5D6E-4EBF-AD1D-BAC5171051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0165B-8B30-4121-9E77-007B71ED31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9A0B9-A7B5-4BC0-8C2A-0F179340A0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1F7A2-8617-4760-A644-0C5AA92D52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57A74-FC36-4861-8FDC-9B64BD5847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DEF54-562E-4B68-BF83-2EF044378C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A6ABF-C482-4B96-85A7-AA12EFD51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96CDD-244E-4D0C-A099-1DA4E9DF94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31F31-B39E-4F21-B082-873CD32942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3A55A-B365-457A-BBD3-9AEC799434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F6576-0264-4035-9ACE-BDEB1E08AC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F1A7-772D-4335-B03B-040584F9B7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476E-53AE-41DE-BEE6-844807D9BE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75B8-C340-4629-84EA-A14A7434D8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7259-BE00-487D-A8F2-48A93E4A52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69EA-3D42-42D2-9300-7E04CCA69B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E17-A59B-4B32-9618-25738B4B88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2BC5-B34A-475B-A39E-8E0064B781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C58D-1EC2-4333-A54C-F707EBDC3C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32C-23C1-48A0-9929-EBC7DF3D6C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1C4-AF1E-410A-B8B2-37D67609F4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E902-733A-41CA-AC08-403AAFF04E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16F-8D58-4B93-B194-9FC8834C5C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5D4-555B-4AC0-850C-9C38AA1A5B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5AC-DFA7-4730-A5DE-9B7F30CBDD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3C234-0BAC-4981-B48F-8792DE400F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A1039-C2B4-406F-96EA-0C7F8B703CF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93691-8090-402F-A171-D03A0798A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1CCD-2E30-488C-A3C4-7FC6BDF123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DB18D-E464-4279-AAAE-1F74F598E2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D2AD0-747F-4736-9D74-A66EAF56500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25574-3D28-41ED-95AC-2745B16EE8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F537B-2510-4D8E-930A-D05376EEB0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98A07-72E1-4B59-A658-6F7EF60A42D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75CC3-4930-44EC-ACDF-DA17A9C416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8CB3A-7B01-4421-8B96-71AFC56308E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6D439-C6A8-43D8-8143-179BF636EAB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B4453-78BC-437D-8409-69ECEBDE0A2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7E3DC-AC49-4144-892A-D2F61AD9C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F59F-680B-4E08-82C6-848A5F23498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922CF-433E-4BAB-8413-C1AD09D3573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9C971-0115-453A-A048-6DEC7BDE900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20F4E-7FAB-45C2-B299-C8CE62D3F49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9F409-AEC7-47E5-A496-B1C6CE48E5B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A37B8-3BBD-4A81-B988-5F48CAEAF0C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886D5-E072-41E3-8B24-82681C6A0E1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3CFEC-8928-4642-AA6B-B4BF9837463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FCB32-E123-4EB1-8A82-A5A0FB3A5F6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9F4B0-D5AC-437D-9B1E-0AD5F667A38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7ABB3-1CA0-4898-8506-7959B034B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3D15-571F-4845-96D0-D94AB0685BA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A1A70-86F6-4576-807F-27CA40CC7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4873-7CEC-431E-912B-65479FBC1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A254-80D4-4F00-8392-EADD2FDF7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39BB-BF1F-4838-B470-F3046995F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D8E2-49D6-42A0-A88E-A15F9F0C3C2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0" descr="ti_stk_2c_pos_rgb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D4B2-4FD4-4648-9CA9-2776E7D5203F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26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9496-59BC-447E-B352-F467A10A3EF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4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277A-5B00-4E23-9B4F-32636E960A0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7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5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8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9" descr="ti_stk_2c_pos_rgb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4D12-FCED-43CE-9A04-D94C402053B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4"/>
          <p:cNvSpPr/>
          <p:nvPr/>
        </p:nvSpPr>
        <p:spPr>
          <a:xfrm>
            <a:off x="6642000" y="60390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4B9F-FFA6-4F31-81A1-C917B88844B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2720" y="1590840"/>
            <a:ext cx="8458200" cy="18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Gulim"/>
              </a:rPr>
              <a:t>JCTVC-M0219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Gulim"/>
              </a:rPr>
              <a:t>Reference-layer cropping offsets signaling in SHVC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71160" y="37843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Do-Kyoung Kwon and Madhukar Budag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C320-95A7-49AD-A452-B4CDB7D9CAA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Overview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33360" y="1042560"/>
            <a:ext cx="84391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JCTVC-L0178 proposed to use output ref layer picture for inter-layer prediction and signals syntax elements for scaled ref offset in 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f output ref layer picture is much smaller than coded ref layer picture, coding efficiency may de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his contribution proposes to signal ‘ref layer offsets’ (as well as ‘scaled ref layer offsets’) so that any ref layer picture area can be used for inter-layer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1879560" y="1789200"/>
            <a:ext cx="516888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posed syntax elements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5110-B9A3-4DA1-BFE0-48AE42E1380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4400640" y="1386720"/>
            <a:ext cx="4514760" cy="26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scaled_ref_layer_offset_fla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is equal to 0, all scaled ref layer offsets are inferred to be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바탕"/>
              </a:rPr>
              <a:t>ScaledRefLayerLeftOffse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바탕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바탕"/>
              </a:rPr>
              <a:t>= 2 * scaled_ref_layer_left_offs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바탕"/>
              </a:rPr>
              <a:t>ScaledRefLayerRightOffse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바탕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바탕"/>
              </a:rPr>
              <a:t>= 2 * scaled_ref_layer_right_offs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바탕"/>
              </a:rPr>
              <a:t>ScaledRefLayerTopOffse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바탕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바탕"/>
              </a:rPr>
              <a:t>= 2 * scaled_ref_layer_top_offs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바탕"/>
              </a:rPr>
              <a:t>ScaledRefLayerBottomOffse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바탕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바탕"/>
              </a:rPr>
              <a:t>= 2 * scaled_ref_layer_bottom_offs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ref_layer_offset_fla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is equal to 0, all ref layer offsets  are inferred to be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바탕"/>
              </a:rPr>
              <a:t>RefLayerLeftOffse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바탕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바탕"/>
              </a:rPr>
              <a:t>= 2 * ref_layer_left_offse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바탕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algun Gothic"/>
              </a:rPr>
              <a:t>RefLayerRightOffse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algun Gothic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algun Gothic"/>
              </a:rPr>
              <a:t>= 2 * ref_layer_right_offse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algun Gothic"/>
              </a:rPr>
              <a:t>RefLayerTopOffse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algun Gothic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algun Gothic"/>
              </a:rPr>
              <a:t>= 2 * ref_layer_top_offse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algun Gothic"/>
              </a:rPr>
              <a:t>RefLayerBottomOffse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algun Gothic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algun Gothic"/>
              </a:rPr>
              <a:t>= 2 * ref_layer_bottom_offs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Table 6" descr=""/>
          <p:cNvPicPr/>
          <p:nvPr/>
        </p:nvPicPr>
        <p:blipFill>
          <a:blip r:embed="rId1"/>
          <a:stretch/>
        </p:blipFill>
        <p:spPr>
          <a:xfrm>
            <a:off x="426960" y="1066680"/>
            <a:ext cx="38466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lications of the proposed offsets (1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33360" y="96660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ROI of ref layer picture can be used for inter-layer prediction and scaled to a whole enhancement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zero ref layer off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ro scaled ref layer off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ref layer picture (instead of coded ref layer picture) can be used for inter-layer prediction by signaling ref layer offsets same to output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ACBA-80E8-4CD5-BAFE-DFE61447BAE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1"/>
          <a:stretch/>
        </p:blipFill>
        <p:spPr>
          <a:xfrm>
            <a:off x="1460520" y="3286080"/>
            <a:ext cx="59817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lications of the proposed offsets (2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33360" y="966600"/>
            <a:ext cx="8467920" cy="51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ROI of ref layer picture can be used for inter-layer prediction and scaled to any area in enhancement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zero ref layer off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zero scaled ref layer off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166B-99D2-474E-B117-37866DC8001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209520" y="2637000"/>
            <a:ext cx="4656240" cy="2403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4940280" y="2670120"/>
            <a:ext cx="39085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Proposed to signal ‘ref layer offsets’ and ‘scaled ref layer offset’ in 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Any ROI of ref layer picture can be used for inter-layer prediction and can be mapped to any area in enhancement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When output ref layer picture is smaller than coded ref layer picture, possible coding efficiency improvement by utilizing larger area of ref layer picture for inter-layer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5C33-9382-46F8-9CB6-C3B65E755B9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/>
  <dc:description/>
  <dc:language>en-US</dc:language>
  <cp:lastModifiedBy>a0271391</cp:lastModifiedBy>
  <dcterms:modified xsi:type="dcterms:W3CDTF">2013-04-20T01:59:40Z</dcterms:modified>
  <cp:revision>194</cp:revision>
  <dc:subject/>
  <dc:title>Presentation Title Here</dc:title>
</cp:coreProperties>
</file>