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7741-D09B-49ED-844D-A53F04231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B3ED-A5F0-40F1-8F1C-FB823CDE6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8BAF-6650-45D1-A0C5-9CCF713F3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E661-E505-49DA-BEDD-2B6A7B995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CD03-1D32-4FFE-B8DB-C031DC540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B088-EDAC-42ED-8D26-E3E8D8E9B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B1A7-6315-45C6-8110-232F34C0C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2ED3-9315-40E4-B297-0374E500E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765E-19CD-4183-864B-CAAC024001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B0CDE-4449-40F8-B271-C58187F338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544F0-B654-45B3-A8B0-1AD62812DC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7BEF9-1D2C-4C48-B1F5-8DAFCD8CD5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2FBEC-D630-4C16-AE4A-4DA3BCC95E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611E-27AC-4FFB-82A4-FEDFA71F05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B0A1A-930E-4841-A0DB-099A25E404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3BF7-2D1E-4F5E-BF9F-76E1F312D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6B9DE-49DC-47B6-9DF9-EE798F2E10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63D63-9093-4AB7-9153-9BE652A9E0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9220-3132-4909-90E1-981C1E954E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B3732-E702-4C91-B6ED-58290B12BF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6D88-9C07-47D5-9419-52125A2D1A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7D5-7D67-4198-AC2F-4E08D0177D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7E9-4F83-4FE4-AAEC-1D58F84A0F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7D21-29E4-468C-B132-9EDAC81C1C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CE3-9F1C-4817-B1D0-B8FEE8AA66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AB5-FC4C-4CBD-AE35-24783F6F59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D514-8E59-4BE5-B096-ED733EACB9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B70-7170-41A4-AF8D-7E74088129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E37-FCE1-45FF-83C7-B295471FEA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0C9D-86EF-4ADA-9422-C247EFDA9C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459-A573-434B-8591-3B7BF1E36F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352-FBDD-40BD-BDB6-B40A189406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648-1DBD-479C-8CFA-200DAA6ABB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4EE0-AA57-4E15-B745-9456673836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B5F26-BF55-4B2B-ABEA-D852726882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4E03F-258A-4457-AC91-EEF9EE7620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1BE30-F62E-4209-A0A9-DF2A63927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8C0BD-3EE7-4FAA-AA1F-B1BB3A81DC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8D5F0-F928-49DB-961F-B2E5300969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5CBDD-4D46-43B7-8E0A-6D11A4C030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28A44-CDCC-425D-A0F8-CD38FC1B0F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463D2-86A5-419D-88E1-62916CC08C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E7391-C469-434B-BFC5-FAF0991390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2DC54-BDF0-466F-AB3B-BABDF4AD67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A7404-605D-4459-96E5-ABF559680D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745C7-C7E4-4826-9867-3A7B206E1B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35760-6626-4539-B5CF-2DFE37F2429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7EB8B-AAAE-4982-86F5-A96A63233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DE14-8E9F-4DC9-AFAB-FEF0A905838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C186D-B975-4E10-9136-B146A5FA7BD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FE788-5B6E-4DAD-956E-BC840CCDF3C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7FDCA-CA87-4EBF-9834-22E350F88D6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0C580-5E1C-4662-9043-1928BC27EB4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14FDC-9B62-455E-BB02-F788A725352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97053-1C90-4AC6-A7D1-E4953CA3D85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6BDE9-AB53-4F40-978A-1B720306123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035EE-FA9A-44A7-A1CB-CAC5192EE00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47A62-5C5A-4521-8C7A-3B7AC7D462C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E4742-023F-450A-B053-C8E0DB6BD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D39D-50C5-47F9-AC83-0F68093612C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E11A4-B372-43DA-811E-886E6B4F8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3B31-C993-4010-BD6D-CBCB0322C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C903-3282-4DA8-8EEC-EB3F1BFD0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3DB2-CBA8-4CFE-91A4-F99D14B8F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DD1B-D287-4E4A-B47A-8AE8281A7E9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0" descr="ti_stk_2c_pos_rgb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198E-9B64-4472-B034-E20D3BCA8EF0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13E4-ACB6-41C2-89F4-8C109FFAA8E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E44E-A6A1-4F40-A8CF-9C81F4B8EC2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7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5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9" descr="ti_stk_2c_pos_rgb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850E-509F-4702-ADDE-10D744869D7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4"/>
          <p:cNvSpPr/>
          <p:nvPr/>
        </p:nvSpPr>
        <p:spPr>
          <a:xfrm>
            <a:off x="6642000" y="60390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3B7C-0176-41BA-AEA6-AC9BD44E1AB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1590840"/>
            <a:ext cx="845820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Gulim"/>
              </a:rPr>
              <a:t>JCTVC-M0218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Gulim"/>
              </a:rPr>
              <a:t>Inter-layer slice header syntax elements prediction in SHVC and MV-HEVC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71160" y="37843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Do-Kyoung Kwon and Madhukar Budag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C0C3-5884-4BD8-9F87-566AD8B316B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Overview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3360" y="1042560"/>
            <a:ext cx="84391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 many scalable and multi-view applications, layers are coded using the same GOP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Pictures at the same temporal position have the same slice type and 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Same RPS can be used, and WP parameter could be sh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pose to signal in a slice header whether RPS and WP parameters are inferred from a reference layer or a reference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1459080" y="2424240"/>
            <a:ext cx="584676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Proposed syntax elements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3FA7-4707-4C19-AE08-EA4AD1DB49B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Table 8" descr=""/>
          <p:cNvPicPr/>
          <p:nvPr/>
        </p:nvPicPr>
        <p:blipFill>
          <a:blip r:embed="rId1"/>
          <a:stretch/>
        </p:blipFill>
        <p:spPr>
          <a:xfrm>
            <a:off x="2004840" y="963720"/>
            <a:ext cx="526752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posed syntax elements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872F-859D-4F38-ABC8-394A673C3A3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Table 6" descr=""/>
          <p:cNvPicPr/>
          <p:nvPr/>
        </p:nvPicPr>
        <p:blipFill>
          <a:blip r:embed="rId1"/>
          <a:stretch/>
        </p:blipFill>
        <p:spPr>
          <a:xfrm>
            <a:off x="1987560" y="792000"/>
            <a:ext cx="527832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r-layer RPS predict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_layer_rp_prediction_fl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qual to 1 specifies that reference picture lists are inferred from either scalable inter-layer reference picture or inter-view reference picture, and syntax elements related with reference picture set and reference picture list modification are not signaled. inter_layer_rp_prediction_flag equal to 0 specifies that syntax elements related with reference picture lists are explicitly signaled in a slice header. If not signaled, inter_layer_rp_prediction_flag is inferred to be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_layer_rp_prediction_flag is signaled only when either interDLayerPredFlag or interVLayerPredFlag, which specifies that inter-view prediction or scalable inter-layer prediction is enabled, is equal to 1. interDLayerPredFlag or interVLayerPredFlag can be signaled by several means such as scalability masks and explicit flags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p_prediction_from_dlayer_fl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qual to 1 specifies that reference picture lists are inferred from a scalable inter-layer reference picture. rp_prediction_from_dlayer_flag equal to 0 specifies that reference picture list is inferred from an inter-view reference picture with the closest viewId to the current viewId in the same scalable layer. If not signaled, rp_prediction_from_dlayer_flag is inferred to be 1 if inter_layer_rp_prediction_flag and interDLayerPredFlag are equal to 1. Otherwise, rp_prediction_from_dlayer_flag is inferred to be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450A-2A76-468E-8FAF-6505B0DAB11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r-layer WPP prediction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_layer_wpp_prediction_fl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qual to 1 specifies that WPP table is inferred from either scalable inter-layer reference picture or inter-view reference picture, and WPP table is not signaled. inter_layer_wpp_prediction_flag equal to 0 specifies that WPP table is explicitly signaled in a slice header. If not signaled, inter_layer_wpp_prediction_flag is inferred to be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_layer_wpp_prediction_flag is signaled only when either interDLayerPredFlag or interVLayerPredFlag, which specifies that inter-view prediction or scalable inter-layer prediction is enabled, is equal to 1. interDLayerPredFlag or interVLayerPredFlag can be signaled by several means such as scalability masks and explicit flags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pp_prediction_from_dlayer_fl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qual to 1 specifies that WPP table is inferred from a scalable inter-layer reference picture. wpp_prediction_from_dlayer_flag equal to 0 specifies that WPP table is inferred from an inter-view reference picture with the closest viewId to the current viewId in the same scalable layer. If not signaled, wpp_prediction_from_dlayer_flag is inferred to be 1 if inter_layer_wpp_prediction_flag and interDLayerPredFlag are equal to 1. Otherwise, wpp_prediction_from_dlayer_flag is inferred to be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C3D4-734F-4B2B-9AB6-10842CBC0A0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840F-D2D1-42A5-9A00-49672B82B45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33360" y="1109520"/>
            <a:ext cx="8467920" cy="46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Proposed to signal whether RPS and WP parameters are inferred from a reference layer or a reference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ter_layer_rp_prediction_flag and rp_prediction_from_dlayer_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ter_layer_wpp_prediction_flag and wpp_prediction_from_dlayer_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he proposed flags help reducing overhead signaling when scalable layers and views are coded using the same GOP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a0271391</cp:lastModifiedBy>
  <dcterms:modified xsi:type="dcterms:W3CDTF">2013-04-17T21:36:55Z</dcterms:modified>
  <cp:revision>147</cp:revision>
  <dc:subject/>
  <dc:title>Presentation Title Here</dc:title>
</cp:coreProperties>
</file>