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9372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dt" idx="6"/>
          </p:nvPr>
        </p:nvSpPr>
        <p:spPr>
          <a:xfrm>
            <a:off x="392904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160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ftr" idx="7"/>
          </p:nvPr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 type="sldNum" idx="8"/>
          </p:nvPr>
        </p:nvSpPr>
        <p:spPr>
          <a:xfrm>
            <a:off x="392904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24658-5E44-4D74-BB7D-A428694A5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929040" y="87580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F1B9E-74C9-4A8C-A5CF-E6FBC02E9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1600" cy="34574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929040" y="87580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3FA7E-FD76-4561-8597-A480FB4D6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1600" cy="34574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929040" y="87580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C6469-03AF-4C61-8589-3A2EC48DA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1600" cy="34574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929040" y="87580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C2B5A-082C-42E0-A883-694E684BB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1600" cy="34574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929040" y="87580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193B6-DF65-42AE-94D3-FE6ACE916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1600" cy="34574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450DD-3970-4E32-BE66-5AF68ED420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862D9-D755-453F-8BEA-8D0D5CDA1A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4459B-7A64-470E-91FA-224D71FE44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213C3-67B2-470F-AEFF-8CAA59A4C6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D5FA0-61C0-454B-BAC5-FB91AC51B79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059E8-C936-4A03-BAD0-CBB3EA1CD14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06AE6-3385-468F-B1FA-68440A27F7D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9DD38-2908-4A36-AEFC-2C808EF95EF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8C017-AD5D-452E-BA3C-B37F00A431C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897AD-9494-462C-8B13-DFE78660E1E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3C074-438D-473D-8D65-FB46BA33DE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F79DE-04E4-4350-9176-496C593691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B7400-2E73-459F-A94A-1013F2D37BE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EE468-3E3A-4B55-8855-ED4D64F9677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48221-7CC8-462C-8619-69404EFC696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F282F-E5A0-47A2-A332-BB63F24D34D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A6017-1AA4-431D-AAEA-8B38670FEE1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0245-6B70-495A-8F7B-DABB225D0F2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BFDE-F999-483B-94F2-E95432EE3EC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178C-2804-4807-BD1A-9DBB26A266E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D325-085B-477B-AD5A-AE9401AD889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EA7B-C999-4DA0-A242-A7E5112B25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B5F13-42B6-45C8-9E6A-4AD3F98D804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5615-474D-4205-8F89-60BE4AE8101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BAE1-03C4-4F32-8FF1-4A7FF0D6C07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CF65-5223-45C7-8843-BFEC534FD58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7124-B863-47FF-B4D0-7C79AC3D4E4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AC58-3EF4-4C22-B487-F611467AD31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E95B-04A0-4A76-8B21-13E2C2740A8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205E-EEB8-44D5-8CCE-AAF6B99379A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F66811-C127-4243-A900-C9B642AFC18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2A2FE5-BC4F-494D-B79A-578683782D4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79F072-B03D-413C-8B2F-6D2B72DF96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883C6-9476-455D-A60D-F2904B07284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3A86D4-4C93-40EB-8F96-6037679630A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D2B5F6-F9DC-488C-8032-DA47467CA7E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3A59AE-8C0A-4342-8072-B033701CA28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881568-5CF5-4825-869A-5DFC8BEFFE2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377E40-83BB-475E-8977-2A784D8F809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5B97D6-341B-479C-994D-6375E430B3B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19C8D7-9269-487E-9110-F112CE8C7E8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5B5CB1-A727-4614-AE06-3E44D7262D0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58EBC6-3017-4342-85E6-5200DF6E56F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406E10-D3C1-4EC5-9B36-DA639069C2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C25A7-93B9-4763-AB9D-A96764D18E5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ED6FDD-F132-41B0-A3ED-486FF442A68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675F6E-8869-46CD-8286-ED1DD8AFD4A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7A2AB0-9915-44D5-A939-2C278000090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9AEAFD-82A8-4765-8174-E690149E003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1E3287-2D99-4388-B498-8457273F1F8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B53530-1502-43BD-A0A1-47A05ECB978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84930F-49AA-405B-9656-D81C5902723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BB5BCC-7460-4802-9F9C-49CC7AB2F19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7C089F-B59E-4E53-A48A-F34BAFAAEB6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365AD0-B17F-4FC2-9A51-819A052E74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67E97-AD7F-40ED-9FA5-3EB65B89584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7E2F7B-14B3-4DF9-A003-51FD4D606A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F25AA-0B72-4AFE-BA08-631E9738BD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110F7-A5D2-42E6-9E1F-70239A2DC6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1511E-AD9D-4E5E-80A6-3C9BECAF49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164880">
              <a:spcBef>
                <a:spcPts val="1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23328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641640" y="60782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1DC14-88A9-498F-A196-F38E408CAE95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9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30" descr="ti_stk_2c_pos_rgb"/>
          <p:cNvPicPr/>
          <p:nvPr/>
        </p:nvPicPr>
        <p:blipFill>
          <a:blip r:embed="rId2"/>
          <a:stretch/>
        </p:blipFill>
        <p:spPr>
          <a:xfrm>
            <a:off x="6629400" y="6418440"/>
            <a:ext cx="1136520" cy="28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9" descr="1c_revBlack_rgb_powerpoint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42720" y="36572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indent="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88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35136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49356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671040">
              <a:lnSpc>
                <a:spcPct val="8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671040">
              <a:lnSpc>
                <a:spcPct val="8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8956-C0A8-4E15-B7EF-6A10EF416EF1}" type="slidenum"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Rectangle 26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42720" y="36572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indent="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13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4935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67104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3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BD43F-983C-43AF-9DBA-198CA9DAA02B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7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9" descr="1c_revBlack_rgb_powerpoint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42720" y="36572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indent="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88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3513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4935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67104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4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8BBAE-EE09-4498-88D8-F0717D0EB4B8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8" descr="1c_revBlack_rgb_powerpoint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7" descr="1c_revBlack_rgb_powerpoint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25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8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9" descr="ti_stk_2c_pos_rgb"/>
          <p:cNvPicPr/>
          <p:nvPr/>
        </p:nvPicPr>
        <p:blipFill>
          <a:blip r:embed="rId3"/>
          <a:stretch/>
        </p:blipFill>
        <p:spPr>
          <a:xfrm>
            <a:off x="6629400" y="6418440"/>
            <a:ext cx="1136520" cy="2808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164880">
              <a:spcBef>
                <a:spcPts val="1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23328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BE446-089F-425F-BB2D-81355C4E5C3E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4"/>
          <p:cNvSpPr/>
          <p:nvPr/>
        </p:nvSpPr>
        <p:spPr>
          <a:xfrm>
            <a:off x="6642000" y="60390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95D86-D7BD-4A17-BB9A-F54FB89D06E6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42720" y="1590840"/>
            <a:ext cx="8458200" cy="18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Gulim"/>
              </a:rPr>
              <a:t>JCTVC-M0217</a:t>
            </a:r>
            <a:br>
              <a:rPr sz="3000"/>
            </a:b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Gulim"/>
              </a:rPr>
              <a:t>SCE2: Results of Test 1.2 and Test 1.3 on inter-layer texture prediction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371160" y="378432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Do-Kyoung Kwon and Madhukar Budaga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as Instr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3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5A92B-583D-424D-A626-F8E8A50A3653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Gulim"/>
              </a:rPr>
              <a:t>Overview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33360" y="1042560"/>
            <a:ext cx="843912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SHM-1.0 supports inter-layer texture prediction (ILTP) for 2Nx2N block (CU lev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In Test 1.2, it is proposed to support ILTP for non-2Nx2N block (PU level) by modifying merge proc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In Test 1.3, Test 1.2 is combined with Test 1.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No additional signaling of syntax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Gulim"/>
              </a:rPr>
              <a:t>PU-level ILTP by the merge process (Test 1.2)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97680-EBC0-428B-8B87-17F77AD5ED0B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728640" y="1123920"/>
            <a:ext cx="3024360" cy="425772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3" descr=""/>
          <p:cNvPicPr/>
          <p:nvPr/>
        </p:nvPicPr>
        <p:blipFill>
          <a:blip r:embed="rId2"/>
          <a:stretch/>
        </p:blipFill>
        <p:spPr>
          <a:xfrm>
            <a:off x="5172120" y="1171440"/>
            <a:ext cx="2641680" cy="28292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8"/>
          <p:cNvSpPr/>
          <p:nvPr/>
        </p:nvSpPr>
        <p:spPr>
          <a:xfrm>
            <a:off x="679320" y="5451480"/>
            <a:ext cx="310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Modified merge candidate list deri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9"/>
          <p:cNvSpPr/>
          <p:nvPr/>
        </p:nvSpPr>
        <p:spPr>
          <a:xfrm>
            <a:off x="4613400" y="4108320"/>
            <a:ext cx="380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Modified PU decoding process using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merge_idx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3772080" y="4638600"/>
            <a:ext cx="5105160" cy="13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After checking the first 4 candidates, if numMergeCand &lt; 4 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ILTP mode is added into the merge candidate list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For ILTP mode, refIdLx = -1 and predFlagLx = 0 for x = 0,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If derived refIdxLx = -1 for x= 0, 1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PU is predicted from the collocated B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3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832BE-1B45-4DC5-B04A-3D57BBB93D9F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Gulim"/>
              </a:rPr>
              <a:t>Experimental results (Test 1.2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33360" y="91872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vides a luma BD-rate gains of 0.1% ~ 0.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024" descr=""/>
          <p:cNvPicPr/>
          <p:nvPr/>
        </p:nvPicPr>
        <p:blipFill>
          <a:blip r:embed="rId1"/>
          <a:stretch/>
        </p:blipFill>
        <p:spPr>
          <a:xfrm>
            <a:off x="952560" y="1494000"/>
            <a:ext cx="707220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3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0380-40C1-4534-A70D-262D6F8A5AD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Gulim"/>
              </a:rPr>
              <a:t>Experimental results (Test 1.3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33360" y="91872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vides a luma BD-rate gains of 0.1% ~ 0.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Test 1.1 and Test 1.2 show additive g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952560" y="1674720"/>
            <a:ext cx="706896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3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78F5C-7850-4586-B5B2-7AD68FA2C23E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Gulim"/>
              </a:rPr>
              <a:t>Conclusion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33000" y="1109520"/>
            <a:ext cx="8410680" cy="469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 Test 1.2, ILTP for non-2Nx2N block (PU level) was enabled by modifying merge proc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 Test 1.3, Test 1.2 was combined with Test 1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Test 1.2 improved a luma BD-rate by 0.1% ~ 0.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Test 1.1 + Test 1.2 provide a luma BD-rate gain of 0.1% ~ 0.6%, but do not introduce new syntax 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9T20:51:45Z</dcterms:created>
  <dc:creator/>
  <dc:description/>
  <dc:language>en-US</dc:language>
  <cp:lastModifiedBy>a0271391</cp:lastModifiedBy>
  <dcterms:modified xsi:type="dcterms:W3CDTF">2013-04-17T21:35:03Z</dcterms:modified>
  <cp:revision>151</cp:revision>
  <dc:subject/>
  <dc:title>Presentation Title Here</dc:title>
</cp:coreProperties>
</file>