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937375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9372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6"/>
          </p:nvPr>
        </p:nvSpPr>
        <p:spPr>
          <a:xfrm>
            <a:off x="392904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8"/>
          </p:nvPr>
        </p:nvSpPr>
        <p:spPr>
          <a:xfrm>
            <a:off x="392904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98BD3-4E31-4BB0-9633-9A1835505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C480-B0C7-4830-8A90-C261748E8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B23F-FB45-46A8-80C6-12B436567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3BC0-C9E8-4C7F-BC11-B559D1F3E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D226-ECA1-4EF6-A144-A5675A2E2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29040" y="8758080"/>
            <a:ext cx="3005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1B52-91BE-4F4D-BB88-84D42D1B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1600" cy="34574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83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0A17D-945F-49A9-B943-FCF9DA2CBF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E490-1136-43F3-B50D-1CE27026E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53D87-5589-4870-99D2-EBF8665F3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B94E3-5982-42A9-B624-7FAE4EE65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2AA4D-3148-46B1-8363-DFBC5EEAFE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8C66-D957-47A8-8BD8-0877A41F6A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B5E5D-B798-4EA1-9A7E-9B9AF731DA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2FD9-FA53-46C2-919D-D83BF865B2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3707-EE2E-4E7F-9A18-A7536436E3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6550-3BCA-4FDC-8DC7-2C8A170746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F06A9-7254-409F-84C9-A317C63A49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28BEE-120E-4387-8500-76C6BA6599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BCD26-0E6C-409F-A5D0-16C306CAEB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52F31-4CE5-491A-8965-68E5576C17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92D5-5FDF-4595-87AB-5D3F9922FB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2F2B4-AB84-443B-83C3-C6CF3AF9DE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68878-F051-42C1-949B-5CF9F9F9E5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0B4A-71BD-4839-90F0-405BEA192C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B738-96CC-4B80-8160-69B4D0CA49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41B9-4012-40CA-9F9E-E7FE47508E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4977-047C-42B9-B411-3FF69848AD1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009D-C11B-4EED-A1FA-FE8D9C3C48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0DD7-0A76-4CCC-B1C1-A96B2C57A3E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F54-A71B-4BF4-8DA2-21A832E369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D95-1B42-44C1-ABE5-BCB017FE272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129A-73B7-4B2F-AD50-53C35B58AA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9522-B098-4448-9B22-AB18758E4F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BCC9-02C1-4706-BA56-8993036E2D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B1C0-6E65-4470-A226-4ABE84A2AA9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BF1-9643-42E8-BDA1-E883FFC5CE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7FA776-6518-4A75-A90F-A4AAFC8173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8703C6-EDFB-46DB-BDA1-0984E885F94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92DBA-ADCB-4572-8D8F-A646AF2A9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C2538-0966-49E9-869A-51F1BE03412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58A1C-B45D-4926-A57F-49101AD7A2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D361F-4AD7-4106-A184-92CE925454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34AA9-210C-4A19-9392-99BD72D530D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14F16-36A5-468C-B524-73C921046F0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0C77E-1822-4D1E-922B-96AE0DC7F4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83D45-14AA-4534-8AFF-9876105DADF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59B609-193D-4805-8B0D-9DCDFD77C90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B84C4C-5EDE-4DA2-B07F-18CB6E04F31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E1951-D35C-461D-91AE-A4D9C8112A3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C145B-E3EA-4FDD-BF94-6077F4156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580B-D65A-437B-A1F7-5414ABD9EAA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2B928-646F-437A-905A-945B651B6A0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B7186-64F5-4570-A87A-31C76A5727F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934D4-C3D2-4A57-9E93-91F6BC8AFC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C4D1D-4AFB-4486-A15D-A84CCD6AE9C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D3995-92E8-4755-94E6-7FB4E51D081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7EC52-47A9-4550-A313-0103C08BF8B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2CD4A-9E7C-4B23-ADB9-4B6D415F77C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4030B-5257-4D21-AA33-8749CDB1F7F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45D82-97BE-48F9-B6F4-A336FF62083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B6A6B6-9FC9-41B7-9A58-D49332B257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1480" y="142920"/>
            <a:ext cx="8458200" cy="37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6E160-AF46-4AD1-B90A-6621E640FD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9644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59160" y="118548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333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9644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59160" y="3636720"/>
            <a:ext cx="27262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E2E15-6C83-42E0-8D19-82A632D87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85B7-2677-4704-9B6B-075EFAB062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63672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26636-AEC3-4FCA-AB5B-E303E6F7F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3336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185480"/>
            <a:ext cx="413208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3360" y="3636720"/>
            <a:ext cx="8467920" cy="22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1A498-3370-4964-A026-FC34F376D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41640" y="60782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C590-F766-40E1-BA96-037E1B2275E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9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30" descr="ti_stk_2c_pos_rgb"/>
          <p:cNvPicPr/>
          <p:nvPr/>
        </p:nvPicPr>
        <p:blipFill>
          <a:blip r:embed="rId2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FEE69-9DB3-4592-ADA8-1E8A9ED373F4}" type="slidenum"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Rectangle 26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aaaa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4CA0-63CB-4ED5-AD5A-99AB3BAC684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9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19429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272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indent="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7388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513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49356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671040">
              <a:lnSpc>
                <a:spcPct val="85000"/>
              </a:lnSpc>
              <a:spcBef>
                <a:spcPts val="1500"/>
              </a:spcBef>
              <a:buClr>
                <a:srgbClr val="aaaaaa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67104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4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3361-4AD4-4C98-9192-A9DD64C228D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7" descr="1c_revBlack_rgb_powerpoint"/>
          <p:cNvPicPr/>
          <p:nvPr/>
        </p:nvPicPr>
        <p:blipFill>
          <a:blip r:embed="rId2"/>
          <a:stretch/>
        </p:blipFill>
        <p:spPr>
          <a:xfrm>
            <a:off x="6638760" y="6427800"/>
            <a:ext cx="1119240" cy="2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5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8"/>
          <p:cNvSpPr/>
          <p:nvPr/>
        </p:nvSpPr>
        <p:spPr>
          <a:xfrm>
            <a:off x="338040" y="6330960"/>
            <a:ext cx="8463240" cy="46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9" descr="ti_stk_2c_pos_rgb"/>
          <p:cNvPicPr/>
          <p:nvPr/>
        </p:nvPicPr>
        <p:blipFill>
          <a:blip r:embed="rId3"/>
          <a:stretch/>
        </p:blipFill>
        <p:spPr>
          <a:xfrm>
            <a:off x="6629400" y="6418440"/>
            <a:ext cx="1136520" cy="2808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333360" y="118548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3920" indent="-164880">
              <a:spcBef>
                <a:spcPts val="16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1680" indent="-233280">
              <a:spcBef>
                <a:spcPts val="1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488960" indent="-172800">
              <a:spcBef>
                <a:spcPts val="1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6641640" y="6038640"/>
            <a:ext cx="2133720" cy="20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055A-04EB-41B5-B73E-EC4DD7E8195F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4"/>
          <p:cNvSpPr/>
          <p:nvPr/>
        </p:nvSpPr>
        <p:spPr>
          <a:xfrm>
            <a:off x="6642000" y="60390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8A86-A0C3-4C09-A0BF-6CDB589477E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1590840"/>
            <a:ext cx="8458200" cy="18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750"/>
              </a:spcBef>
              <a:spcAft>
                <a:spcPts val="37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Gulim"/>
              </a:rPr>
              <a:t>JCTVC-M0216</a:t>
            </a:r>
            <a:br>
              <a:rPr sz="3000"/>
            </a:b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Gulim"/>
              </a:rPr>
              <a:t>SCE2: Results of Test 1.1 on skipped ILTP block signaling in Inter slice</a:t>
            </a:r>
            <a:endParaRPr b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71160" y="3784320"/>
            <a:ext cx="8458200" cy="14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Do-Kyoung Kwon and Madhukar Budag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as Instr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A502-0DF1-49AD-A0F8-5EAC4BFB8C2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Overview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33360" y="1042560"/>
            <a:ext cx="843912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n SHM-1.0, skipped IntraBL CU is signaled by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rqt_root_cb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 all slice typ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It is proposed to signal skipped IntraBL CU by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cu_skip_fla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 in Inter slice (P, B) to improve coding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u_skip_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is set to 1 by either inter skip mode or IntraB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332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u_skip_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is 1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merge_id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is signaled only if CU is not IntraB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Gulim"/>
              </a:rPr>
              <a:t>For Intra (I) slice, there is no chang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644A-E9CE-4020-B6AB-3BC7328823D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44"/>
          <p:cNvSpPr/>
          <p:nvPr/>
        </p:nvSpPr>
        <p:spPr>
          <a:xfrm>
            <a:off x="3048120" y="4648320"/>
            <a:ext cx="97128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66"/>
          <p:cNvSpPr/>
          <p:nvPr/>
        </p:nvSpPr>
        <p:spPr>
          <a:xfrm>
            <a:off x="3548160" y="2457360"/>
            <a:ext cx="124452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Proposed CU-level signal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835280" y="1054080"/>
          <a:ext cx="5545080" cy="4937040"/>
        </p:xfrm>
        <a:graphic>
          <a:graphicData uri="http://schemas.openxmlformats.org/drawingml/2006/table">
            <a:tbl>
              <a:tblPr/>
              <a:tblGrid>
                <a:gridCol w="4763880"/>
                <a:gridCol w="7812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oding_unit( x0, y0, log2CbSize ) 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Descript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  <a:ea typeface="Gulim"/>
                        </a:rPr>
                        <a:t>    …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slice_type  !=  I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a-D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da-D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da-D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cu_skip_flag</a:t>
                      </a:r>
                      <a:r>
                        <a:rPr b="0" lang="da-DK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x0 ][ y0 ]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nuh_layer_id &gt; 0 &amp;&amp;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InterLayerTextureRlEnableFlag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exture_rl_flag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x0 ][ y0 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cu_skip_flag[ x0 ][ y0 ]  &amp;&amp; !texture_rl_flag[ x0 ][ y0 ] 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prediction_unit( x0, y0, nCbS, nCbS 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else 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nuh_layer_id &gt; 0 &amp;&amp;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InterLayerTextureRlEnableFlag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texture_rl_flag</a:t>
                      </a: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[ x0 ][ y0 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5050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 texture_rl_flag[ x0 ][ y0 ] ) 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                …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 !pcm_flag[ x0 ][ y0 ] ) {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if(( PredMode[ x0 ][ y0 ]  !=  MODE_INTRA &amp;&amp; !(PartMode  = =  PART_2Nx2N &amp;&amp; merge_flag[x0][y0])) ||   (slice_type = = I &amp;&amp; PredMode[ x0 ][ y0] = = MODE_TEXTURE_RL)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rqt_root_cb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ae(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s-E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…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	</a:t>
                      </a: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36440"/>
                          <a:tab algn="l" pos="274680"/>
                          <a:tab algn="l" pos="411120"/>
                          <a:tab algn="l" pos="549360"/>
                          <a:tab algn="l" pos="685800"/>
                          <a:tab algn="l" pos="822240"/>
                          <a:tab algn="l" pos="960480"/>
                          <a:tab algn="l" pos="1096920"/>
                          <a:tab algn="l" pos="1235160"/>
                          <a:tab algn="l" pos="13716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Malgun Gothic"/>
                        </a:rPr>
                        <a:t>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A8BD-60C3-42B5-BCE4-63FF60BC9AB6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Experimental resul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33360" y="918720"/>
            <a:ext cx="846792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vides luma BD-rate gains up to 0.3% (for LB-P and LD-B 1.5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292" descr=""/>
          <p:cNvPicPr/>
          <p:nvPr/>
        </p:nvPicPr>
        <p:blipFill>
          <a:blip r:embed="rId1"/>
          <a:stretch/>
        </p:blipFill>
        <p:spPr>
          <a:xfrm>
            <a:off x="1081080" y="1460520"/>
            <a:ext cx="659124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3"/>
          <p:cNvSpPr/>
          <p:nvPr/>
        </p:nvSpPr>
        <p:spPr>
          <a:xfrm>
            <a:off x="6642000" y="6078600"/>
            <a:ext cx="213372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3AEC-A759-4720-800E-C8A060F82162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1480" y="142920"/>
            <a:ext cx="84582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Gulim"/>
              </a:rPr>
              <a:t>Conclus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33000" y="1109520"/>
            <a:ext cx="8410680" cy="46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posed to signal skipped IntraBL CU by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cu_skip_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in Inter sl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ignaling position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texture_rl_fla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 is changed without additional signaling of syntax 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spcBef>
                <a:spcPts val="1463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mproved luma BD-rate up to 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spcBef>
                <a:spcPts val="146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9T20:51:45Z</dcterms:created>
  <dc:creator/>
  <dc:description/>
  <dc:language>en-US</dc:language>
  <cp:lastModifiedBy>a0271391</cp:lastModifiedBy>
  <dcterms:modified xsi:type="dcterms:W3CDTF">2013-04-17T21:34:52Z</dcterms:modified>
  <cp:revision>146</cp:revision>
  <dc:subject/>
  <dc:title>Presentation Title Here</dc:title>
</cp:coreProperties>
</file>