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AA0E3F-671D-4609-B164-8B149158D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7F7FEC-4C7F-4631-913F-EB0164291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8C40BA-C38A-4D55-BD9E-302805AF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9304D8-1D4A-423C-9837-8026A04A1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8629C1-0B79-4AF8-9059-B2123397B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EDAF43-F9B6-4B46-9DF9-6F020937A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8F0EB8-7DD0-4B46-A432-2DD0D7B00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50A61B-26DA-45E0-A610-0A16057F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184-DA0D-4D7C-B68F-9E9CD5CE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32E-16A9-404B-A794-608132F9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82E-8A1B-41C5-B4DC-E55948E4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37A-3B8D-40DE-BFDF-E8C713AF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457-E793-4A62-8DB8-322B2EBC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CE3-DCC0-482E-B2BD-C793373B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1AF-8C17-4D7C-8118-4A65A5EF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7FF-8443-47D1-A760-136126F2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514-4933-4B11-B3ED-63256E74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865-793B-4270-9333-380D6B40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3D3-347C-4F8E-8860-BA225E24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E15-1E79-4810-9AB5-2C171CA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F16F-35A1-4618-8F1B-9673D0C8F0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0212/ D0084: On Output Layer Sets Change Signa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2DD7-2D3E-4518-8FA7-7200FF202C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VC Draft Text 1 and MV-HEVC Draft Text 3 support signa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dependency information using direct_dependency_flag[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[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in video parameter set (VPS) exten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layer sets information using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um_output_layer_sets, output_layer_set_idx[ i ] and output_layer_flag[ lsIdx ][  j ]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S exten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dependency change with respect to layer dependency signaled in an active VPS can also be signaled using a layer dependency change SEI message in SHVC and MV-HEV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sserted that as the layer dependency changes the output layer sets could chang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n example layer dependency change could require fewer layers to be decoded to decode a particular target layer (e.g. a view in MV-HEVC). Thus a decoder could decode and output a layer (e.g. and additional view) after a layer dependency change that it previously could not due to its hardware limi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no mechanism exists to allow signaling a change in the output layer sets without sending a new video parameter s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B411-190C-44BF-9B5E-544C36B693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s –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ocument proposes an output layer sets change SEI message.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proposed SEI message supports adding new output layer sets, deleting existing output layer sets and changing existing output layer sets’ target output lay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dditionally we also propose derivation of target output layers and target decoded layers based on the output layer 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C77-3ABC-4268-9951-2421E9E3F6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Layer Sets Change SEI Proposal (1/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81480" y="762120"/>
            <a:ext cx="373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_deleted_output_layer_se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s the number of output layer sets which are deleted and so are no longer present. The value of num_deleted_output_layer_sets shall be in the range of 0 to num_output_layer_sets, inclusive. When not present, the value of num_deleted_output_layer_sets is inferred to be equal to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ted_output_layer_sets_idx_en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 i 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s the index entry in the list of output layer set entries which is indicated to be deleted and so no longer present. The value of deleted_output_layer_set_idx_entry[ i ] should be in the range of 0 to num_output_layer_sets, inclusive. deleted_output_layer_sets_index_entry[ i ] shall not be equal to deleted_output_layer_sets_index_entry[ j ] for any j not equal to 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7B69-45E5-4053-B616-4B526CEE68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849920" cy="3886200"/>
          </a:xfrm>
          <a:prstGeom prst="rect">
            <a:avLst/>
          </a:prstGeom>
          <a:ln w="0">
            <a:noFill/>
          </a:ln>
        </p:spPr>
      </p:pic>
      <p:sp>
        <p:nvSpPr>
          <p:cNvPr id="70" name="Right Brace 13"/>
          <p:cNvSpPr/>
          <p:nvPr/>
        </p:nvSpPr>
        <p:spPr>
          <a:xfrm>
            <a:off x="5105520" y="1650960"/>
            <a:ext cx="304560" cy="4827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482760"/>
              <a:gd name="textAreaBottom" fmla="*/ 47484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9"/>
                  <a:pt x="10800" y="1138"/>
                </a:cubicBezTo>
                <a:lnTo>
                  <a:pt x="10800" y="9662"/>
                </a:lnTo>
                <a:cubicBezTo>
                  <a:pt x="10800" y="10231"/>
                  <a:pt x="16200" y="10800"/>
                  <a:pt x="21600" y="10800"/>
                </a:cubicBezTo>
                <a:cubicBezTo>
                  <a:pt x="16200" y="10800"/>
                  <a:pt x="10800" y="11369"/>
                  <a:pt x="10800" y="11938"/>
                </a:cubicBezTo>
                <a:lnTo>
                  <a:pt x="10800" y="20462"/>
                </a:lnTo>
                <a:cubicBezTo>
                  <a:pt x="10800" y="2103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Layer Sets Change SEI Proposal (2/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81480" y="76176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_changed_output_layer_se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es the number of changed output layer sets for which output layers are specified in vps extension section of the active video parameter set identified by active_vps_id. The value of num_changed_output_layer_sets should be in the range of 0 to num_output_layer_sets - num_deleted_output_layer_sets, inclusive. When not present, the value of num_changed_output_layer_sets is inferred to be equal to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d_output_ layer_sets_idx_ent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 i 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index entry in the list of output layer set entries in the vps extension identified by active_vps_id for which output_layer_flag[ clsIdx ][ j ] change applies to. The value of changed_output_layer_set_idx_entry[ i ] should be in the range of 0 to num_output_layer_sets-num_deleted_output_layer_sets, inclusive. changed_output_layer_sets_idx_entry[ i ] shall not be equal to changed_output_layer_sets_idx_entry[ j ] for any j not equal to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output_layer_fla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[ clsIdx ][ j ] equal to 1 specifies that the layer with nuh_layer_id equal to j is a target output layer of the clsIdx-th layer set. A value of output_layer_flag[ clsIdx ][ j ] equal to 0 specifies that the layer with nuh_layer_id equal to j is not a target output layer of the clsIdx-th layer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0DDA-E7D4-43EF-AEC8-A24525C33C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8499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Right Brace 6"/>
          <p:cNvSpPr/>
          <p:nvPr/>
        </p:nvSpPr>
        <p:spPr>
          <a:xfrm>
            <a:off x="5105520" y="2133720"/>
            <a:ext cx="304560" cy="129528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295280"/>
              <a:gd name="textAreaBottom" fmla="*/ 12873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Layer Sets Change SEI Proposal (3/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81480" y="91404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_addl_output_layer_sets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pecifies the number of additional layer sets for which output layers are specified with addl_output_layer_set_idx[ i ] and output_layer_flag[ addllsIdx ][ j ]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When not present, the value of num_addl_output_layer_sets is inferred to be equal to 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ddl_output_ layer_sets_idx[ i</a:t>
            </a:r>
            <a:r>
              <a:rPr b="1" i="1" lang="en-CA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pecifies the index addllsIdx of the layer set for which output_layer_flag[</a:t>
            </a:r>
            <a:r>
              <a:rPr b="1" i="1" lang="en-CA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llsIdx</a:t>
            </a:r>
            <a:r>
              <a:rPr b="1" i="1" lang="en-CA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1" i="1" lang="en-CA" sz="15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en-CA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] is pres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output_layer_flag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[ addllsIdx ][ j ] equal to 1 specifies that the layer with nuh_layer_id equal to j is a target output layer of the addllsIdx-th layer set. A value of output_layer_flag[ addllsIdx ][ j ] equal to 0 specifies that the layer with nuh_layer_id equal to j is not a target output layer of the addllsIdx-th layer se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9DAB-2E7D-402D-A4E7-5D1C06FC4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849920" cy="3886200"/>
          </a:xfrm>
          <a:prstGeom prst="rect">
            <a:avLst/>
          </a:prstGeom>
          <a:ln w="0">
            <a:noFill/>
          </a:ln>
        </p:spPr>
      </p:pic>
      <p:sp>
        <p:nvSpPr>
          <p:cNvPr id="80" name="Right Brace 5"/>
          <p:cNvSpPr/>
          <p:nvPr/>
        </p:nvSpPr>
        <p:spPr>
          <a:xfrm>
            <a:off x="5105520" y="3457440"/>
            <a:ext cx="304560" cy="129564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295640"/>
              <a:gd name="textAreaBottom" fmla="*/ 12877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Propos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 also propose derivation of target output layers and target decoded layers based on the output layer sets. The proposed text below could be added to the SHVC and MV-HEVC Draft tex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3FD-92D9-428B-A715-391CB7FE9E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4104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ocument proposes syntax and semantics for output layer sets change signaling using a SEI mess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ditionally it also proposes derivation of target output layers and target decoded layers based on the output layer set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the SEI message and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rivation of target output layers and target decoded layers based on the output layer sets in SHVC and MV-HEVC draft tex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445E-0EF5-49A1-B5E0-CB7D6E772D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7:14:55Z</dcterms:created>
  <dc:creator>lkerofsky</dc:creator>
  <dc:description/>
  <dc:language>en-US</dc:language>
  <cp:lastModifiedBy>Sachin Deshpande</cp:lastModifiedBy>
  <dcterms:modified xsi:type="dcterms:W3CDTF">2013-04-12T23:50:31Z</dcterms:modified>
  <cp:revision>1176</cp:revision>
  <dc:subject/>
  <dc:title>Slide 1</dc:title>
</cp:coreProperties>
</file>