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1FCC25-8D7D-48CE-917C-91A00C81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F21568-E5FE-4469-804A-64961907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BA5D92-6409-48E7-93BF-356B62B3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F9B69-127B-47AF-A5AE-63DE0E7D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F03369-1D1C-4EDE-97D2-8D15C703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1DD57C-C2F5-4BEE-9ADE-7406FFB42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23A35F-4759-44E6-979A-55A4786CA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6674A9-9234-4249-A696-EA55D85B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1A7-C476-47F7-8549-8BB2C2EE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7DA-DCBA-44C3-997A-3F0F700D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39F-CEDF-43F4-9DF2-20ED7A09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D59-4E19-4D8E-8882-61831242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846-5005-4648-91B5-9AF68B30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761-A8B2-4B54-9489-95B9BAB3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D45-DB95-4630-AC17-DF2D9161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709-B6D5-4326-BF78-B2754A47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6A7-7BE4-48E8-982F-DD1DEA8D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922-6F28-4147-ACA7-50D10C0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BA8-30CE-4E5C-A5F9-C04B4FC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41A-D315-472C-A63A-70037B0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5B7-3971-4923-A929-7103D06DDC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0209/ D0082: On Design for Signal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-layer Predi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4C27-A044-4185-B389-DEAE5482C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9140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“strawman” design for signaling of inter-layer prediction indication was discussed during 1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JCTV-VC mee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syntax and semantics for this design considered for signaling inter-layer prediction indication was described in JCTVC-L04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document proposes following additions to the design considered for signaling inter-layer predi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posal 1: A change to the marking process for sub-layer non-reference pictures not needed for inter-layer prediction is propos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posal 2: A change to the decoding of inter-layer reference picture set and reference picture list construction is propo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65DB-F6A9-4785-BD85-60803097F9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032" t="0" r="15032" b="5560"/>
          <a:stretch/>
        </p:blipFill>
        <p:spPr>
          <a:xfrm>
            <a:off x="4572000" y="1447920"/>
            <a:ext cx="4254480" cy="3106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653720" y="4724280"/>
            <a:ext cx="404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CTVC-L0449: Design Considered for Signaling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-layer Prediction Indi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1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change to the marking process for sub-layer non-reference pictures  not needed for inter-layer prediction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using the proposed change in the marking process sub-layer non-reference pictures of target layers could be marked “unused for reference” based on the VPS signalling regarding use of sub-layer and RAP pictures of various layers for inter-layer predi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is asserted that this proposed approach has the advantage that additional sub-layer non-reference pictures of target layers could be marked “unused for reference”. Thus DPB size / memory could be re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9CE8-2728-41E3-96C4-988F8C3495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1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1404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changes are highlighted compared to JCTVC-L1008 SHVC draft text 1 and JCTVC-C1004 MV-HEVC draft text 3 and using syntax defined in JCTVC-L04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6C6-701E-43D9-9EEA-38CC434DD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5486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2 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change to the decoding of inter-layer reference picture set and reference picture list construction is pro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using our proposed change in the decoding process for inter-layer reference picture set an additional check is performed regarding the TemporalId of the inter-layer pictures for pictures with nuh_layer_id values corresponding to the layers which are direct reference layers for the current layer with picture order count equal to the current pic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f the value of the TemporalId for the said inter-layer picture is greater than max_sublayer_for_ilp_plus1[i]-1 then those inter-layer pictures are not added to the inter-layer reference picture s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dditionally if the value of max_sublayer_for_ilp_plus1[i] is zero then the said inter-layer picture is not added to the inter-layer reference picture set unless it is a RAP pic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inter-layer reference picture set is then used for reference picture list co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886-E4AC-4270-8CC7-813E757745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2 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71EF-AA27-4E62-8A5C-2A8299EA0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1430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osed changes are highlighted compared to JCTVC-L1008 SHVC draft text 1 and JCTVC-C1004 MV-HEVC draft text 3 and using syntax defined in JCTVC-L044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1"/>
          <a:stretch/>
        </p:blipFill>
        <p:spPr>
          <a:xfrm>
            <a:off x="228600" y="2103480"/>
            <a:ext cx="5029200" cy="414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2"/>
          <a:stretch/>
        </p:blipFill>
        <p:spPr>
          <a:xfrm>
            <a:off x="5410080" y="2103480"/>
            <a:ext cx="35514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2 (3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F2FD-6966-4217-9E45-E7677B6E0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2743200" y="977760"/>
            <a:ext cx="38149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“strawman” design for signalling of inter-layer prediction indication was discussed during 12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JCTV-VC meeting and was described in JCTVC-L044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document proposes additions to the design considered for signaling inter-layer predi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al 1: A change to the marking process for sub-layer non-reference pictures  not needed for inter-layer prediction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al 2: A change to the decoding of inter-layer reference picture set and reference picture list construction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JCTVC-L0449 and our two proposal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 SHVC and MV-HEVC draft tex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E66-E36E-4A4E-A868-7FCDF11D82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20:37:11Z</dcterms:created>
  <dc:creator>lkerofsky</dc:creator>
  <dc:description/>
  <dc:language>en-US</dc:language>
  <cp:lastModifiedBy>Sachin Deshpande</cp:lastModifiedBy>
  <dcterms:modified xsi:type="dcterms:W3CDTF">2013-04-12T23:50:01Z</dcterms:modified>
  <cp:revision>1193</cp:revision>
  <dc:subject/>
  <dc:title>Slide 1</dc:title>
</cp:coreProperties>
</file>