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91A6-0451-4E86-BAA2-F5E378935FE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24DA-07E6-4B6F-A3DC-2CE90DEFFD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0F1-FC8B-4F05-89C5-A3A65DBA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26D-C33D-4CC1-A5B1-AF721E7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8A6-F1D4-4D89-81CD-13BCA22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E4F-595E-444E-8C49-74971AF2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8EA-49FC-468B-AD42-244FC670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5FF-78A2-4357-9FF4-4AFACAED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3F3-741B-4242-8272-0869B41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5AA-6BB3-44F1-ACE6-BF8DD15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FBC-0BD0-44F4-9285-2C08C4A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5B1-2547-4AB7-A6E1-4E610D90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44D-1ADB-4920-A5CF-349286B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278-BC17-4D67-A227-2283CB1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7A82-9BE0-4C4B-B371-EAEB0741F59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ech.ebu.ch/docs/tech-i/ebu_tech-i_013.pd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Comparison of Compression Performance of HEVC versus  AVC for UHD-1 sequ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898989"/>
                </a:solidFill>
                <a:latin typeface="Calibri"/>
              </a:rPr>
              <a:t>JCTVC-M016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700" spc="-1" strike="noStrike">
                <a:solidFill>
                  <a:srgbClr val="898989"/>
                </a:solidFill>
                <a:latin typeface="Calibri"/>
              </a:rPr>
              <a:t>Incheon, KR, 18–26 Apr. 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700" spc="-1" strike="noStrike">
                <a:solidFill>
                  <a:srgbClr val="898989"/>
                </a:solidFill>
                <a:latin typeface="Calibri"/>
              </a:rPr>
              <a:t>M. Arena</a:t>
            </a:r>
            <a:r>
              <a:rPr b="0" lang="en-CA" sz="2700" spc="-1" strike="noStrike">
                <a:solidFill>
                  <a:srgbClr val="898989"/>
                </a:solidFill>
                <a:latin typeface="Calibri"/>
              </a:rPr>
              <a:t>,</a:t>
            </a:r>
            <a:r>
              <a:rPr b="1" lang="en-CA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i="1" lang="en-CA" sz="2700" spc="-1" strike="noStrike">
                <a:solidFill>
                  <a:srgbClr val="898989"/>
                </a:solidFill>
                <a:latin typeface="Calibri"/>
              </a:rPr>
              <a:t>P. Sunna</a:t>
            </a:r>
            <a:r>
              <a:rPr b="1" i="1" lang="en-CA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i="1" lang="en-CA" sz="2700" spc="-1" strike="noStrike">
                <a:solidFill>
                  <a:srgbClr val="898989"/>
                </a:solidFill>
                <a:latin typeface="Calibri"/>
              </a:rPr>
              <a:t>(RA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700" spc="-1" strike="noStrike">
                <a:solidFill>
                  <a:srgbClr val="898989"/>
                </a:solidFill>
                <a:latin typeface="Calibri"/>
              </a:rPr>
              <a:t>Philippe BORDES</a:t>
            </a:r>
            <a:r>
              <a:rPr b="0" i="1" lang="en-CA" sz="2700" spc="-1" strike="noStrike">
                <a:solidFill>
                  <a:srgbClr val="898989"/>
                </a:solidFill>
                <a:latin typeface="Calibri"/>
              </a:rPr>
              <a:t>, P. Andrivon (Technicolo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Doc\JCT-VC\M - Incheon\Contributions\QFHD MPvsM10P\rai_logo.jpg"/>
          <p:cNvPicPr/>
          <p:nvPr/>
        </p:nvPicPr>
        <p:blipFill>
          <a:blip r:embed="rId1"/>
          <a:stretch/>
        </p:blipFill>
        <p:spPr>
          <a:xfrm>
            <a:off x="250920" y="5445000"/>
            <a:ext cx="1171440" cy="11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:\Doc\JCT-VC\M - Incheon\Contributions\QFHD MPvsM10P\technicolor_logo.jpg"/>
          <p:cNvPicPr/>
          <p:nvPr/>
        </p:nvPicPr>
        <p:blipFill>
          <a:blip r:embed="rId2"/>
          <a:stretch/>
        </p:blipFill>
        <p:spPr>
          <a:xfrm>
            <a:off x="6300720" y="5454720"/>
            <a:ext cx="2519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27320" y="2857320"/>
            <a:ext cx="468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olo 1"/>
          <p:cNvSpPr/>
          <p:nvPr/>
        </p:nvSpPr>
        <p:spPr>
          <a:xfrm>
            <a:off x="6012000" y="549360"/>
            <a:ext cx="28810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ierre Andrivo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hilippe Sal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hilippe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Techni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4"/>
          <p:cNvSpPr/>
          <p:nvPr/>
        </p:nvSpPr>
        <p:spPr>
          <a:xfrm>
            <a:off x="324000" y="494172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rco 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ola Su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(R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e objective performance (BD-rate metric) betwee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HEV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draft 10 Main (10) profil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V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High (10) profil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nchmar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2160p@50 Rec.709 (3840x2160) 8 and 10-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 mate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terial available from the recent UHD-1 EBU shooting </a:t>
            </a: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ch.ebu.ch/docs/tech-i/ebu_tech-i_013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magine 6" descr="DSC_2446.jpg"/>
          <p:cNvPicPr/>
          <p:nvPr/>
        </p:nvPicPr>
        <p:blipFill>
          <a:blip r:embed="rId2"/>
          <a:stretch/>
        </p:blipFill>
        <p:spPr>
          <a:xfrm>
            <a:off x="1332000" y="4221000"/>
            <a:ext cx="3384360" cy="2243160"/>
          </a:xfrm>
          <a:prstGeom prst="rect">
            <a:avLst/>
          </a:prstGeom>
          <a:ln w="0">
            <a:noFill/>
          </a:ln>
        </p:spPr>
      </p:pic>
      <p:pic>
        <p:nvPicPr>
          <p:cNvPr id="57" name="Immagine 7" descr="DSC_2441.jpg"/>
          <p:cNvPicPr/>
          <p:nvPr/>
        </p:nvPicPr>
        <p:blipFill>
          <a:blip r:embed="rId3"/>
          <a:stretch/>
        </p:blipFill>
        <p:spPr>
          <a:xfrm>
            <a:off x="4321080" y="2700360"/>
            <a:ext cx="3706920" cy="2457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4" descr="Schermata 2012-10-04 a 16.35.50.png"/>
          <p:cNvPicPr/>
          <p:nvPr/>
        </p:nvPicPr>
        <p:blipFill>
          <a:blip r:embed="rId4"/>
          <a:stretch/>
        </p:blipFill>
        <p:spPr>
          <a:xfrm>
            <a:off x="468360" y="2664000"/>
            <a:ext cx="310824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3" descr="Schermata 2012-10-04 a 16.36.04.png"/>
          <p:cNvPicPr/>
          <p:nvPr/>
        </p:nvPicPr>
        <p:blipFill>
          <a:blip r:embed="rId5"/>
          <a:stretch/>
        </p:blipFill>
        <p:spPr>
          <a:xfrm>
            <a:off x="5724360" y="4290840"/>
            <a:ext cx="292104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po 51"/>
          <p:cNvGrpSpPr/>
          <p:nvPr/>
        </p:nvGrpSpPr>
        <p:grpSpPr>
          <a:xfrm>
            <a:off x="4800600" y="3789360"/>
            <a:ext cx="2435400" cy="1709640"/>
            <a:chOff x="4800600" y="3789360"/>
            <a:chExt cx="2435400" cy="1709640"/>
          </a:xfrm>
        </p:grpSpPr>
        <p:pic>
          <p:nvPicPr>
            <p:cNvPr id="62" name="Picture 6" descr="waterfall_pan"/>
            <p:cNvPicPr/>
            <p:nvPr/>
          </p:nvPicPr>
          <p:blipFill>
            <a:blip r:embed="rId1"/>
            <a:stretch/>
          </p:blipFill>
          <p:spPr>
            <a:xfrm>
              <a:off x="4800600" y="4131360"/>
              <a:ext cx="2435400" cy="13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CasellaDiTesto 50"/>
            <p:cNvSpPr/>
            <p:nvPr/>
          </p:nvSpPr>
          <p:spPr>
            <a:xfrm>
              <a:off x="5046480" y="3789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98989"/>
                  </a:solidFill>
                  <a:latin typeface="Calibri"/>
                </a:rPr>
                <a:t>waterfall_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uppo 56"/>
          <p:cNvGrpSpPr/>
          <p:nvPr/>
        </p:nvGrpSpPr>
        <p:grpSpPr>
          <a:xfrm>
            <a:off x="324000" y="1125360"/>
            <a:ext cx="4392360" cy="1727280"/>
            <a:chOff x="324000" y="1125360"/>
            <a:chExt cx="4392360" cy="1727280"/>
          </a:xfrm>
        </p:grpSpPr>
        <p:grpSp>
          <p:nvGrpSpPr>
            <p:cNvPr id="65" name="Gruppo 45"/>
            <p:cNvGrpSpPr/>
            <p:nvPr/>
          </p:nvGrpSpPr>
          <p:grpSpPr>
            <a:xfrm>
              <a:off x="324000" y="1125360"/>
              <a:ext cx="2435760" cy="1727280"/>
              <a:chOff x="324000" y="1125360"/>
              <a:chExt cx="2435760" cy="1727280"/>
            </a:xfrm>
          </p:grpSpPr>
          <p:pic>
            <p:nvPicPr>
              <p:cNvPr id="66" name="Picture 2" descr="Lupo_candlelight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485000"/>
                <a:ext cx="2435760" cy="13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CasellaDiTesto 42"/>
              <p:cNvSpPr/>
              <p:nvPr/>
            </p:nvSpPr>
            <p:spPr>
              <a:xfrm>
                <a:off x="569880" y="1125360"/>
                <a:ext cx="19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98989"/>
                    </a:solidFill>
                    <a:latin typeface="Calibri"/>
                  </a:rPr>
                  <a:t>Lupo_candleligh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ttangolo 52"/>
            <p:cNvSpPr/>
            <p:nvPr/>
          </p:nvSpPr>
          <p:spPr>
            <a:xfrm>
              <a:off x="2772360" y="1580760"/>
              <a:ext cx="19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ublic test 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y F65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ow l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plex 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uppo 57"/>
          <p:cNvGrpSpPr/>
          <p:nvPr/>
        </p:nvGrpSpPr>
        <p:grpSpPr>
          <a:xfrm>
            <a:off x="324000" y="2708280"/>
            <a:ext cx="4319280" cy="1908720"/>
            <a:chOff x="324000" y="2708280"/>
            <a:chExt cx="4319280" cy="1908720"/>
          </a:xfrm>
        </p:grpSpPr>
        <p:grpSp>
          <p:nvGrpSpPr>
            <p:cNvPr id="70" name="Gruppo 46"/>
            <p:cNvGrpSpPr/>
            <p:nvPr/>
          </p:nvGrpSpPr>
          <p:grpSpPr>
            <a:xfrm>
              <a:off x="324000" y="2708280"/>
              <a:ext cx="2425320" cy="1908720"/>
              <a:chOff x="324000" y="2708280"/>
              <a:chExt cx="2425320" cy="1908720"/>
            </a:xfrm>
          </p:grpSpPr>
          <p:pic>
            <p:nvPicPr>
              <p:cNvPr id="71" name="Picture 3" descr="rain_fruits"/>
              <p:cNvPicPr/>
              <p:nvPr/>
            </p:nvPicPr>
            <p:blipFill>
              <a:blip r:embed="rId3"/>
              <a:stretch/>
            </p:blipFill>
            <p:spPr>
              <a:xfrm>
                <a:off x="324000" y="3247920"/>
                <a:ext cx="2425320" cy="13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CasellaDiTesto 43"/>
              <p:cNvSpPr/>
              <p:nvPr/>
            </p:nvSpPr>
            <p:spPr>
              <a:xfrm>
                <a:off x="565200" y="2708280"/>
                <a:ext cx="19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98989"/>
                    </a:solidFill>
                    <a:latin typeface="Calibri"/>
                  </a:rPr>
                  <a:t>rain_fru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ttangolo 53"/>
            <p:cNvSpPr/>
            <p:nvPr/>
          </p:nvSpPr>
          <p:spPr>
            <a:xfrm>
              <a:off x="2771640" y="3139560"/>
              <a:ext cx="1871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ublic test 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y F65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ugely textu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plex illum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po 58"/>
          <p:cNvGrpSpPr/>
          <p:nvPr/>
        </p:nvGrpSpPr>
        <p:grpSpPr>
          <a:xfrm>
            <a:off x="324000" y="4653000"/>
            <a:ext cx="4392360" cy="1728720"/>
            <a:chOff x="324000" y="4653000"/>
            <a:chExt cx="4392360" cy="1728720"/>
          </a:xfrm>
        </p:grpSpPr>
        <p:grpSp>
          <p:nvGrpSpPr>
            <p:cNvPr id="75" name="Gruppo 47"/>
            <p:cNvGrpSpPr/>
            <p:nvPr/>
          </p:nvGrpSpPr>
          <p:grpSpPr>
            <a:xfrm>
              <a:off x="324000" y="4653000"/>
              <a:ext cx="2445480" cy="1728720"/>
              <a:chOff x="324000" y="4653000"/>
              <a:chExt cx="2445480" cy="1728720"/>
            </a:xfrm>
          </p:grpSpPr>
          <p:pic>
            <p:nvPicPr>
              <p:cNvPr id="76" name="Picture 4" descr="fountain_lady"/>
              <p:cNvPicPr/>
              <p:nvPr/>
            </p:nvPicPr>
            <p:blipFill>
              <a:blip r:embed="rId4"/>
              <a:stretch/>
            </p:blipFill>
            <p:spPr>
              <a:xfrm>
                <a:off x="324000" y="5013000"/>
                <a:ext cx="2445480" cy="136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Rettangolo 44"/>
              <p:cNvSpPr/>
              <p:nvPr/>
            </p:nvSpPr>
            <p:spPr>
              <a:xfrm>
                <a:off x="812160" y="4653000"/>
                <a:ext cx="146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98989"/>
                    </a:solidFill>
                    <a:latin typeface="Calibri"/>
                  </a:rPr>
                  <a:t>fountain_la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ttangolo 54"/>
            <p:cNvSpPr/>
            <p:nvPr/>
          </p:nvSpPr>
          <p:spPr>
            <a:xfrm>
              <a:off x="2844360" y="5109120"/>
              <a:ext cx="18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st 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y F65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lo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plex 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uppo 60"/>
          <p:cNvGrpSpPr/>
          <p:nvPr/>
        </p:nvGrpSpPr>
        <p:grpSpPr>
          <a:xfrm>
            <a:off x="4788000" y="1989000"/>
            <a:ext cx="4321080" cy="1753560"/>
            <a:chOff x="4788000" y="1989000"/>
            <a:chExt cx="4321080" cy="1753560"/>
          </a:xfrm>
        </p:grpSpPr>
        <p:grpSp>
          <p:nvGrpSpPr>
            <p:cNvPr id="80" name="Gruppo 49"/>
            <p:cNvGrpSpPr/>
            <p:nvPr/>
          </p:nvGrpSpPr>
          <p:grpSpPr>
            <a:xfrm>
              <a:off x="4788000" y="1989000"/>
              <a:ext cx="2426040" cy="1746360"/>
              <a:chOff x="4788000" y="1989000"/>
              <a:chExt cx="2426040" cy="1746360"/>
            </a:xfrm>
          </p:grpSpPr>
          <p:pic>
            <p:nvPicPr>
              <p:cNvPr id="81" name="Picture 5" descr="Lupo_confetti"/>
              <p:cNvPicPr/>
              <p:nvPr/>
            </p:nvPicPr>
            <p:blipFill>
              <a:blip r:embed="rId5"/>
              <a:stretch/>
            </p:blipFill>
            <p:spPr>
              <a:xfrm>
                <a:off x="4788000" y="2367000"/>
                <a:ext cx="2426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CasellaDiTesto 48"/>
              <p:cNvSpPr/>
              <p:nvPr/>
            </p:nvSpPr>
            <p:spPr>
              <a:xfrm>
                <a:off x="5029200" y="1989000"/>
                <a:ext cx="194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98989"/>
                    </a:solidFill>
                    <a:latin typeface="Calibri"/>
                  </a:rPr>
                  <a:t>Lupo_confet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ttangolo 55"/>
            <p:cNvSpPr/>
            <p:nvPr/>
          </p:nvSpPr>
          <p:spPr>
            <a:xfrm>
              <a:off x="7236720" y="2277000"/>
              <a:ext cx="1872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st 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y F65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y complex motion with sparse 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ttangolo 61"/>
          <p:cNvSpPr/>
          <p:nvPr/>
        </p:nvSpPr>
        <p:spPr>
          <a:xfrm>
            <a:off x="7272360" y="42451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ny F65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gely tex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st set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rison betw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VC Main/Main 10 Profile (HM-10.0) ver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C High Profile/High 10 Profile (JM-18.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sts performed using common test conditions with configur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ntra (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(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Delay B (L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quences converted to 8-bit or 10-bit 4:2:0 Y’CbCr Rec.7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ded 250 frames (5 seconds) per sequ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40860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HEVC Main Profile vs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VC High Profile (8-bi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276640"/>
          <a:ext cx="8229600" cy="148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" name="Rettangolo 5"/>
          <p:cNvSpPr/>
          <p:nvPr/>
        </p:nvSpPr>
        <p:spPr>
          <a:xfrm>
            <a:off x="468360" y="41511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gains of HM10.0 over JM18.4 are around 25 % for AI, 45% for both RA and LB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HEVC Main 10 Profile v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 AVC High 10 Profile (10-bi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2276640"/>
          <a:ext cx="8229600" cy="148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Rettangolo 5"/>
          <p:cNvSpPr/>
          <p:nvPr/>
        </p:nvSpPr>
        <p:spPr>
          <a:xfrm>
            <a:off x="468360" y="41511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 are consistent with those of the previou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HEVC Main and Main 10 Profiles comparison conside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2276640"/>
          <a:ext cx="8229600" cy="148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6" name="Rettangolo 5"/>
          <p:cNvSpPr/>
          <p:nvPr/>
        </p:nvSpPr>
        <p:spPr>
          <a:xfrm>
            <a:off x="468360" y="41511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sults tend to show that for the considered versatile test material and test conditions, Main 10 profile outperforms Main profile BD-rate performances for 10-bit source inb terms of objective fidelity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nsidering 3840x2160 digitally acquired mater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VC (HM10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tter than (BD-r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.264/AVC (JM18.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25 % for All Int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45 % for Random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45% for Low Delay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2:22:57Z</dcterms:created>
  <dc:creator>Marco</dc:creator>
  <dc:description/>
  <dc:language>en-US</dc:language>
  <cp:lastModifiedBy>Andrivon Pierre</cp:lastModifiedBy>
  <dcterms:modified xsi:type="dcterms:W3CDTF">2013-05-21T13:55:08Z</dcterms:modified>
  <cp:revision>43</cp:revision>
  <dc:subject/>
  <dc:title>Comparison of Compression Performance of HEVC Draft 10 with AVC for UHD-1 material</dc:title>
</cp:coreProperties>
</file>