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82C3-CBCB-4F77-90DD-6578E48EC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1337-4424-4C4F-899B-2CA3C9A75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39680" y="422280"/>
            <a:ext cx="4743720" cy="3557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64680" y="275760"/>
            <a:ext cx="758988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3760" y="2851920"/>
            <a:ext cx="841212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94400" y="137124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8376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94400" y="2851920"/>
            <a:ext cx="41050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27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71760" y="137124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83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27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71760" y="2851920"/>
            <a:ext cx="2708280" cy="13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071-78CF-4E84-A095-479EF42E7C2C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AA9-6C79-4631-90F9-4EB06A3C62C9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6"/>
          <p:cNvSpPr/>
          <p:nvPr/>
        </p:nvSpPr>
        <p:spPr>
          <a:xfrm>
            <a:off x="0" y="0"/>
            <a:ext cx="914400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17E8-DF7D-479B-956E-C8DBBDCB2FA7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145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563400" y="1316160"/>
            <a:ext cx="8017200" cy="493848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logo.png"/>
          <p:cNvPicPr/>
          <p:nvPr/>
        </p:nvPicPr>
        <p:blipFill>
          <a:blip r:embed="rId5"/>
          <a:stretch/>
        </p:blipFill>
        <p:spPr>
          <a:xfrm>
            <a:off x="7524720" y="331920"/>
            <a:ext cx="1235160" cy="601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7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615C-1B8A-41B7-84FF-D39AE053C2EB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9" descr=""/>
          <p:cNvPicPr/>
          <p:nvPr/>
        </p:nvPicPr>
        <p:blipFill>
          <a:blip r:embed="rId3"/>
          <a:stretch/>
        </p:blipFill>
        <p:spPr>
          <a:xfrm>
            <a:off x="7527960" y="312840"/>
            <a:ext cx="1198440" cy="5950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6DEB-D102-4BFB-820D-8157A8F045B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0"/>
            <a:ext cx="9144000" cy="66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938160"/>
            <a:ext cx="9144000" cy="370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C19-C685-4A69-9BCE-259A3CFDD06F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rcRect l="0" t="0" r="0" b="4028"/>
          <a:stretch/>
        </p:blipFill>
        <p:spPr>
          <a:xfrm>
            <a:off x="0" y="0"/>
            <a:ext cx="9144000" cy="658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ogos-chip.png"/>
          <p:cNvPicPr/>
          <p:nvPr/>
        </p:nvPicPr>
        <p:blipFill>
          <a:blip r:embed="rId5"/>
          <a:stretch/>
        </p:blipFill>
        <p:spPr>
          <a:xfrm>
            <a:off x="287280" y="4218120"/>
            <a:ext cx="1922400" cy="2046240"/>
          </a:xfrm>
          <a:prstGeom prst="rect">
            <a:avLst/>
          </a:prstGeom>
          <a:ln w="0">
            <a:noFill/>
          </a:ln>
          <a:effectLst>
            <a:outerShdw dist="76320" dir="16200000" blurRad="0" rotWithShape="0">
              <a:srgbClr val="4b0912">
                <a:alpha val="30000"/>
              </a:srgbClr>
            </a:outerShdw>
          </a:effectLst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4BE4-3B12-47B0-AA86-52D0AFE11B7D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0" y="982800"/>
            <a:ext cx="9144000" cy="3520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82EF-B13C-4CF7-889D-BA2A3CC6CF1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6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0" y="1768320"/>
            <a:ext cx="9144000" cy="2779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5"/>
          <a:stretch/>
        </p:blipFill>
        <p:spPr>
          <a:xfrm>
            <a:off x="7527960" y="311040"/>
            <a:ext cx="1198440" cy="58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11B-A2DC-4A1E-9720-45C5AA70BCB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B983-9404-4912-890A-55253EF5248B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1F9-10B6-4A35-BBC5-7F6618A80421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8729640" y="6688080"/>
            <a:ext cx="3495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F250-744D-44AE-96E6-04C09D4E2A80}" type="slidenum">
              <a:rPr b="0" lang="en-US" sz="6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3" descr=""/>
          <p:cNvPicPr/>
          <p:nvPr/>
        </p:nvPicPr>
        <p:blipFill>
          <a:blip r:embed="rId3"/>
          <a:stretch/>
        </p:blipFill>
        <p:spPr>
          <a:xfrm>
            <a:off x="8129520" y="201600"/>
            <a:ext cx="817560" cy="40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/>
          <a:srcRect l="0" t="44114" r="0" b="0"/>
          <a:stretch/>
        </p:blipFill>
        <p:spPr>
          <a:xfrm>
            <a:off x="0" y="2786040"/>
            <a:ext cx="91440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383760" y="1371240"/>
            <a:ext cx="8412120" cy="283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-22464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852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14440" indent="-226080">
              <a:lnSpc>
                <a:spcPct val="90000"/>
              </a:lnSpc>
              <a:spcBef>
                <a:spcPts val="1199"/>
              </a:spcBef>
              <a:buClr>
                <a:srgbClr val="e3183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14440" indent="-226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650680" y="3220920"/>
            <a:ext cx="6069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OUNDING REDUNDANT SEI MESSA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CTVC-L03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2658960" y="4993920"/>
            <a:ext cx="6051600" cy="6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1230"/>
                </a:solidFill>
                <a:latin typeface="Arial"/>
              </a:rPr>
              <a:t>Wade Wan and Waqar Ahm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om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4680" y="275760"/>
            <a:ext cx="758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NDANT SEI MESS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Content Placeholder 2" descr=""/>
          <p:cNvPicPr/>
          <p:nvPr/>
        </p:nvPicPr>
        <p:blipFill>
          <a:blip r:embed="rId1"/>
          <a:stretch/>
        </p:blipFill>
        <p:spPr>
          <a:xfrm>
            <a:off x="244440" y="1274760"/>
            <a:ext cx="8734320" cy="541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23:20:13Z</dcterms:created>
  <dc:creator>Wade K. Wan</dc:creator>
  <dc:description/>
  <dc:language>en-US</dc:language>
  <cp:lastModifiedBy>Wade K. Wan</cp:lastModifiedBy>
  <dcterms:modified xsi:type="dcterms:W3CDTF">2013-01-16T08:44:45Z</dcterms:modified>
  <cp:revision>4</cp:revision>
  <dc:subject/>
  <dc:title>PowerPoint Presentation</dc:title>
</cp:coreProperties>
</file>