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F5B-C4EE-4461-9101-450195B6B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A4B-7186-47FF-AD28-F49CEC626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39680" y="42228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ADDE-9C91-4B5E-93C5-B9E9E1B0A9E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A35-02AE-4631-817A-8F8266F1F54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0" y="0"/>
            <a:ext cx="914400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5701-E5FE-4E9D-A29B-1AB2E61ADE6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0145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563400" y="1316160"/>
            <a:ext cx="8017200" cy="493848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logo.png"/>
          <p:cNvPicPr/>
          <p:nvPr/>
        </p:nvPicPr>
        <p:blipFill>
          <a:blip r:embed="rId5"/>
          <a:stretch/>
        </p:blipFill>
        <p:spPr>
          <a:xfrm>
            <a:off x="7524720" y="331920"/>
            <a:ext cx="1235160" cy="601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7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E30-D356-4C10-9123-CC03EF8ADD8A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9" descr=""/>
          <p:cNvPicPr/>
          <p:nvPr/>
        </p:nvPicPr>
        <p:blipFill>
          <a:blip r:embed="rId3"/>
          <a:stretch/>
        </p:blipFill>
        <p:spPr>
          <a:xfrm>
            <a:off x="7527960" y="312840"/>
            <a:ext cx="1198440" cy="595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3EE-0512-4FC4-BBA3-0B3DB876B701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6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0" y="938160"/>
            <a:ext cx="9144000" cy="370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8E3-A7E7-4AFA-B420-5BCCBE7C861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rcRect l="0" t="0" r="0" b="4028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logos-chip.png"/>
          <p:cNvPicPr/>
          <p:nvPr/>
        </p:nvPicPr>
        <p:blipFill>
          <a:blip r:embed="rId5"/>
          <a:stretch/>
        </p:blipFill>
        <p:spPr>
          <a:xfrm>
            <a:off x="287280" y="4218120"/>
            <a:ext cx="1922400" cy="2046240"/>
          </a:xfrm>
          <a:prstGeom prst="rect">
            <a:avLst/>
          </a:prstGeom>
          <a:ln w="0">
            <a:noFill/>
          </a:ln>
          <a:effectLst>
            <a:outerShdw dist="76320" dir="16200000" blurRad="0" rotWithShape="0">
              <a:srgbClr val="4b0912">
                <a:alpha val="30000"/>
              </a:srgbClr>
            </a:outerShdw>
          </a:effectLst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B194-33DA-419B-9D67-162DE07007D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0" y="982800"/>
            <a:ext cx="9144000" cy="3520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401-751B-4BC9-A986-97C47822497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0" y="1768320"/>
            <a:ext cx="9144000" cy="2779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905B-BABF-4EE9-9DAB-0308C13CBA5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A0F-F056-429B-AFAA-958031E5A0C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D843-5C7B-4869-803F-11887437633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ED1F-354D-4917-A777-6CD1CF7E5C3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650680" y="3220920"/>
            <a:ext cx="6069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IC SLICE NAL UNIT TYP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CTVC-L03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2658960" y="4993920"/>
            <a:ext cx="60516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1230"/>
                </a:solidFill>
                <a:latin typeface="Arial"/>
              </a:rPr>
              <a:t>Wade Wan, Brian Heng and Peisong 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om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L UNIT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3760" y="1371240"/>
            <a:ext cx="845820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ten different NAL unit types for a non-RAP slice NAL unit (along with six additional reserved yet-to-be-defined valu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IL_N, TRAIL_R, TSA_N, TSA_R, STSA_N, STSA_R, RADL_N, RADL_R, RASL_N, RASL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.264/AVC has two NAL unit types: IDR slice, non-IDR sl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erties of new NAL unit types not important/useful for som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oders can often determine this info on its own without explicit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ders may not want to spend resources to determine which of the new NAL uni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ders may not understand or be sure of correct NAL uni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early define a generic (default) slice NAL uni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LICE_N: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ded slice segment of a non-referenc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LICE_R: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ded slice segment of a referenc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23:20:13Z</dcterms:created>
  <dc:creator>Wade K. Wan</dc:creator>
  <dc:description/>
  <dc:language>en-US</dc:language>
  <cp:lastModifiedBy>Wade K. Wan</cp:lastModifiedBy>
  <dcterms:modified xsi:type="dcterms:W3CDTF">2013-01-16T10:47:39Z</dcterms:modified>
  <cp:revision>7</cp:revision>
  <dc:subject/>
  <dc:title>PowerPoint Presentation</dc:title>
</cp:coreProperties>
</file>