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12.jpeg" ContentType="image/jpeg"/>
  <Override PartName="/ppt/media/image1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AF9AF-EFF6-4C92-A51B-56C1040068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12AFD-B40F-4F7D-9B6C-ACEE008F1C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039680" y="42228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64680" y="275760"/>
            <a:ext cx="7589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3760" y="1371240"/>
            <a:ext cx="841212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3760" y="2851920"/>
            <a:ext cx="841212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64680" y="275760"/>
            <a:ext cx="7589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83760" y="1371240"/>
            <a:ext cx="4105080" cy="283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94400" y="1371240"/>
            <a:ext cx="4105080" cy="283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64680" y="275760"/>
            <a:ext cx="7589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64680" y="275760"/>
            <a:ext cx="7589880" cy="14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64680" y="275760"/>
            <a:ext cx="7589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83760" y="1371240"/>
            <a:ext cx="41050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94400" y="1371240"/>
            <a:ext cx="4105080" cy="283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83760" y="2851920"/>
            <a:ext cx="41050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64680" y="275760"/>
            <a:ext cx="7589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83760" y="1371240"/>
            <a:ext cx="4105080" cy="283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94400" y="1371240"/>
            <a:ext cx="41050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94400" y="2851920"/>
            <a:ext cx="41050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64680" y="275760"/>
            <a:ext cx="7589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83760" y="1371240"/>
            <a:ext cx="41050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94400" y="1371240"/>
            <a:ext cx="41050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83760" y="2851920"/>
            <a:ext cx="841212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64680" y="275760"/>
            <a:ext cx="7589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83760" y="1371240"/>
            <a:ext cx="841212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83760" y="2851920"/>
            <a:ext cx="841212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64680" y="275760"/>
            <a:ext cx="7589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83760" y="1371240"/>
            <a:ext cx="41050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94400" y="1371240"/>
            <a:ext cx="41050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83760" y="2851920"/>
            <a:ext cx="41050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94400" y="2851920"/>
            <a:ext cx="41050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64680" y="275760"/>
            <a:ext cx="7589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83760" y="1371240"/>
            <a:ext cx="27082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227760" y="1371240"/>
            <a:ext cx="27082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1760" y="1371240"/>
            <a:ext cx="27082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83760" y="2851920"/>
            <a:ext cx="27082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227760" y="2851920"/>
            <a:ext cx="27082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1760" y="2851920"/>
            <a:ext cx="27082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64680" y="275760"/>
            <a:ext cx="7589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3760" y="1371240"/>
            <a:ext cx="41050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94400" y="1371240"/>
            <a:ext cx="41050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3760" y="2851920"/>
            <a:ext cx="41050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94400" y="2851920"/>
            <a:ext cx="41050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64680" y="275760"/>
            <a:ext cx="7589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subTitle"/>
          </p:nvPr>
        </p:nvSpPr>
        <p:spPr>
          <a:xfrm>
            <a:off x="383760" y="1371240"/>
            <a:ext cx="8412120" cy="283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64680" y="275760"/>
            <a:ext cx="7589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83760" y="1371240"/>
            <a:ext cx="8412120" cy="283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64680" y="275760"/>
            <a:ext cx="7589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383760" y="1371240"/>
            <a:ext cx="4105080" cy="283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94400" y="1371240"/>
            <a:ext cx="4105080" cy="283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64680" y="275760"/>
            <a:ext cx="7589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ubTitle"/>
          </p:nvPr>
        </p:nvSpPr>
        <p:spPr>
          <a:xfrm>
            <a:off x="364680" y="275760"/>
            <a:ext cx="7589880" cy="14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364680" y="275760"/>
            <a:ext cx="7589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383760" y="1371240"/>
            <a:ext cx="41050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94400" y="1371240"/>
            <a:ext cx="4105080" cy="283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383760" y="2851920"/>
            <a:ext cx="41050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64680" y="275760"/>
            <a:ext cx="7589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83760" y="1371240"/>
            <a:ext cx="4105080" cy="283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94400" y="1371240"/>
            <a:ext cx="41050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694400" y="2851920"/>
            <a:ext cx="41050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364680" y="275760"/>
            <a:ext cx="7589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383760" y="1371240"/>
            <a:ext cx="41050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94400" y="1371240"/>
            <a:ext cx="41050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383760" y="2851920"/>
            <a:ext cx="841212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364680" y="275760"/>
            <a:ext cx="7589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383760" y="1371240"/>
            <a:ext cx="841212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383760" y="2851920"/>
            <a:ext cx="841212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64680" y="275760"/>
            <a:ext cx="7589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383760" y="1371240"/>
            <a:ext cx="41050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94400" y="1371240"/>
            <a:ext cx="41050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383760" y="2851920"/>
            <a:ext cx="41050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4694400" y="2851920"/>
            <a:ext cx="41050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64680" y="275760"/>
            <a:ext cx="7589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3760" y="1371240"/>
            <a:ext cx="27082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27760" y="1371240"/>
            <a:ext cx="27082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1760" y="1371240"/>
            <a:ext cx="27082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3760" y="2851920"/>
            <a:ext cx="27082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27760" y="2851920"/>
            <a:ext cx="27082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1760" y="2851920"/>
            <a:ext cx="27082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364680" y="275760"/>
            <a:ext cx="7589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383760" y="1371240"/>
            <a:ext cx="27082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3227760" y="1371240"/>
            <a:ext cx="27082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6071760" y="1371240"/>
            <a:ext cx="27082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383760" y="2851920"/>
            <a:ext cx="27082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6"/>
          <p:cNvSpPr>
            <a:spLocks noGrp="1"/>
          </p:cNvSpPr>
          <p:nvPr>
            <p:ph/>
          </p:nvPr>
        </p:nvSpPr>
        <p:spPr>
          <a:xfrm>
            <a:off x="3227760" y="2851920"/>
            <a:ext cx="27082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7"/>
          <p:cNvSpPr>
            <a:spLocks noGrp="1"/>
          </p:cNvSpPr>
          <p:nvPr>
            <p:ph/>
          </p:nvPr>
        </p:nvSpPr>
        <p:spPr>
          <a:xfrm>
            <a:off x="6071760" y="2851920"/>
            <a:ext cx="27082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364680" y="275760"/>
            <a:ext cx="7589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383760" y="1371240"/>
            <a:ext cx="8412120" cy="283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364680" y="275760"/>
            <a:ext cx="7589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383760" y="1371240"/>
            <a:ext cx="8412120" cy="283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364680" y="275760"/>
            <a:ext cx="7589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383760" y="1371240"/>
            <a:ext cx="4105080" cy="283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94400" y="1371240"/>
            <a:ext cx="4105080" cy="283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364680" y="275760"/>
            <a:ext cx="7589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ubTitle"/>
          </p:nvPr>
        </p:nvSpPr>
        <p:spPr>
          <a:xfrm>
            <a:off x="364680" y="275760"/>
            <a:ext cx="7589880" cy="14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364680" y="275760"/>
            <a:ext cx="7589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383760" y="1371240"/>
            <a:ext cx="41050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94400" y="1371240"/>
            <a:ext cx="4105080" cy="283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383760" y="2851920"/>
            <a:ext cx="41050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64680" y="275760"/>
            <a:ext cx="7589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83760" y="1371240"/>
            <a:ext cx="4105080" cy="283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94400" y="1371240"/>
            <a:ext cx="41050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694400" y="2851920"/>
            <a:ext cx="41050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364680" y="275760"/>
            <a:ext cx="7589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383760" y="1371240"/>
            <a:ext cx="41050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94400" y="1371240"/>
            <a:ext cx="41050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383760" y="2851920"/>
            <a:ext cx="841212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364680" y="275760"/>
            <a:ext cx="7589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383760" y="1371240"/>
            <a:ext cx="841212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83760" y="2851920"/>
            <a:ext cx="841212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364680" y="275760"/>
            <a:ext cx="7589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383760" y="1371240"/>
            <a:ext cx="41050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94400" y="1371240"/>
            <a:ext cx="41050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383760" y="2851920"/>
            <a:ext cx="41050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694400" y="2851920"/>
            <a:ext cx="41050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64680" y="275760"/>
            <a:ext cx="7589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83760" y="1371240"/>
            <a:ext cx="27082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3227760" y="1371240"/>
            <a:ext cx="27082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6071760" y="1371240"/>
            <a:ext cx="27082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383760" y="2851920"/>
            <a:ext cx="27082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6"/>
          <p:cNvSpPr>
            <a:spLocks noGrp="1"/>
          </p:cNvSpPr>
          <p:nvPr>
            <p:ph/>
          </p:nvPr>
        </p:nvSpPr>
        <p:spPr>
          <a:xfrm>
            <a:off x="3227760" y="2851920"/>
            <a:ext cx="27082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7"/>
          <p:cNvSpPr>
            <a:spLocks noGrp="1"/>
          </p:cNvSpPr>
          <p:nvPr>
            <p:ph/>
          </p:nvPr>
        </p:nvSpPr>
        <p:spPr>
          <a:xfrm>
            <a:off x="6071760" y="2851920"/>
            <a:ext cx="27082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364680" y="275760"/>
            <a:ext cx="7589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383760" y="1371240"/>
            <a:ext cx="8412120" cy="283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64680" y="275760"/>
            <a:ext cx="7589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383760" y="1371240"/>
            <a:ext cx="8412120" cy="283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64680" y="275760"/>
            <a:ext cx="7589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83760" y="1371240"/>
            <a:ext cx="4105080" cy="283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94400" y="1371240"/>
            <a:ext cx="4105080" cy="283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364680" y="275760"/>
            <a:ext cx="7589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364680" y="275760"/>
            <a:ext cx="7589880" cy="14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364680" y="275760"/>
            <a:ext cx="7589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383760" y="1371240"/>
            <a:ext cx="41050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94400" y="1371240"/>
            <a:ext cx="4105080" cy="283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383760" y="2851920"/>
            <a:ext cx="41050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64680" y="275760"/>
            <a:ext cx="7589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83760" y="1371240"/>
            <a:ext cx="8412120" cy="283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64680" y="275760"/>
            <a:ext cx="7589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83760" y="1371240"/>
            <a:ext cx="4105080" cy="283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94400" y="1371240"/>
            <a:ext cx="41050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94400" y="2851920"/>
            <a:ext cx="41050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364680" y="275760"/>
            <a:ext cx="7589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383760" y="1371240"/>
            <a:ext cx="41050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94400" y="1371240"/>
            <a:ext cx="41050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383760" y="2851920"/>
            <a:ext cx="841212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364680" y="275760"/>
            <a:ext cx="7589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383760" y="1371240"/>
            <a:ext cx="841212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83760" y="2851920"/>
            <a:ext cx="841212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64680" y="275760"/>
            <a:ext cx="7589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83760" y="1371240"/>
            <a:ext cx="41050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94400" y="1371240"/>
            <a:ext cx="41050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383760" y="2851920"/>
            <a:ext cx="41050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94400" y="2851920"/>
            <a:ext cx="41050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364680" y="275760"/>
            <a:ext cx="7589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383760" y="1371240"/>
            <a:ext cx="27082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227760" y="1371240"/>
            <a:ext cx="27082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071760" y="1371240"/>
            <a:ext cx="27082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383760" y="2851920"/>
            <a:ext cx="27082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227760" y="2851920"/>
            <a:ext cx="27082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071760" y="2851920"/>
            <a:ext cx="27082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64680" y="275760"/>
            <a:ext cx="7589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3760" y="1371240"/>
            <a:ext cx="8412120" cy="283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64680" y="275760"/>
            <a:ext cx="7589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3760" y="1371240"/>
            <a:ext cx="4105080" cy="283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94400" y="1371240"/>
            <a:ext cx="4105080" cy="283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64680" y="275760"/>
            <a:ext cx="7589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64680" y="275760"/>
            <a:ext cx="7589880" cy="14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64680" y="275760"/>
            <a:ext cx="7589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3760" y="1371240"/>
            <a:ext cx="41050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4400" y="1371240"/>
            <a:ext cx="4105080" cy="283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83760" y="2851920"/>
            <a:ext cx="41050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64680" y="275760"/>
            <a:ext cx="7589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3760" y="1371240"/>
            <a:ext cx="8412120" cy="283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64680" y="275760"/>
            <a:ext cx="7589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3760" y="1371240"/>
            <a:ext cx="4105080" cy="283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94400" y="1371240"/>
            <a:ext cx="41050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94400" y="2851920"/>
            <a:ext cx="41050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4680" y="275760"/>
            <a:ext cx="7589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3760" y="1371240"/>
            <a:ext cx="41050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94400" y="1371240"/>
            <a:ext cx="41050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83760" y="2851920"/>
            <a:ext cx="841212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64680" y="275760"/>
            <a:ext cx="7589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3760" y="1371240"/>
            <a:ext cx="841212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83760" y="2851920"/>
            <a:ext cx="841212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64680" y="275760"/>
            <a:ext cx="7589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3760" y="1371240"/>
            <a:ext cx="41050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94400" y="1371240"/>
            <a:ext cx="41050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83760" y="2851920"/>
            <a:ext cx="41050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94400" y="2851920"/>
            <a:ext cx="41050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64680" y="275760"/>
            <a:ext cx="7589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3760" y="1371240"/>
            <a:ext cx="27082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27760" y="1371240"/>
            <a:ext cx="27082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1760" y="1371240"/>
            <a:ext cx="27082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83760" y="2851920"/>
            <a:ext cx="27082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27760" y="2851920"/>
            <a:ext cx="27082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1760" y="2851920"/>
            <a:ext cx="27082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64680" y="275760"/>
            <a:ext cx="7589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383760" y="1371240"/>
            <a:ext cx="8412120" cy="283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64680" y="275760"/>
            <a:ext cx="7589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3760" y="1371240"/>
            <a:ext cx="8412120" cy="283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64680" y="275760"/>
            <a:ext cx="7589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3760" y="1371240"/>
            <a:ext cx="4105080" cy="283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94400" y="1371240"/>
            <a:ext cx="4105080" cy="283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64680" y="275760"/>
            <a:ext cx="7589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64680" y="275760"/>
            <a:ext cx="7589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3760" y="1371240"/>
            <a:ext cx="8412120" cy="283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364680" y="275760"/>
            <a:ext cx="7589880" cy="14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64680" y="275760"/>
            <a:ext cx="7589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3760" y="1371240"/>
            <a:ext cx="41050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94400" y="1371240"/>
            <a:ext cx="4105080" cy="283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383760" y="2851920"/>
            <a:ext cx="41050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64680" y="275760"/>
            <a:ext cx="7589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3760" y="1371240"/>
            <a:ext cx="4105080" cy="283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94400" y="1371240"/>
            <a:ext cx="41050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94400" y="2851920"/>
            <a:ext cx="41050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64680" y="275760"/>
            <a:ext cx="7589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3760" y="1371240"/>
            <a:ext cx="41050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94400" y="1371240"/>
            <a:ext cx="41050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383760" y="2851920"/>
            <a:ext cx="841212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64680" y="275760"/>
            <a:ext cx="7589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3760" y="1371240"/>
            <a:ext cx="841212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83760" y="2851920"/>
            <a:ext cx="841212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64680" y="275760"/>
            <a:ext cx="7589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83760" y="1371240"/>
            <a:ext cx="41050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4400" y="1371240"/>
            <a:ext cx="41050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83760" y="2851920"/>
            <a:ext cx="41050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94400" y="2851920"/>
            <a:ext cx="41050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64680" y="275760"/>
            <a:ext cx="7589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83760" y="1371240"/>
            <a:ext cx="27082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27760" y="1371240"/>
            <a:ext cx="27082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71760" y="1371240"/>
            <a:ext cx="27082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383760" y="2851920"/>
            <a:ext cx="27082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27760" y="2851920"/>
            <a:ext cx="27082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71760" y="2851920"/>
            <a:ext cx="27082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64680" y="275760"/>
            <a:ext cx="7589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383760" y="1371240"/>
            <a:ext cx="8412120" cy="283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64680" y="275760"/>
            <a:ext cx="7589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83760" y="1371240"/>
            <a:ext cx="8412120" cy="283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64680" y="275760"/>
            <a:ext cx="7589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3760" y="1371240"/>
            <a:ext cx="4105080" cy="283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94400" y="1371240"/>
            <a:ext cx="4105080" cy="283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64680" y="275760"/>
            <a:ext cx="7589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83760" y="1371240"/>
            <a:ext cx="4105080" cy="283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94400" y="1371240"/>
            <a:ext cx="4105080" cy="283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64680" y="275760"/>
            <a:ext cx="7589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364680" y="275760"/>
            <a:ext cx="7589880" cy="14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64680" y="275760"/>
            <a:ext cx="7589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83760" y="1371240"/>
            <a:ext cx="41050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4400" y="1371240"/>
            <a:ext cx="4105080" cy="283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383760" y="2851920"/>
            <a:ext cx="41050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64680" y="275760"/>
            <a:ext cx="7589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83760" y="1371240"/>
            <a:ext cx="4105080" cy="283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94400" y="1371240"/>
            <a:ext cx="41050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94400" y="2851920"/>
            <a:ext cx="41050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64680" y="275760"/>
            <a:ext cx="7589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3760" y="1371240"/>
            <a:ext cx="41050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94400" y="1371240"/>
            <a:ext cx="41050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383760" y="2851920"/>
            <a:ext cx="841212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64680" y="275760"/>
            <a:ext cx="7589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3760" y="1371240"/>
            <a:ext cx="841212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83760" y="2851920"/>
            <a:ext cx="841212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64680" y="275760"/>
            <a:ext cx="7589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3760" y="1371240"/>
            <a:ext cx="41050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94400" y="1371240"/>
            <a:ext cx="41050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383760" y="2851920"/>
            <a:ext cx="41050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94400" y="2851920"/>
            <a:ext cx="41050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64680" y="275760"/>
            <a:ext cx="7589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3760" y="1371240"/>
            <a:ext cx="27082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227760" y="1371240"/>
            <a:ext cx="27082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71760" y="1371240"/>
            <a:ext cx="27082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383760" y="2851920"/>
            <a:ext cx="27082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227760" y="2851920"/>
            <a:ext cx="27082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071760" y="2851920"/>
            <a:ext cx="27082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64680" y="275760"/>
            <a:ext cx="7589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64680" y="275760"/>
            <a:ext cx="7589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383760" y="1371240"/>
            <a:ext cx="8412120" cy="283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64680" y="275760"/>
            <a:ext cx="7589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3760" y="1371240"/>
            <a:ext cx="8412120" cy="283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64680" y="275760"/>
            <a:ext cx="7589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83760" y="1371240"/>
            <a:ext cx="4105080" cy="283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94400" y="1371240"/>
            <a:ext cx="4105080" cy="283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64680" y="275760"/>
            <a:ext cx="7589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ubTitle"/>
          </p:nvPr>
        </p:nvSpPr>
        <p:spPr>
          <a:xfrm>
            <a:off x="364680" y="275760"/>
            <a:ext cx="7589880" cy="14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64680" y="275760"/>
            <a:ext cx="7589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83760" y="1371240"/>
            <a:ext cx="41050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94400" y="1371240"/>
            <a:ext cx="4105080" cy="283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3760" y="2851920"/>
            <a:ext cx="41050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64680" y="275760"/>
            <a:ext cx="7589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3760" y="1371240"/>
            <a:ext cx="4105080" cy="283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4400" y="1371240"/>
            <a:ext cx="41050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694400" y="2851920"/>
            <a:ext cx="41050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64680" y="275760"/>
            <a:ext cx="7589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83760" y="1371240"/>
            <a:ext cx="41050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4400" y="1371240"/>
            <a:ext cx="41050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383760" y="2851920"/>
            <a:ext cx="841212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64680" y="275760"/>
            <a:ext cx="7589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83760" y="1371240"/>
            <a:ext cx="841212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83760" y="2851920"/>
            <a:ext cx="841212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64680" y="275760"/>
            <a:ext cx="7589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83760" y="1371240"/>
            <a:ext cx="41050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94400" y="1371240"/>
            <a:ext cx="41050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383760" y="2851920"/>
            <a:ext cx="41050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694400" y="2851920"/>
            <a:ext cx="41050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64680" y="275760"/>
            <a:ext cx="7589880" cy="14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64680" y="275760"/>
            <a:ext cx="7589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83760" y="1371240"/>
            <a:ext cx="27082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3227760" y="1371240"/>
            <a:ext cx="27082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071760" y="1371240"/>
            <a:ext cx="27082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383760" y="2851920"/>
            <a:ext cx="27082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/>
          </p:nvPr>
        </p:nvSpPr>
        <p:spPr>
          <a:xfrm>
            <a:off x="3227760" y="2851920"/>
            <a:ext cx="27082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7"/>
          <p:cNvSpPr>
            <a:spLocks noGrp="1"/>
          </p:cNvSpPr>
          <p:nvPr>
            <p:ph/>
          </p:nvPr>
        </p:nvSpPr>
        <p:spPr>
          <a:xfrm>
            <a:off x="6071760" y="2851920"/>
            <a:ext cx="27082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64680" y="275760"/>
            <a:ext cx="7589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383760" y="1371240"/>
            <a:ext cx="8412120" cy="283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64680" y="275760"/>
            <a:ext cx="7589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83760" y="1371240"/>
            <a:ext cx="8412120" cy="283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64680" y="275760"/>
            <a:ext cx="7589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83760" y="1371240"/>
            <a:ext cx="4105080" cy="283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94400" y="1371240"/>
            <a:ext cx="4105080" cy="283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64680" y="275760"/>
            <a:ext cx="7589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364680" y="275760"/>
            <a:ext cx="7589880" cy="14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64680" y="275760"/>
            <a:ext cx="7589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83760" y="1371240"/>
            <a:ext cx="41050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94400" y="1371240"/>
            <a:ext cx="4105080" cy="283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383760" y="2851920"/>
            <a:ext cx="41050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64680" y="275760"/>
            <a:ext cx="7589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383760" y="1371240"/>
            <a:ext cx="4105080" cy="283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94400" y="1371240"/>
            <a:ext cx="41050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94400" y="2851920"/>
            <a:ext cx="41050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64680" y="275760"/>
            <a:ext cx="7589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3760" y="1371240"/>
            <a:ext cx="41050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94400" y="1371240"/>
            <a:ext cx="41050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383760" y="2851920"/>
            <a:ext cx="841212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64680" y="275760"/>
            <a:ext cx="7589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3760" y="1371240"/>
            <a:ext cx="41050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94400" y="1371240"/>
            <a:ext cx="4105080" cy="283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3760" y="2851920"/>
            <a:ext cx="41050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64680" y="275760"/>
            <a:ext cx="7589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83760" y="1371240"/>
            <a:ext cx="841212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83760" y="2851920"/>
            <a:ext cx="841212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64680" y="275760"/>
            <a:ext cx="7589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83760" y="1371240"/>
            <a:ext cx="41050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94400" y="1371240"/>
            <a:ext cx="41050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83760" y="2851920"/>
            <a:ext cx="41050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94400" y="2851920"/>
            <a:ext cx="41050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64680" y="275760"/>
            <a:ext cx="7589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83760" y="1371240"/>
            <a:ext cx="27082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27760" y="1371240"/>
            <a:ext cx="27082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71760" y="1371240"/>
            <a:ext cx="27082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383760" y="2851920"/>
            <a:ext cx="27082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27760" y="2851920"/>
            <a:ext cx="27082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71760" y="2851920"/>
            <a:ext cx="27082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64680" y="275760"/>
            <a:ext cx="7589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383760" y="1371240"/>
            <a:ext cx="8412120" cy="283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64680" y="275760"/>
            <a:ext cx="7589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83760" y="1371240"/>
            <a:ext cx="8412120" cy="283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64680" y="275760"/>
            <a:ext cx="7589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383760" y="1371240"/>
            <a:ext cx="4105080" cy="283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94400" y="1371240"/>
            <a:ext cx="4105080" cy="283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64680" y="275760"/>
            <a:ext cx="7589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364680" y="275760"/>
            <a:ext cx="7589880" cy="14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64680" y="275760"/>
            <a:ext cx="7589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83760" y="1371240"/>
            <a:ext cx="41050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94400" y="1371240"/>
            <a:ext cx="4105080" cy="283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383760" y="2851920"/>
            <a:ext cx="41050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64680" y="275760"/>
            <a:ext cx="7589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3760" y="1371240"/>
            <a:ext cx="4105080" cy="283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4400" y="1371240"/>
            <a:ext cx="41050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94400" y="2851920"/>
            <a:ext cx="41050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64680" y="275760"/>
            <a:ext cx="7589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383760" y="1371240"/>
            <a:ext cx="4105080" cy="283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94400" y="1371240"/>
            <a:ext cx="41050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694400" y="2851920"/>
            <a:ext cx="41050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64680" y="275760"/>
            <a:ext cx="7589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383760" y="1371240"/>
            <a:ext cx="41050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94400" y="1371240"/>
            <a:ext cx="41050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383760" y="2851920"/>
            <a:ext cx="841212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64680" y="275760"/>
            <a:ext cx="7589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83760" y="1371240"/>
            <a:ext cx="841212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83760" y="2851920"/>
            <a:ext cx="841212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64680" y="275760"/>
            <a:ext cx="7589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383760" y="1371240"/>
            <a:ext cx="41050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94400" y="1371240"/>
            <a:ext cx="41050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383760" y="2851920"/>
            <a:ext cx="41050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694400" y="2851920"/>
            <a:ext cx="41050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64680" y="275760"/>
            <a:ext cx="7589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83760" y="1371240"/>
            <a:ext cx="27082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227760" y="1371240"/>
            <a:ext cx="27082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071760" y="1371240"/>
            <a:ext cx="27082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383760" y="2851920"/>
            <a:ext cx="27082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227760" y="2851920"/>
            <a:ext cx="27082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071760" y="2851920"/>
            <a:ext cx="27082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64680" y="275760"/>
            <a:ext cx="7589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383760" y="1371240"/>
            <a:ext cx="8412120" cy="283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364680" y="275760"/>
            <a:ext cx="7589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383760" y="1371240"/>
            <a:ext cx="8412120" cy="283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64680" y="275760"/>
            <a:ext cx="7589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83760" y="1371240"/>
            <a:ext cx="4105080" cy="283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94400" y="1371240"/>
            <a:ext cx="4105080" cy="283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64680" y="275760"/>
            <a:ext cx="7589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64680" y="275760"/>
            <a:ext cx="7589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3760" y="1371240"/>
            <a:ext cx="41050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4400" y="1371240"/>
            <a:ext cx="41050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3760" y="2851920"/>
            <a:ext cx="841212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364680" y="275760"/>
            <a:ext cx="7589880" cy="14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364680" y="275760"/>
            <a:ext cx="7589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383760" y="1371240"/>
            <a:ext cx="41050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94400" y="1371240"/>
            <a:ext cx="4105080" cy="283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383760" y="2851920"/>
            <a:ext cx="41050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64680" y="275760"/>
            <a:ext cx="7589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83760" y="1371240"/>
            <a:ext cx="4105080" cy="283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94400" y="1371240"/>
            <a:ext cx="41050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694400" y="2851920"/>
            <a:ext cx="41050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64680" y="275760"/>
            <a:ext cx="7589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83760" y="1371240"/>
            <a:ext cx="41050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94400" y="1371240"/>
            <a:ext cx="41050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383760" y="2851920"/>
            <a:ext cx="841212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364680" y="275760"/>
            <a:ext cx="7589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383760" y="1371240"/>
            <a:ext cx="841212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383760" y="2851920"/>
            <a:ext cx="841212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64680" y="275760"/>
            <a:ext cx="7589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383760" y="1371240"/>
            <a:ext cx="41050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94400" y="1371240"/>
            <a:ext cx="41050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383760" y="2851920"/>
            <a:ext cx="41050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694400" y="2851920"/>
            <a:ext cx="41050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64680" y="275760"/>
            <a:ext cx="7589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83760" y="1371240"/>
            <a:ext cx="27082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227760" y="1371240"/>
            <a:ext cx="27082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071760" y="1371240"/>
            <a:ext cx="27082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383760" y="2851920"/>
            <a:ext cx="27082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227760" y="2851920"/>
            <a:ext cx="27082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6071760" y="2851920"/>
            <a:ext cx="27082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64680" y="275760"/>
            <a:ext cx="7589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83760" y="1371240"/>
            <a:ext cx="8412120" cy="283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64680" y="275760"/>
            <a:ext cx="7589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83760" y="1371240"/>
            <a:ext cx="8412120" cy="283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10.jpe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21.xml"/><Relationship Id="rId7" Type="http://schemas.openxmlformats.org/officeDocument/2006/relationships/slideLayout" Target="../slideLayouts/slideLayout122.xml"/><Relationship Id="rId8" Type="http://schemas.openxmlformats.org/officeDocument/2006/relationships/slideLayout" Target="../slideLayouts/slideLayout123.xml"/><Relationship Id="rId9" Type="http://schemas.openxmlformats.org/officeDocument/2006/relationships/slideLayout" Target="../slideLayouts/slideLayout124.xml"/><Relationship Id="rId10" Type="http://schemas.openxmlformats.org/officeDocument/2006/relationships/slideLayout" Target="../slideLayouts/slideLayout125.xml"/><Relationship Id="rId11" Type="http://schemas.openxmlformats.org/officeDocument/2006/relationships/slideLayout" Target="../slideLayouts/slideLayout126.xml"/><Relationship Id="rId12" Type="http://schemas.openxmlformats.org/officeDocument/2006/relationships/slideLayout" Target="../slideLayouts/slideLayout127.xml"/><Relationship Id="rId13" Type="http://schemas.openxmlformats.org/officeDocument/2006/relationships/slideLayout" Target="../slideLayouts/slideLayout128.xml"/><Relationship Id="rId14" Type="http://schemas.openxmlformats.org/officeDocument/2006/relationships/slideLayout" Target="../slideLayouts/slideLayout129.xml"/><Relationship Id="rId15" Type="http://schemas.openxmlformats.org/officeDocument/2006/relationships/slideLayout" Target="../slideLayouts/slideLayout130.xml"/><Relationship Id="rId16" Type="http://schemas.openxmlformats.org/officeDocument/2006/relationships/slideLayout" Target="../slideLayouts/slideLayout131.xml"/><Relationship Id="rId17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5.jpe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7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8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0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8208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64680" y="275760"/>
            <a:ext cx="7589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3760" y="1371240"/>
            <a:ext cx="8412120" cy="283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26080" indent="-226080">
              <a:lnSpc>
                <a:spcPct val="90000"/>
              </a:lnSpc>
              <a:spcBef>
                <a:spcPts val="1199"/>
              </a:spcBef>
              <a:buClr>
                <a:srgbClr val="e3183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9040" indent="-224640">
              <a:lnSpc>
                <a:spcPct val="90000"/>
              </a:lnSpc>
              <a:spcBef>
                <a:spcPts val="1199"/>
              </a:spcBef>
              <a:buClr>
                <a:srgbClr val="e3183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48520" indent="-226080">
              <a:lnSpc>
                <a:spcPct val="90000"/>
              </a:lnSpc>
              <a:spcBef>
                <a:spcPts val="1199"/>
              </a:spcBef>
              <a:buClr>
                <a:srgbClr val="e3183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131480" indent="-226080">
              <a:lnSpc>
                <a:spcPct val="90000"/>
              </a:lnSpc>
              <a:spcBef>
                <a:spcPts val="1199"/>
              </a:spcBef>
              <a:buClr>
                <a:srgbClr val="e3183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14440" indent="-226080">
              <a:lnSpc>
                <a:spcPct val="90000"/>
              </a:lnSpc>
              <a:spcBef>
                <a:spcPts val="1199"/>
              </a:spcBef>
              <a:buClr>
                <a:srgbClr val="e3183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414440" indent="-226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414440" indent="-226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Box 8"/>
          <p:cNvSpPr/>
          <p:nvPr/>
        </p:nvSpPr>
        <p:spPr>
          <a:xfrm>
            <a:off x="8729640" y="6688080"/>
            <a:ext cx="349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906DA-B571-4B8F-BD47-CCAC746EF547}" type="slidenum">
              <a:rPr b="0" lang="en-US" sz="6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13" descr=""/>
          <p:cNvPicPr/>
          <p:nvPr/>
        </p:nvPicPr>
        <p:blipFill>
          <a:blip r:embed="rId3"/>
          <a:stretch/>
        </p:blipFill>
        <p:spPr>
          <a:xfrm>
            <a:off x="8129520" y="201600"/>
            <a:ext cx="817560" cy="405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Picture 10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820800"/>
          </a:xfrm>
          <a:prstGeom prst="rect">
            <a:avLst/>
          </a:prstGeom>
          <a:ln w="0">
            <a:noFill/>
          </a:ln>
        </p:spPr>
      </p:pic>
      <p:sp>
        <p:nvSpPr>
          <p:cNvPr id="385" name="TextBox 8"/>
          <p:cNvSpPr/>
          <p:nvPr/>
        </p:nvSpPr>
        <p:spPr>
          <a:xfrm>
            <a:off x="8729640" y="6688080"/>
            <a:ext cx="349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C3CB9-2631-4FFD-9BB6-C128E853E7B3}" type="slidenum">
              <a:rPr b="0" lang="en-US" sz="6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Picture 13" descr=""/>
          <p:cNvPicPr/>
          <p:nvPr/>
        </p:nvPicPr>
        <p:blipFill>
          <a:blip r:embed="rId3"/>
          <a:stretch/>
        </p:blipFill>
        <p:spPr>
          <a:xfrm>
            <a:off x="8129520" y="201600"/>
            <a:ext cx="817560" cy="405000"/>
          </a:xfrm>
          <a:prstGeom prst="rect">
            <a:avLst/>
          </a:prstGeom>
          <a:ln w="0">
            <a:noFill/>
          </a:ln>
        </p:spPr>
      </p:pic>
      <p:sp>
        <p:nvSpPr>
          <p:cNvPr id="387" name="Rectangle 6"/>
          <p:cNvSpPr/>
          <p:nvPr/>
        </p:nvSpPr>
        <p:spPr>
          <a:xfrm>
            <a:off x="0" y="0"/>
            <a:ext cx="9144000" cy="93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64680" y="275760"/>
            <a:ext cx="7589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383760" y="1371240"/>
            <a:ext cx="8412120" cy="283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26080" indent="-226080">
              <a:lnSpc>
                <a:spcPct val="90000"/>
              </a:lnSpc>
              <a:spcBef>
                <a:spcPts val="1199"/>
              </a:spcBef>
              <a:buClr>
                <a:srgbClr val="e3183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9040" indent="-224640">
              <a:lnSpc>
                <a:spcPct val="90000"/>
              </a:lnSpc>
              <a:spcBef>
                <a:spcPts val="1199"/>
              </a:spcBef>
              <a:buClr>
                <a:srgbClr val="e3183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48520" indent="-226080">
              <a:lnSpc>
                <a:spcPct val="90000"/>
              </a:lnSpc>
              <a:spcBef>
                <a:spcPts val="1199"/>
              </a:spcBef>
              <a:buClr>
                <a:srgbClr val="e3183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131480" indent="-226080">
              <a:lnSpc>
                <a:spcPct val="90000"/>
              </a:lnSpc>
              <a:spcBef>
                <a:spcPts val="1199"/>
              </a:spcBef>
              <a:buClr>
                <a:srgbClr val="e3183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14440" indent="-226080">
              <a:lnSpc>
                <a:spcPct val="90000"/>
              </a:lnSpc>
              <a:spcBef>
                <a:spcPts val="1199"/>
              </a:spcBef>
              <a:buClr>
                <a:srgbClr val="e3183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414440" indent="-226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414440" indent="-226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Picture 10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820800"/>
          </a:xfrm>
          <a:prstGeom prst="rect">
            <a:avLst/>
          </a:prstGeom>
          <a:ln w="0">
            <a:noFill/>
          </a:ln>
        </p:spPr>
      </p:pic>
      <p:sp>
        <p:nvSpPr>
          <p:cNvPr id="427" name="TextBox 8"/>
          <p:cNvSpPr/>
          <p:nvPr/>
        </p:nvSpPr>
        <p:spPr>
          <a:xfrm>
            <a:off x="8729640" y="6688080"/>
            <a:ext cx="349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CCE46-0200-4DB6-95CF-26E38B1BBBCD}" type="slidenum">
              <a:rPr b="0" lang="en-US" sz="6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8" name="Picture 13" descr=""/>
          <p:cNvPicPr/>
          <p:nvPr/>
        </p:nvPicPr>
        <p:blipFill>
          <a:blip r:embed="rId3"/>
          <a:stretch/>
        </p:blipFill>
        <p:spPr>
          <a:xfrm>
            <a:off x="8129520" y="201600"/>
            <a:ext cx="817560" cy="40500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6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2014560"/>
          </a:xfrm>
          <a:prstGeom prst="rect">
            <a:avLst/>
          </a:prstGeom>
          <a:ln w="0">
            <a:noFill/>
          </a:ln>
        </p:spPr>
      </p:pic>
      <p:sp>
        <p:nvSpPr>
          <p:cNvPr id="430" name="Rectangle 7"/>
          <p:cNvSpPr/>
          <p:nvPr/>
        </p:nvSpPr>
        <p:spPr>
          <a:xfrm>
            <a:off x="563400" y="1316160"/>
            <a:ext cx="8017200" cy="4938480"/>
          </a:xfrm>
          <a:prstGeom prst="rect">
            <a:avLst/>
          </a:prstGeom>
          <a:solidFill>
            <a:srgbClr val="f8f8f8"/>
          </a:solidFill>
          <a:ln w="0">
            <a:noFill/>
          </a:ln>
          <a:effectLst>
            <a:outerShdw dist="153753" dir="27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Picture 9" descr="logo.png"/>
          <p:cNvPicPr/>
          <p:nvPr/>
        </p:nvPicPr>
        <p:blipFill>
          <a:blip r:embed="rId5"/>
          <a:stretch/>
        </p:blipFill>
        <p:spPr>
          <a:xfrm>
            <a:off x="7524720" y="331920"/>
            <a:ext cx="1235160" cy="601560"/>
          </a:xfrm>
          <a:prstGeom prst="rect">
            <a:avLst/>
          </a:prstGeom>
          <a:ln w="0">
            <a:noFill/>
          </a:ln>
        </p:spPr>
      </p:pic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364680" y="275760"/>
            <a:ext cx="7589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383760" y="1371240"/>
            <a:ext cx="8412120" cy="283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26080" indent="-226080">
              <a:lnSpc>
                <a:spcPct val="90000"/>
              </a:lnSpc>
              <a:spcBef>
                <a:spcPts val="1199"/>
              </a:spcBef>
              <a:buClr>
                <a:srgbClr val="e3183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9040" indent="-224640">
              <a:lnSpc>
                <a:spcPct val="90000"/>
              </a:lnSpc>
              <a:spcBef>
                <a:spcPts val="1199"/>
              </a:spcBef>
              <a:buClr>
                <a:srgbClr val="e3183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48520" indent="-226080">
              <a:lnSpc>
                <a:spcPct val="90000"/>
              </a:lnSpc>
              <a:spcBef>
                <a:spcPts val="1199"/>
              </a:spcBef>
              <a:buClr>
                <a:srgbClr val="e3183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131480" indent="-226080">
              <a:lnSpc>
                <a:spcPct val="90000"/>
              </a:lnSpc>
              <a:spcBef>
                <a:spcPts val="1199"/>
              </a:spcBef>
              <a:buClr>
                <a:srgbClr val="e3183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14440" indent="-226080">
              <a:lnSpc>
                <a:spcPct val="90000"/>
              </a:lnSpc>
              <a:spcBef>
                <a:spcPts val="1199"/>
              </a:spcBef>
              <a:buClr>
                <a:srgbClr val="e3183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414440" indent="-226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414440" indent="-226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6"/>
    <p:sldLayoutId id="2147483780" r:id="rId7"/>
    <p:sldLayoutId id="2147483781" r:id="rId8"/>
    <p:sldLayoutId id="2147483782" r:id="rId9"/>
    <p:sldLayoutId id="2147483783" r:id="rId10"/>
    <p:sldLayoutId id="2147483784" r:id="rId11"/>
    <p:sldLayoutId id="2147483785" r:id="rId12"/>
    <p:sldLayoutId id="2147483786" r:id="rId13"/>
    <p:sldLayoutId id="2147483787" r:id="rId14"/>
    <p:sldLayoutId id="2147483788" r:id="rId15"/>
    <p:sldLayoutId id="2147483789" r:id="rId16"/>
    <p:sldLayoutId id="2147483790" r:id="rId17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0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1" name="TextBox 7"/>
          <p:cNvSpPr/>
          <p:nvPr/>
        </p:nvSpPr>
        <p:spPr>
          <a:xfrm>
            <a:off x="8729640" y="6688080"/>
            <a:ext cx="349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DEF95-5255-4C7F-9307-26FE4377ACC5}" type="slidenum">
              <a:rPr b="0" lang="en-US" sz="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2" name="Picture 9" descr=""/>
          <p:cNvPicPr/>
          <p:nvPr/>
        </p:nvPicPr>
        <p:blipFill>
          <a:blip r:embed="rId3"/>
          <a:stretch/>
        </p:blipFill>
        <p:spPr>
          <a:xfrm>
            <a:off x="7527960" y="312840"/>
            <a:ext cx="1198440" cy="595080"/>
          </a:xfrm>
          <a:prstGeom prst="rect">
            <a:avLst/>
          </a:prstGeom>
          <a:ln w="0">
            <a:noFill/>
          </a:ln>
        </p:spPr>
      </p:pic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364680" y="275760"/>
            <a:ext cx="7589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383760" y="1371240"/>
            <a:ext cx="8412120" cy="283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26080" indent="-226080">
              <a:lnSpc>
                <a:spcPct val="90000"/>
              </a:lnSpc>
              <a:spcBef>
                <a:spcPts val="1199"/>
              </a:spcBef>
              <a:buClr>
                <a:srgbClr val="e3183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9040" indent="-224640">
              <a:lnSpc>
                <a:spcPct val="90000"/>
              </a:lnSpc>
              <a:spcBef>
                <a:spcPts val="1199"/>
              </a:spcBef>
              <a:buClr>
                <a:srgbClr val="e3183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48520" indent="-226080">
              <a:lnSpc>
                <a:spcPct val="90000"/>
              </a:lnSpc>
              <a:spcBef>
                <a:spcPts val="1199"/>
              </a:spcBef>
              <a:buClr>
                <a:srgbClr val="e3183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131480" indent="-226080">
              <a:lnSpc>
                <a:spcPct val="90000"/>
              </a:lnSpc>
              <a:spcBef>
                <a:spcPts val="1199"/>
              </a:spcBef>
              <a:buClr>
                <a:srgbClr val="e3183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14440" indent="-226080">
              <a:lnSpc>
                <a:spcPct val="90000"/>
              </a:lnSpc>
              <a:spcBef>
                <a:spcPts val="1199"/>
              </a:spcBef>
              <a:buClr>
                <a:srgbClr val="e3183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414440" indent="-226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414440" indent="-226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0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820800"/>
          </a:xfrm>
          <a:prstGeom prst="rect">
            <a:avLst/>
          </a:prstGeom>
          <a:ln w="0">
            <a:noFill/>
          </a:ln>
        </p:spPr>
      </p:pic>
      <p:sp>
        <p:nvSpPr>
          <p:cNvPr id="42" name="TextBox 8"/>
          <p:cNvSpPr/>
          <p:nvPr/>
        </p:nvSpPr>
        <p:spPr>
          <a:xfrm>
            <a:off x="8729640" y="6688080"/>
            <a:ext cx="349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ACD33-CAB6-448C-967C-82CE0C2BBCE5}" type="slidenum">
              <a:rPr b="0" lang="en-US" sz="6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"/>
          <p:cNvPicPr/>
          <p:nvPr/>
        </p:nvPicPr>
        <p:blipFill>
          <a:blip r:embed="rId3"/>
          <a:stretch/>
        </p:blipFill>
        <p:spPr>
          <a:xfrm>
            <a:off x="8129520" y="201600"/>
            <a:ext cx="817560" cy="40500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6"/>
          <p:cNvSpPr/>
          <p:nvPr/>
        </p:nvSpPr>
        <p:spPr>
          <a:xfrm>
            <a:off x="0" y="0"/>
            <a:ext cx="9144000" cy="6656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7" descr=""/>
          <p:cNvPicPr/>
          <p:nvPr/>
        </p:nvPicPr>
        <p:blipFill>
          <a:blip r:embed="rId4"/>
          <a:stretch/>
        </p:blipFill>
        <p:spPr>
          <a:xfrm>
            <a:off x="0" y="938160"/>
            <a:ext cx="9144000" cy="37083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9" descr=""/>
          <p:cNvPicPr/>
          <p:nvPr/>
        </p:nvPicPr>
        <p:blipFill>
          <a:blip r:embed="rId5"/>
          <a:stretch/>
        </p:blipFill>
        <p:spPr>
          <a:xfrm>
            <a:off x="7527960" y="311040"/>
            <a:ext cx="1198440" cy="5857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64680" y="275760"/>
            <a:ext cx="7589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383760" y="1371240"/>
            <a:ext cx="8412120" cy="283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26080" indent="-226080">
              <a:lnSpc>
                <a:spcPct val="90000"/>
              </a:lnSpc>
              <a:spcBef>
                <a:spcPts val="1199"/>
              </a:spcBef>
              <a:buClr>
                <a:srgbClr val="e3183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9040" indent="-224640">
              <a:lnSpc>
                <a:spcPct val="90000"/>
              </a:lnSpc>
              <a:spcBef>
                <a:spcPts val="1199"/>
              </a:spcBef>
              <a:buClr>
                <a:srgbClr val="e3183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48520" indent="-226080">
              <a:lnSpc>
                <a:spcPct val="90000"/>
              </a:lnSpc>
              <a:spcBef>
                <a:spcPts val="1199"/>
              </a:spcBef>
              <a:buClr>
                <a:srgbClr val="e3183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131480" indent="-226080">
              <a:lnSpc>
                <a:spcPct val="90000"/>
              </a:lnSpc>
              <a:spcBef>
                <a:spcPts val="1199"/>
              </a:spcBef>
              <a:buClr>
                <a:srgbClr val="e3183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14440" indent="-226080">
              <a:lnSpc>
                <a:spcPct val="90000"/>
              </a:lnSpc>
              <a:spcBef>
                <a:spcPts val="1199"/>
              </a:spcBef>
              <a:buClr>
                <a:srgbClr val="e3183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414440" indent="-226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414440" indent="-226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10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820800"/>
          </a:xfrm>
          <a:prstGeom prst="rect">
            <a:avLst/>
          </a:prstGeom>
          <a:ln w="0">
            <a:noFill/>
          </a:ln>
        </p:spPr>
      </p:pic>
      <p:sp>
        <p:nvSpPr>
          <p:cNvPr id="86" name="TextBox 8"/>
          <p:cNvSpPr/>
          <p:nvPr/>
        </p:nvSpPr>
        <p:spPr>
          <a:xfrm>
            <a:off x="8729640" y="6688080"/>
            <a:ext cx="349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25A5B-A90C-4146-9317-75D6A16546D5}" type="slidenum">
              <a:rPr b="0" lang="en-US" sz="6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13" descr=""/>
          <p:cNvPicPr/>
          <p:nvPr/>
        </p:nvPicPr>
        <p:blipFill>
          <a:blip r:embed="rId3"/>
          <a:stretch/>
        </p:blipFill>
        <p:spPr>
          <a:xfrm>
            <a:off x="8129520" y="201600"/>
            <a:ext cx="817560" cy="4050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6" descr=""/>
          <p:cNvPicPr/>
          <p:nvPr/>
        </p:nvPicPr>
        <p:blipFill>
          <a:blip r:embed="rId4"/>
          <a:srcRect l="0" t="0" r="0" b="4028"/>
          <a:stretch/>
        </p:blipFill>
        <p:spPr>
          <a:xfrm>
            <a:off x="0" y="0"/>
            <a:ext cx="9144000" cy="65818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7" descr="logos-chip.png"/>
          <p:cNvPicPr/>
          <p:nvPr/>
        </p:nvPicPr>
        <p:blipFill>
          <a:blip r:embed="rId5"/>
          <a:stretch/>
        </p:blipFill>
        <p:spPr>
          <a:xfrm>
            <a:off x="287280" y="4218120"/>
            <a:ext cx="1922400" cy="2046240"/>
          </a:xfrm>
          <a:prstGeom prst="rect">
            <a:avLst/>
          </a:prstGeom>
          <a:ln w="0">
            <a:noFill/>
          </a:ln>
          <a:effectLst>
            <a:outerShdw dist="76320" dir="16200000" blurRad="0" rotWithShape="0">
              <a:srgbClr val="4b0912">
                <a:alpha val="30000"/>
              </a:srgbClr>
            </a:outerShdw>
          </a:effectLst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64680" y="275760"/>
            <a:ext cx="7589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383760" y="1371240"/>
            <a:ext cx="8412120" cy="283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26080" indent="-226080">
              <a:lnSpc>
                <a:spcPct val="90000"/>
              </a:lnSpc>
              <a:spcBef>
                <a:spcPts val="1199"/>
              </a:spcBef>
              <a:buClr>
                <a:srgbClr val="e3183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9040" indent="-224640">
              <a:lnSpc>
                <a:spcPct val="90000"/>
              </a:lnSpc>
              <a:spcBef>
                <a:spcPts val="1199"/>
              </a:spcBef>
              <a:buClr>
                <a:srgbClr val="e3183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48520" indent="-226080">
              <a:lnSpc>
                <a:spcPct val="90000"/>
              </a:lnSpc>
              <a:spcBef>
                <a:spcPts val="1199"/>
              </a:spcBef>
              <a:buClr>
                <a:srgbClr val="e3183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131480" indent="-226080">
              <a:lnSpc>
                <a:spcPct val="90000"/>
              </a:lnSpc>
              <a:spcBef>
                <a:spcPts val="1199"/>
              </a:spcBef>
              <a:buClr>
                <a:srgbClr val="e3183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14440" indent="-226080">
              <a:lnSpc>
                <a:spcPct val="90000"/>
              </a:lnSpc>
              <a:spcBef>
                <a:spcPts val="1199"/>
              </a:spcBef>
              <a:buClr>
                <a:srgbClr val="e3183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414440" indent="-226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414440" indent="-226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10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820800"/>
          </a:xfrm>
          <a:prstGeom prst="rect">
            <a:avLst/>
          </a:prstGeom>
          <a:ln w="0">
            <a:noFill/>
          </a:ln>
        </p:spPr>
      </p:pic>
      <p:sp>
        <p:nvSpPr>
          <p:cNvPr id="129" name="TextBox 8"/>
          <p:cNvSpPr/>
          <p:nvPr/>
        </p:nvSpPr>
        <p:spPr>
          <a:xfrm>
            <a:off x="8729640" y="6688080"/>
            <a:ext cx="349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7FA3F-FFE8-4544-A0E0-DE75269D4A29}" type="slidenum">
              <a:rPr b="0" lang="en-US" sz="6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13" descr=""/>
          <p:cNvPicPr/>
          <p:nvPr/>
        </p:nvPicPr>
        <p:blipFill>
          <a:blip r:embed="rId3"/>
          <a:stretch/>
        </p:blipFill>
        <p:spPr>
          <a:xfrm>
            <a:off x="8129520" y="201600"/>
            <a:ext cx="817560" cy="40500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6"/>
          <p:cNvSpPr/>
          <p:nvPr/>
        </p:nvSpPr>
        <p:spPr>
          <a:xfrm>
            <a:off x="0" y="0"/>
            <a:ext cx="9144000" cy="90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7" descr=""/>
          <p:cNvPicPr/>
          <p:nvPr/>
        </p:nvPicPr>
        <p:blipFill>
          <a:blip r:embed="rId4"/>
          <a:stretch/>
        </p:blipFill>
        <p:spPr>
          <a:xfrm>
            <a:off x="0" y="982800"/>
            <a:ext cx="9144000" cy="35208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9" descr=""/>
          <p:cNvPicPr/>
          <p:nvPr/>
        </p:nvPicPr>
        <p:blipFill>
          <a:blip r:embed="rId5"/>
          <a:stretch/>
        </p:blipFill>
        <p:spPr>
          <a:xfrm>
            <a:off x="7527960" y="311040"/>
            <a:ext cx="1198440" cy="5857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64680" y="275760"/>
            <a:ext cx="7589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383760" y="1371240"/>
            <a:ext cx="8412120" cy="283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26080" indent="-226080">
              <a:lnSpc>
                <a:spcPct val="90000"/>
              </a:lnSpc>
              <a:spcBef>
                <a:spcPts val="1199"/>
              </a:spcBef>
              <a:buClr>
                <a:srgbClr val="e3183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9040" indent="-224640">
              <a:lnSpc>
                <a:spcPct val="90000"/>
              </a:lnSpc>
              <a:spcBef>
                <a:spcPts val="1199"/>
              </a:spcBef>
              <a:buClr>
                <a:srgbClr val="e3183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48520" indent="-226080">
              <a:lnSpc>
                <a:spcPct val="90000"/>
              </a:lnSpc>
              <a:spcBef>
                <a:spcPts val="1199"/>
              </a:spcBef>
              <a:buClr>
                <a:srgbClr val="e3183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131480" indent="-226080">
              <a:lnSpc>
                <a:spcPct val="90000"/>
              </a:lnSpc>
              <a:spcBef>
                <a:spcPts val="1199"/>
              </a:spcBef>
              <a:buClr>
                <a:srgbClr val="e3183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14440" indent="-226080">
              <a:lnSpc>
                <a:spcPct val="90000"/>
              </a:lnSpc>
              <a:spcBef>
                <a:spcPts val="1199"/>
              </a:spcBef>
              <a:buClr>
                <a:srgbClr val="e3183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414440" indent="-226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414440" indent="-226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10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820800"/>
          </a:xfrm>
          <a:prstGeom prst="rect">
            <a:avLst/>
          </a:prstGeom>
          <a:ln w="0">
            <a:noFill/>
          </a:ln>
        </p:spPr>
      </p:pic>
      <p:sp>
        <p:nvSpPr>
          <p:cNvPr id="173" name="TextBox 8"/>
          <p:cNvSpPr/>
          <p:nvPr/>
        </p:nvSpPr>
        <p:spPr>
          <a:xfrm>
            <a:off x="8729640" y="6688080"/>
            <a:ext cx="349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37E3B-08FA-460C-A44C-97ADCC3F20BC}" type="slidenum">
              <a:rPr b="0" lang="en-US" sz="6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13" descr=""/>
          <p:cNvPicPr/>
          <p:nvPr/>
        </p:nvPicPr>
        <p:blipFill>
          <a:blip r:embed="rId3"/>
          <a:stretch/>
        </p:blipFill>
        <p:spPr>
          <a:xfrm>
            <a:off x="8129520" y="201600"/>
            <a:ext cx="817560" cy="405000"/>
          </a:xfrm>
          <a:prstGeom prst="rect">
            <a:avLst/>
          </a:prstGeom>
          <a:ln w="0">
            <a:noFill/>
          </a:ln>
        </p:spPr>
      </p:pic>
      <p:sp>
        <p:nvSpPr>
          <p:cNvPr id="175" name="Rectangle 6"/>
          <p:cNvSpPr/>
          <p:nvPr/>
        </p:nvSpPr>
        <p:spPr>
          <a:xfrm>
            <a:off x="0" y="0"/>
            <a:ext cx="9144000" cy="90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7" descr=""/>
          <p:cNvPicPr/>
          <p:nvPr/>
        </p:nvPicPr>
        <p:blipFill>
          <a:blip r:embed="rId4"/>
          <a:stretch/>
        </p:blipFill>
        <p:spPr>
          <a:xfrm>
            <a:off x="0" y="1768320"/>
            <a:ext cx="9144000" cy="277992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9" descr=""/>
          <p:cNvPicPr/>
          <p:nvPr/>
        </p:nvPicPr>
        <p:blipFill>
          <a:blip r:embed="rId5"/>
          <a:stretch/>
        </p:blipFill>
        <p:spPr>
          <a:xfrm>
            <a:off x="7527960" y="311040"/>
            <a:ext cx="1198440" cy="58572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64680" y="275760"/>
            <a:ext cx="7589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383760" y="1371240"/>
            <a:ext cx="8412120" cy="283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26080" indent="-226080">
              <a:lnSpc>
                <a:spcPct val="90000"/>
              </a:lnSpc>
              <a:spcBef>
                <a:spcPts val="1199"/>
              </a:spcBef>
              <a:buClr>
                <a:srgbClr val="e3183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9040" indent="-224640">
              <a:lnSpc>
                <a:spcPct val="90000"/>
              </a:lnSpc>
              <a:spcBef>
                <a:spcPts val="1199"/>
              </a:spcBef>
              <a:buClr>
                <a:srgbClr val="e3183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48520" indent="-226080">
              <a:lnSpc>
                <a:spcPct val="90000"/>
              </a:lnSpc>
              <a:spcBef>
                <a:spcPts val="1199"/>
              </a:spcBef>
              <a:buClr>
                <a:srgbClr val="e3183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131480" indent="-226080">
              <a:lnSpc>
                <a:spcPct val="90000"/>
              </a:lnSpc>
              <a:spcBef>
                <a:spcPts val="1199"/>
              </a:spcBef>
              <a:buClr>
                <a:srgbClr val="e3183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14440" indent="-226080">
              <a:lnSpc>
                <a:spcPct val="90000"/>
              </a:lnSpc>
              <a:spcBef>
                <a:spcPts val="1199"/>
              </a:spcBef>
              <a:buClr>
                <a:srgbClr val="e3183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414440" indent="-226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414440" indent="-226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10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820800"/>
          </a:xfrm>
          <a:prstGeom prst="rect">
            <a:avLst/>
          </a:prstGeom>
          <a:ln w="0">
            <a:noFill/>
          </a:ln>
        </p:spPr>
      </p:pic>
      <p:sp>
        <p:nvSpPr>
          <p:cNvPr id="217" name="TextBox 8"/>
          <p:cNvSpPr/>
          <p:nvPr/>
        </p:nvSpPr>
        <p:spPr>
          <a:xfrm>
            <a:off x="8729640" y="6688080"/>
            <a:ext cx="349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AF177-880C-4849-9579-11568BFD2E54}" type="slidenum">
              <a:rPr b="0" lang="en-US" sz="6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13" descr=""/>
          <p:cNvPicPr/>
          <p:nvPr/>
        </p:nvPicPr>
        <p:blipFill>
          <a:blip r:embed="rId3"/>
          <a:stretch/>
        </p:blipFill>
        <p:spPr>
          <a:xfrm>
            <a:off x="8129520" y="201600"/>
            <a:ext cx="817560" cy="40500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6" descr=""/>
          <p:cNvPicPr/>
          <p:nvPr/>
        </p:nvPicPr>
        <p:blipFill>
          <a:blip r:embed="rId4"/>
          <a:srcRect l="0" t="44114" r="0" b="0"/>
          <a:stretch/>
        </p:blipFill>
        <p:spPr>
          <a:xfrm>
            <a:off x="0" y="2786040"/>
            <a:ext cx="9144000" cy="3832200"/>
          </a:xfrm>
          <a:prstGeom prst="rect">
            <a:avLst/>
          </a:prstGeom>
          <a:ln w="0">
            <a:noFill/>
          </a:ln>
        </p:spPr>
      </p:pic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64680" y="275760"/>
            <a:ext cx="7589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383760" y="1371240"/>
            <a:ext cx="8412120" cy="283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26080" indent="-226080">
              <a:lnSpc>
                <a:spcPct val="90000"/>
              </a:lnSpc>
              <a:spcBef>
                <a:spcPts val="1199"/>
              </a:spcBef>
              <a:buClr>
                <a:srgbClr val="e3183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9040" indent="-224640">
              <a:lnSpc>
                <a:spcPct val="90000"/>
              </a:lnSpc>
              <a:spcBef>
                <a:spcPts val="1199"/>
              </a:spcBef>
              <a:buClr>
                <a:srgbClr val="e3183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48520" indent="-226080">
              <a:lnSpc>
                <a:spcPct val="90000"/>
              </a:lnSpc>
              <a:spcBef>
                <a:spcPts val="1199"/>
              </a:spcBef>
              <a:buClr>
                <a:srgbClr val="e3183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131480" indent="-226080">
              <a:lnSpc>
                <a:spcPct val="90000"/>
              </a:lnSpc>
              <a:spcBef>
                <a:spcPts val="1199"/>
              </a:spcBef>
              <a:buClr>
                <a:srgbClr val="e3183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14440" indent="-226080">
              <a:lnSpc>
                <a:spcPct val="90000"/>
              </a:lnSpc>
              <a:spcBef>
                <a:spcPts val="1199"/>
              </a:spcBef>
              <a:buClr>
                <a:srgbClr val="e3183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414440" indent="-226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414440" indent="-226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10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820800"/>
          </a:xfrm>
          <a:prstGeom prst="rect">
            <a:avLst/>
          </a:prstGeom>
          <a:ln w="0">
            <a:noFill/>
          </a:ln>
        </p:spPr>
      </p:pic>
      <p:sp>
        <p:nvSpPr>
          <p:cNvPr id="259" name="TextBox 8"/>
          <p:cNvSpPr/>
          <p:nvPr/>
        </p:nvSpPr>
        <p:spPr>
          <a:xfrm>
            <a:off x="8729640" y="6688080"/>
            <a:ext cx="349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5FB8C-8C1A-4880-BD2F-5FC54A186DEF}" type="slidenum">
              <a:rPr b="0" lang="en-US" sz="6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Picture 13" descr=""/>
          <p:cNvPicPr/>
          <p:nvPr/>
        </p:nvPicPr>
        <p:blipFill>
          <a:blip r:embed="rId3"/>
          <a:stretch/>
        </p:blipFill>
        <p:spPr>
          <a:xfrm>
            <a:off x="8129520" y="201600"/>
            <a:ext cx="817560" cy="40500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6" descr=""/>
          <p:cNvPicPr/>
          <p:nvPr/>
        </p:nvPicPr>
        <p:blipFill>
          <a:blip r:embed="rId4"/>
          <a:srcRect l="0" t="44114" r="0" b="0"/>
          <a:stretch/>
        </p:blipFill>
        <p:spPr>
          <a:xfrm>
            <a:off x="0" y="2786040"/>
            <a:ext cx="9144000" cy="3832200"/>
          </a:xfrm>
          <a:prstGeom prst="rect">
            <a:avLst/>
          </a:prstGeom>
          <a:ln w="0">
            <a:noFill/>
          </a:ln>
        </p:spPr>
      </p:pic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64680" y="275760"/>
            <a:ext cx="7589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383760" y="1371240"/>
            <a:ext cx="8412120" cy="283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26080" indent="-226080">
              <a:lnSpc>
                <a:spcPct val="90000"/>
              </a:lnSpc>
              <a:spcBef>
                <a:spcPts val="1199"/>
              </a:spcBef>
              <a:buClr>
                <a:srgbClr val="e3183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9040" indent="-224640">
              <a:lnSpc>
                <a:spcPct val="90000"/>
              </a:lnSpc>
              <a:spcBef>
                <a:spcPts val="1199"/>
              </a:spcBef>
              <a:buClr>
                <a:srgbClr val="e3183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48520" indent="-226080">
              <a:lnSpc>
                <a:spcPct val="90000"/>
              </a:lnSpc>
              <a:spcBef>
                <a:spcPts val="1199"/>
              </a:spcBef>
              <a:buClr>
                <a:srgbClr val="e3183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131480" indent="-226080">
              <a:lnSpc>
                <a:spcPct val="90000"/>
              </a:lnSpc>
              <a:spcBef>
                <a:spcPts val="1199"/>
              </a:spcBef>
              <a:buClr>
                <a:srgbClr val="e3183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14440" indent="-226080">
              <a:lnSpc>
                <a:spcPct val="90000"/>
              </a:lnSpc>
              <a:spcBef>
                <a:spcPts val="1199"/>
              </a:spcBef>
              <a:buClr>
                <a:srgbClr val="e3183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414440" indent="-226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414440" indent="-226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Picture 10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820800"/>
          </a:xfrm>
          <a:prstGeom prst="rect">
            <a:avLst/>
          </a:prstGeom>
          <a:ln w="0">
            <a:noFill/>
          </a:ln>
        </p:spPr>
      </p:pic>
      <p:sp>
        <p:nvSpPr>
          <p:cNvPr id="301" name="TextBox 8"/>
          <p:cNvSpPr/>
          <p:nvPr/>
        </p:nvSpPr>
        <p:spPr>
          <a:xfrm>
            <a:off x="8729640" y="6688080"/>
            <a:ext cx="349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AB2D5-251A-4253-8F96-1AF5744BE5F4}" type="slidenum">
              <a:rPr b="0" lang="en-US" sz="6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Picture 13" descr=""/>
          <p:cNvPicPr/>
          <p:nvPr/>
        </p:nvPicPr>
        <p:blipFill>
          <a:blip r:embed="rId3"/>
          <a:stretch/>
        </p:blipFill>
        <p:spPr>
          <a:xfrm>
            <a:off x="8129520" y="201600"/>
            <a:ext cx="817560" cy="40500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6" descr=""/>
          <p:cNvPicPr/>
          <p:nvPr/>
        </p:nvPicPr>
        <p:blipFill>
          <a:blip r:embed="rId4"/>
          <a:srcRect l="0" t="44114" r="0" b="0"/>
          <a:stretch/>
        </p:blipFill>
        <p:spPr>
          <a:xfrm>
            <a:off x="0" y="2786040"/>
            <a:ext cx="9144000" cy="3832200"/>
          </a:xfrm>
          <a:prstGeom prst="rect">
            <a:avLst/>
          </a:prstGeom>
          <a:ln w="0">
            <a:noFill/>
          </a:ln>
        </p:spPr>
      </p:pic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64680" y="275760"/>
            <a:ext cx="7589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383760" y="1371240"/>
            <a:ext cx="8412120" cy="283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26080" indent="-226080">
              <a:lnSpc>
                <a:spcPct val="90000"/>
              </a:lnSpc>
              <a:spcBef>
                <a:spcPts val="1199"/>
              </a:spcBef>
              <a:buClr>
                <a:srgbClr val="e3183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9040" indent="-224640">
              <a:lnSpc>
                <a:spcPct val="90000"/>
              </a:lnSpc>
              <a:spcBef>
                <a:spcPts val="1199"/>
              </a:spcBef>
              <a:buClr>
                <a:srgbClr val="e3183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48520" indent="-226080">
              <a:lnSpc>
                <a:spcPct val="90000"/>
              </a:lnSpc>
              <a:spcBef>
                <a:spcPts val="1199"/>
              </a:spcBef>
              <a:buClr>
                <a:srgbClr val="e3183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131480" indent="-226080">
              <a:lnSpc>
                <a:spcPct val="90000"/>
              </a:lnSpc>
              <a:spcBef>
                <a:spcPts val="1199"/>
              </a:spcBef>
              <a:buClr>
                <a:srgbClr val="e3183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14440" indent="-226080">
              <a:lnSpc>
                <a:spcPct val="90000"/>
              </a:lnSpc>
              <a:spcBef>
                <a:spcPts val="1199"/>
              </a:spcBef>
              <a:buClr>
                <a:srgbClr val="e3183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414440" indent="-226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414440" indent="-226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Picture 10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820800"/>
          </a:xfrm>
          <a:prstGeom prst="rect">
            <a:avLst/>
          </a:prstGeom>
          <a:ln w="0">
            <a:noFill/>
          </a:ln>
        </p:spPr>
      </p:pic>
      <p:sp>
        <p:nvSpPr>
          <p:cNvPr id="343" name="TextBox 8"/>
          <p:cNvSpPr/>
          <p:nvPr/>
        </p:nvSpPr>
        <p:spPr>
          <a:xfrm>
            <a:off x="8729640" y="6688080"/>
            <a:ext cx="349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93F51-F0E1-4C01-B51F-64F32792A880}" type="slidenum">
              <a:rPr b="0" lang="en-US" sz="6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Picture 13" descr=""/>
          <p:cNvPicPr/>
          <p:nvPr/>
        </p:nvPicPr>
        <p:blipFill>
          <a:blip r:embed="rId3"/>
          <a:stretch/>
        </p:blipFill>
        <p:spPr>
          <a:xfrm>
            <a:off x="8129520" y="201600"/>
            <a:ext cx="817560" cy="40500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6" descr=""/>
          <p:cNvPicPr/>
          <p:nvPr/>
        </p:nvPicPr>
        <p:blipFill>
          <a:blip r:embed="rId4"/>
          <a:srcRect l="0" t="44114" r="0" b="0"/>
          <a:stretch/>
        </p:blipFill>
        <p:spPr>
          <a:xfrm>
            <a:off x="0" y="2786040"/>
            <a:ext cx="9144000" cy="3832200"/>
          </a:xfrm>
          <a:prstGeom prst="rect">
            <a:avLst/>
          </a:prstGeom>
          <a:ln w="0">
            <a:noFill/>
          </a:ln>
        </p:spPr>
      </p:pic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64680" y="275760"/>
            <a:ext cx="7589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383760" y="1371240"/>
            <a:ext cx="8412120" cy="283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26080" indent="-226080">
              <a:lnSpc>
                <a:spcPct val="90000"/>
              </a:lnSpc>
              <a:spcBef>
                <a:spcPts val="1199"/>
              </a:spcBef>
              <a:buClr>
                <a:srgbClr val="e3183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9040" indent="-224640">
              <a:lnSpc>
                <a:spcPct val="90000"/>
              </a:lnSpc>
              <a:spcBef>
                <a:spcPts val="1199"/>
              </a:spcBef>
              <a:buClr>
                <a:srgbClr val="e3183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48520" indent="-226080">
              <a:lnSpc>
                <a:spcPct val="90000"/>
              </a:lnSpc>
              <a:spcBef>
                <a:spcPts val="1199"/>
              </a:spcBef>
              <a:buClr>
                <a:srgbClr val="e3183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131480" indent="-226080">
              <a:lnSpc>
                <a:spcPct val="90000"/>
              </a:lnSpc>
              <a:spcBef>
                <a:spcPts val="1199"/>
              </a:spcBef>
              <a:buClr>
                <a:srgbClr val="e3183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14440" indent="-226080">
              <a:lnSpc>
                <a:spcPct val="90000"/>
              </a:lnSpc>
              <a:spcBef>
                <a:spcPts val="1199"/>
              </a:spcBef>
              <a:buClr>
                <a:srgbClr val="e3183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414440" indent="-226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414440" indent="-226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/>
          </p:nvPr>
        </p:nvSpPr>
        <p:spPr>
          <a:xfrm>
            <a:off x="2650680" y="2958840"/>
            <a:ext cx="606924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000" spc="-1" strike="noStrike">
                <a:solidFill>
                  <a:srgbClr val="ffffff"/>
                </a:solidFill>
                <a:latin typeface="Arial"/>
              </a:rPr>
              <a:t>SPECIFICATION OF ACTIVE REFERENCE INDICES AND DECODED PICTURE BUFFER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CTVC-L032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subTitle"/>
          </p:nvPr>
        </p:nvSpPr>
        <p:spPr>
          <a:xfrm>
            <a:off x="2658960" y="4993920"/>
            <a:ext cx="6051600" cy="64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41230"/>
                </a:solidFill>
                <a:latin typeface="Arial"/>
              </a:rPr>
              <a:t>Zhijie Yang, Brian Heng and Wade W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oadcom Corpor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64680" y="275760"/>
            <a:ext cx="7589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CODED PICTURE BUFFER (DPB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"/>
          <p:cNvSpPr txBox="1"/>
          <p:nvPr/>
        </p:nvSpPr>
        <p:spPr>
          <a:xfrm>
            <a:off x="383760" y="1371240"/>
            <a:ext cx="845820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99"/>
              </a:spcBef>
              <a:buClr>
                <a:srgbClr val="e3183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.264/AV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227160">
              <a:lnSpc>
                <a:spcPct val="90000"/>
              </a:lnSpc>
              <a:spcBef>
                <a:spcPts val="400"/>
              </a:spcBef>
              <a:buClr>
                <a:srgbClr val="e3183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rrent picture stored in separate buffer from DP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227160">
              <a:lnSpc>
                <a:spcPct val="90000"/>
              </a:lnSpc>
              <a:spcBef>
                <a:spcPts val="400"/>
              </a:spcBef>
              <a:buClr>
                <a:srgbClr val="e3183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x number of reference frames = DPB si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99"/>
              </a:spcBef>
              <a:buClr>
                <a:srgbClr val="e3183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urrent HEVC tex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227160">
              <a:lnSpc>
                <a:spcPct val="90000"/>
              </a:lnSpc>
              <a:spcBef>
                <a:spcPts val="400"/>
              </a:spcBef>
              <a:buClr>
                <a:srgbClr val="e3183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rrent picture directly stored in DP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227160">
              <a:lnSpc>
                <a:spcPct val="90000"/>
              </a:lnSpc>
              <a:spcBef>
                <a:spcPts val="400"/>
              </a:spcBef>
              <a:buClr>
                <a:srgbClr val="e3183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x number of reference frames = DPB size –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99"/>
              </a:spcBef>
              <a:buClr>
                <a:srgbClr val="e3183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ce causes some values that were valid in H.264/AVC to no longer be valid or consistent for HEV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99"/>
              </a:spcBef>
              <a:buClr>
                <a:srgbClr val="e3183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cern: Encoders incorrectly use “one too many” reference fram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99"/>
              </a:spcBef>
              <a:buClr>
                <a:srgbClr val="e3183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posal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227160">
              <a:lnSpc>
                <a:spcPct val="90000"/>
              </a:lnSpc>
              <a:spcBef>
                <a:spcPts val="400"/>
              </a:spcBef>
              <a:buClr>
                <a:srgbClr val="e3183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uce max number of active reference indices from 16 to 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227160">
              <a:lnSpc>
                <a:spcPct val="90000"/>
              </a:lnSpc>
              <a:spcBef>
                <a:spcPts val="400"/>
              </a:spcBef>
              <a:buClr>
                <a:srgbClr val="e3183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 min size of decoded picture buffer from 0 to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227160">
              <a:lnSpc>
                <a:spcPct val="90000"/>
              </a:lnSpc>
              <a:spcBef>
                <a:spcPts val="400"/>
              </a:spcBef>
              <a:buClr>
                <a:srgbClr val="e3183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uce max number of all types of reference pictures by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227160">
              <a:lnSpc>
                <a:spcPct val="90000"/>
              </a:lnSpc>
              <a:spcBef>
                <a:spcPts val="400"/>
              </a:spcBef>
              <a:buClr>
                <a:srgbClr val="e3183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99"/>
              </a:spcBef>
              <a:buClr>
                <a:srgbClr val="e3183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64680" y="275760"/>
            <a:ext cx="7589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AX NUMBER OF ACTIVE REFERENCE INDIC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 txBox="1"/>
          <p:nvPr/>
        </p:nvSpPr>
        <p:spPr>
          <a:xfrm>
            <a:off x="383760" y="1371600"/>
            <a:ext cx="8458200" cy="42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99"/>
              </a:spcBef>
              <a:buClr>
                <a:srgbClr val="e3183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x DPB size = 16 and max num of reference pictures = 1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99"/>
              </a:spcBef>
              <a:buClr>
                <a:srgbClr val="e3183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t max num of active reference indices = 16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99"/>
              </a:spcBef>
              <a:buClr>
                <a:srgbClr val="e3183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though reference picture list could be filled up using duplicate reference pictures, suggest change to so specification is clearer and more consistent with convention in H.264/AV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99"/>
              </a:spcBef>
              <a:buClr>
                <a:srgbClr val="e3183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99"/>
              </a:spcBef>
              <a:buClr>
                <a:srgbClr val="e3183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posal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227160">
              <a:lnSpc>
                <a:spcPct val="90000"/>
              </a:lnSpc>
              <a:spcBef>
                <a:spcPts val="400"/>
              </a:spcBef>
              <a:buClr>
                <a:srgbClr val="e3183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uce max number of active reference indices from 16 to 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227160">
              <a:lnSpc>
                <a:spcPct val="90000"/>
              </a:lnSpc>
              <a:spcBef>
                <a:spcPts val="400"/>
              </a:spcBef>
              <a:buClr>
                <a:srgbClr val="e3183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specifically, changing max value for these parameters from 15 to 14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228600">
              <a:lnSpc>
                <a:spcPct val="90000"/>
              </a:lnSpc>
              <a:spcBef>
                <a:spcPts val="400"/>
              </a:spcBef>
              <a:buClr>
                <a:srgbClr val="e3183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um_ref_idx_l0_default_active_minus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228600">
              <a:lnSpc>
                <a:spcPct val="90000"/>
              </a:lnSpc>
              <a:spcBef>
                <a:spcPts val="400"/>
              </a:spcBef>
              <a:buClr>
                <a:srgbClr val="e3183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um_ref_idx_l1_default_active_minus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228600">
              <a:lnSpc>
                <a:spcPct val="90000"/>
              </a:lnSpc>
              <a:spcBef>
                <a:spcPts val="400"/>
              </a:spcBef>
              <a:buClr>
                <a:srgbClr val="e3183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um_ref_idx_l0_active_minus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228600">
              <a:lnSpc>
                <a:spcPct val="90000"/>
              </a:lnSpc>
              <a:spcBef>
                <a:spcPts val="400"/>
              </a:spcBef>
              <a:buClr>
                <a:srgbClr val="e3183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um_ref_idx_l1_active_minus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64680" y="275760"/>
            <a:ext cx="7589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CODED PICTURE BUFFER SIZ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383760" y="1371240"/>
            <a:ext cx="8458200" cy="32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99"/>
              </a:spcBef>
              <a:buClr>
                <a:srgbClr val="e3183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x_dec_picture_buffering allowed to be 0 in tex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99"/>
              </a:spcBef>
              <a:buClr>
                <a:srgbClr val="e3183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t the DPB includes the current decoded picture so it shall always have at least one picture buff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99"/>
              </a:spcBef>
              <a:buClr>
                <a:srgbClr val="e3183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posal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227160">
              <a:lnSpc>
                <a:spcPct val="90000"/>
              </a:lnSpc>
              <a:spcBef>
                <a:spcPts val="400"/>
              </a:spcBef>
              <a:buClr>
                <a:srgbClr val="e3183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 min size of decoded picture buffer from 0 to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227160">
              <a:lnSpc>
                <a:spcPct val="90000"/>
              </a:lnSpc>
              <a:spcBef>
                <a:spcPts val="400"/>
              </a:spcBef>
              <a:buClr>
                <a:srgbClr val="e3183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specifically, changing min value for these parameters from 0 to 1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228600">
              <a:lnSpc>
                <a:spcPct val="90000"/>
              </a:lnSpc>
              <a:spcBef>
                <a:spcPts val="400"/>
              </a:spcBef>
              <a:buClr>
                <a:srgbClr val="e3183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ps_max_dec_pic_buffe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228600">
              <a:lnSpc>
                <a:spcPct val="90000"/>
              </a:lnSpc>
              <a:spcBef>
                <a:spcPts val="400"/>
              </a:spcBef>
              <a:buClr>
                <a:srgbClr val="e3183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ps_max_dec_pic_buffe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228600">
              <a:lnSpc>
                <a:spcPct val="90000"/>
              </a:lnSpc>
              <a:spcBef>
                <a:spcPts val="400"/>
              </a:spcBef>
              <a:buClr>
                <a:srgbClr val="e3183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99"/>
              </a:spcBef>
              <a:buClr>
                <a:srgbClr val="e3183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364680" y="119160"/>
            <a:ext cx="7589880" cy="62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UMBER OF ALL TYPES OF REFERENCE PICTUR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"/>
          <p:cNvSpPr txBox="1"/>
          <p:nvPr/>
        </p:nvSpPr>
        <p:spPr>
          <a:xfrm>
            <a:off x="383760" y="1371240"/>
            <a:ext cx="8458200" cy="30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99"/>
              </a:spcBef>
              <a:buClr>
                <a:srgbClr val="e3183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e consistent with other changes, reduce max number of all types of reference pictures by 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99"/>
              </a:spcBef>
              <a:buClr>
                <a:srgbClr val="e3183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posal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227160">
              <a:lnSpc>
                <a:spcPct val="90000"/>
              </a:lnSpc>
              <a:spcBef>
                <a:spcPts val="400"/>
              </a:spcBef>
              <a:buClr>
                <a:srgbClr val="e3183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specifically, add -1 to the equations fo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228600">
              <a:lnSpc>
                <a:spcPct val="90000"/>
              </a:lnSpc>
              <a:spcBef>
                <a:spcPts val="400"/>
              </a:spcBef>
              <a:buClr>
                <a:srgbClr val="e3183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um_negative_p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228600">
              <a:lnSpc>
                <a:spcPct val="90000"/>
              </a:lnSpc>
              <a:spcBef>
                <a:spcPts val="400"/>
              </a:spcBef>
              <a:buClr>
                <a:srgbClr val="e3183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um_positive_p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228600">
              <a:lnSpc>
                <a:spcPct val="90000"/>
              </a:lnSpc>
              <a:spcBef>
                <a:spcPts val="400"/>
              </a:spcBef>
              <a:buClr>
                <a:srgbClr val="e3183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um_long_term_s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228600">
              <a:lnSpc>
                <a:spcPct val="90000"/>
              </a:lnSpc>
              <a:spcBef>
                <a:spcPts val="400"/>
              </a:spcBef>
              <a:buClr>
                <a:srgbClr val="e3183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um_long_term_p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228600">
              <a:lnSpc>
                <a:spcPct val="90000"/>
              </a:lnSpc>
              <a:spcBef>
                <a:spcPts val="400"/>
              </a:spcBef>
              <a:buClr>
                <a:srgbClr val="e3183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99"/>
              </a:spcBef>
              <a:buClr>
                <a:srgbClr val="e3183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15T23:20:13Z</dcterms:created>
  <dc:creator>Wade K. Wan</dc:creator>
  <dc:description/>
  <dc:language>en-US</dc:language>
  <cp:lastModifiedBy>Wade K. Wan</cp:lastModifiedBy>
  <dcterms:modified xsi:type="dcterms:W3CDTF">2013-01-16T11:14:25Z</dcterms:modified>
  <cp:revision>10</cp:revision>
  <dc:subject/>
  <dc:title>PowerPoint Presentation</dc:title>
</cp:coreProperties>
</file>