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5A41-C9CE-497C-B957-27880F2D5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CD00-956A-4155-9F0C-0F579FE2C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6F02-332A-49AF-ABCB-44759D1D6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AFF3-AB0F-46FB-8252-3D87C9448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196E-BC3D-47CC-AA1D-0E348A7D2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BF55-8B7E-4B4C-8958-4592D0AFB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780D-1E19-4BC0-BAA2-E48B2650B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51E8-33E3-44E2-826D-CFBA3AD71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E71F-DD3E-41B5-84DC-E6BF2A2FD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DF3A-A494-45AB-92C8-992059685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4681-4BF1-4336-8330-050E13664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F438-0C28-4F2D-8B00-BAD04C11B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9860-7A53-4A9F-AC7A-C9C27FE356DE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772400" y="25560"/>
            <a:ext cx="1268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VLSI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华文行楷"/>
              <a:ea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1233360"/>
            <a:ext cx="741708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YUV444 and RGB screen content test sequences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808080"/>
            <a:ext cx="7921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L031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4 Jan. – 23 Jan. 201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949F-3015-41DD-BE7D-7990760149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9280" y="531720"/>
            <a:ext cx="8856720" cy="59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9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video: relatively smooth edges, complicated textures, and thick lines with virtually unlimited colo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9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content video: very sharp edges, simple shapes, and thin lines with few colors, even one-pixel-wide single-color li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9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contents seen in daily activitie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eb brows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ideo conferencing with document shar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ffice document edi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gineering draw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ardware design engineer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oftware programm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Gam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ap navigating and address direction search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79640" y="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CAD2-C1B5-439E-9091-E0AF3E3E64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42920" y="907920"/>
          <a:ext cx="8750160" cy="4176720"/>
        </p:xfrm>
        <a:graphic>
          <a:graphicData uri="http://schemas.openxmlformats.org/drawingml/2006/table">
            <a:tbl>
              <a:tblPr/>
              <a:tblGrid>
                <a:gridCol w="1549440"/>
                <a:gridCol w="3024000"/>
                <a:gridCol w="41767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Sequence Nam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sc_cad_waveform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sc_pcb_layou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sc_ppt_doc_xl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sc_web_brows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sc_video_conferencing_doc_shar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sc_cg_twist_tunnel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Resolution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920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× </a:t>
                      </a: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108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0p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280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× </a:t>
                      </a: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72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0p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Frame rat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0 fps, progressiv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0 fps, progressiv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Bit dept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Color forma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planar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RGB and 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YUV 4:</a:t>
                      </a: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:</a:t>
                      </a: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planar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RGB and 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YUV 4:</a:t>
                      </a: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:</a:t>
                      </a: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seconds (</a:t>
                      </a: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200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frame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seconds (</a:t>
                      </a: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300</a:t>
                      </a: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Calibri"/>
                        </a:rPr>
                        <a:t> frame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1079640" y="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creen Content Sequenc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19AD-F693-4DFE-9D6A-687863F87F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79640" y="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creen Content Sequenc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9200" y="492120"/>
          <a:ext cx="9001440" cy="6377040"/>
        </p:xfrm>
        <a:graphic>
          <a:graphicData uri="http://schemas.openxmlformats.org/drawingml/2006/table">
            <a:tbl>
              <a:tblPr/>
              <a:tblGrid>
                <a:gridCol w="439920"/>
                <a:gridCol w="1757520"/>
                <a:gridCol w="1044360"/>
                <a:gridCol w="5759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File nam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rief descrip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Feature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c_cad_waveform_1920x1080_20_200_8bi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AD waveform</a:t>
                      </a: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ypical digital circuit design waveform with code and schematic window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One pixel thin lines with many colors</a:t>
                      </a: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crollin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Zoomin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c_pcb_layout_1920x1080_20_200_8bi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CB layout windows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ypical PCB layout window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isplay of multiple layers with different color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mponent footprint displa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One pixel diagonal, horizontal, vertical lines and curves with different color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Enabling/disabling display of some layer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oving aroun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Zooming</a:t>
                      </a: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n and ou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c_ppt_doc_xls_1920x1080_20_200_8bi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pt, doc, and xls window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ext, graph, char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opy and paste between ppt, doc, and xls window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One pixel thin lines and curve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Zooming chart and graph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c_web_browsing_1280x720_30_300_8bi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Web browsin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rowsing different webpage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c_video_conferencing_doc_sharing_1280x720_30_300_8bi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Video conferencing with doc sharin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 video conferencing window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 document sharing window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witching between excel sheets with texts or plot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Excel sheet scrolling and pannin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c_cg_twist_tunnel_1280x720_30_8bi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D computer graphic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Fast spinning twis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Fast moving tunnel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exture-mapped and light-shaded (using Gouraud shading) renderin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40458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nderneath wireframe renderin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D1F5-584B-4546-88C6-AADA9CC1C0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824360" y="0"/>
            <a:ext cx="4319640" cy="2428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24360" y="2498760"/>
            <a:ext cx="4319640" cy="2417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867200" y="4462560"/>
            <a:ext cx="4276800" cy="23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284720" cy="2409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2205000"/>
            <a:ext cx="4248000" cy="2390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0" y="4468680"/>
            <a:ext cx="4248000" cy="238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60A0-F74E-4979-B80C-3A256351FA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9640" y="11592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800280"/>
            <a:ext cx="87123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2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14 AHG8 test sequences with different cont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 class 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 Huawei/MER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 TJ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2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 a variety of different screen cont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2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to adopt these sequences for the study and improvement of HEVC for screen content coding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6843-2E67-47CE-AFD1-C2036970AD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4275-1092-4812-810A-3C76C9CDB0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u</cp:lastModifiedBy>
  <dcterms:modified xsi:type="dcterms:W3CDTF">2013-01-15T05:55:22Z</dcterms:modified>
  <cp:revision>1368</cp:revision>
  <dc:subject/>
  <dc:title>Slide 1</dc:title>
</cp:coreProperties>
</file>