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11B9-68D2-41AB-A269-F6D3E1BF8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85C1-A25C-429E-A24D-3C0BF3B2A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DDCA-DDB1-4555-B12D-B5044CB25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4832-AB30-4586-B279-7226FE524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163B-DBE1-4065-B2DC-F6F69AD4A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8682-8FFE-4C9F-BCC4-995E3A9EE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A9B9-AA1C-443D-8F39-2100926F1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AFA6-0ED7-4EAE-BF48-BBF695CAE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506C-36BC-4FDE-B092-5891B98D7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32BD-BC8D-4596-8714-87FCFFDF2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9F58-70FF-4FC6-A039-DF330A023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E682-9E11-4336-91FE-DF580EAC1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6EF6-479E-4C58-BACF-66AB43BAC427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7280" y="1233360"/>
            <a:ext cx="824544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2M and P2M+SAP as lossless coding tools for screen content coding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L03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4 Jan. – 23 Jan. 201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0F51-784D-437C-9C03-90FC74CADD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2920" y="1015920"/>
            <a:ext cx="8856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less coding is needed in some SCC applic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dd P2M to HM-RE lossless mode =&gt; HM-RE+P2M lossless cod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dd SAP (TI) to HM-RE+P2M =&gt; HM-RE+P2M+SAP lossless cod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AE9F-157E-4040-BF34-09EFE04DFF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6000" y="907920"/>
          <a:ext cx="4319640" cy="3684600"/>
        </p:xfrm>
        <a:graphic>
          <a:graphicData uri="http://schemas.openxmlformats.org/drawingml/2006/table">
            <a:tbl>
              <a:tblPr/>
              <a:tblGrid>
                <a:gridCol w="1439640"/>
                <a:gridCol w="1044720"/>
                <a:gridCol w="792000"/>
                <a:gridCol w="10432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M-RE vs HM-RE+P2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ll Intra 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pression rat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.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 (YU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9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1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5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(GB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7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29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56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o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8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0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53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7.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26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5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6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716360" y="907920"/>
          <a:ext cx="4284720" cy="3684600"/>
        </p:xfrm>
        <a:graphic>
          <a:graphicData uri="http://schemas.openxmlformats.org/drawingml/2006/table">
            <a:tbl>
              <a:tblPr/>
              <a:tblGrid>
                <a:gridCol w="1511280"/>
                <a:gridCol w="1081080"/>
                <a:gridCol w="835200"/>
                <a:gridCol w="8571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P2M vs +P2M+SA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ll Intra 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pression rat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5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10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 (YU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1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2.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5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(GB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29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29.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o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0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1.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26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26.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5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6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8C27-3A2C-48D8-A687-EA3763BDB6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0000" y="907920"/>
          <a:ext cx="4321080" cy="3684600"/>
        </p:xfrm>
        <a:graphic>
          <a:graphicData uri="http://schemas.openxmlformats.org/drawingml/2006/table">
            <a:tbl>
              <a:tblPr/>
              <a:tblGrid>
                <a:gridCol w="1476360"/>
                <a:gridCol w="1116000"/>
                <a:gridCol w="865080"/>
                <a:gridCol w="863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P2M vs +P2M+SA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andom Access 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pression rat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2.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4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5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 (YU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48.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62.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(GB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10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17.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o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29.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39.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63.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72.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08000" y="907920"/>
          <a:ext cx="4427640" cy="3684600"/>
        </p:xfrm>
        <a:graphic>
          <a:graphicData uri="http://schemas.openxmlformats.org/drawingml/2006/table">
            <a:tbl>
              <a:tblPr/>
              <a:tblGrid>
                <a:gridCol w="1511280"/>
                <a:gridCol w="1274760"/>
                <a:gridCol w="755640"/>
                <a:gridCol w="8859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M-RE vs HM-RE+P2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andom Access 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pression rat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0.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2.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 (YU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32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48.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1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(GB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15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10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6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o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24.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29.8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4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8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63.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7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0DF9-DA8F-43FA-88CF-3C24F548C3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2920" y="907920"/>
          <a:ext cx="4429080" cy="3691080"/>
        </p:xfrm>
        <a:graphic>
          <a:graphicData uri="http://schemas.openxmlformats.org/drawingml/2006/table">
            <a:tbl>
              <a:tblPr/>
              <a:tblGrid>
                <a:gridCol w="1549440"/>
                <a:gridCol w="1079280"/>
                <a:gridCol w="914400"/>
                <a:gridCol w="8859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M-RE vs HM-RE+P2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ow delay B 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pression rat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7.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8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 (YU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38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39.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6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(GB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01.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972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0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o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20.1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06.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8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274.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846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2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716360" y="907920"/>
          <a:ext cx="4248360" cy="3684600"/>
        </p:xfrm>
        <a:graphic>
          <a:graphicData uri="http://schemas.openxmlformats.org/drawingml/2006/table">
            <a:tbl>
              <a:tblPr/>
              <a:tblGrid>
                <a:gridCol w="1440000"/>
                <a:gridCol w="1044720"/>
                <a:gridCol w="950760"/>
                <a:gridCol w="8128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P2M vs +P2M+SA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ow delay B 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pression rat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8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50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5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 (YU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39.6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70.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(GB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972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05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3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o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06.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37.7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846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873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67D5-307C-430A-A071-18376019E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79640" y="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2920" y="907920"/>
          <a:ext cx="4429080" cy="3691080"/>
        </p:xfrm>
        <a:graphic>
          <a:graphicData uri="http://schemas.openxmlformats.org/drawingml/2006/table">
            <a:tbl>
              <a:tblPr/>
              <a:tblGrid>
                <a:gridCol w="1584360"/>
                <a:gridCol w="1044360"/>
                <a:gridCol w="914400"/>
                <a:gridCol w="88596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　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M-RE vs HM-RE+P2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ow delay P 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pression rat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6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8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 (YU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39.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39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6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(GB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03.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974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0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o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321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07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8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275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847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2.1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716360" y="907920"/>
          <a:ext cx="4248360" cy="3684600"/>
        </p:xfrm>
        <a:graphic>
          <a:graphicData uri="http://schemas.openxmlformats.org/drawingml/2006/table">
            <a:tbl>
              <a:tblPr/>
              <a:tblGrid>
                <a:gridCol w="1476360"/>
                <a:gridCol w="1043280"/>
                <a:gridCol w="879480"/>
                <a:gridCol w="8492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P2M vs +P2M+SA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ow delay P Mai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pression rat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it-rate saving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sted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48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50.3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5.3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 (YUV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39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75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.6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(GBR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974.5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06.9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2.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o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07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1041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3.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verall (w/ F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847.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876.2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Calibri"/>
                          <a:ea typeface="宋体"/>
                        </a:rPr>
                        <a:t>-4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C1C1-074C-47EC-B768-999C32E725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12640"/>
            <a:ext cx="889308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M Bitrate Redu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-main:0% - 84% w/ average 46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P-main: 0% - 78% w/ average 32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-main: 0% - 78% w/ average 32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A-main: 0% - 81% w/ average 37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 Bitrate Reduction on Top of P2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-main: 0% - 15% w/ average 5.44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P-main: 0.6% - 12% w/ average 4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-main: 0.5% - 10% w/ average 4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895320" indent="-3603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A-main: 0.4% - 10% w/ average 4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M and SAP are quite complement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ools really enhance each oth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one has less gain, the other has more gai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check by JCTVC-L0362 (TI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to adopt both tools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EVC lossless extens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A093-9394-40FE-BB33-B3F5D07109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0FEE-83F8-493B-9D4F-0FADC400EC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u</cp:lastModifiedBy>
  <dcterms:modified xsi:type="dcterms:W3CDTF">2013-01-15T04:15:24Z</dcterms:modified>
  <cp:revision>1358</cp:revision>
  <dc:subject/>
  <dc:title>Slide 1</dc:title>
</cp:coreProperties>
</file>