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039B-C3F0-4BFA-864F-0246BE591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ADEB2-A3B4-45DF-873C-E99CBC96D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58F0-61CB-48A9-B0F9-8F4A36EF2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6263-EF28-46C7-972D-3C9F97CE5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E22D-477E-4334-BCCF-9CC9A9340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4866-6C70-4565-AD31-309F7A05F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C5AE4-5445-4091-AB4B-E1DC286F2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1DDD-945D-4CC8-BA52-50AEA01AF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C263-9EF2-4A62-8044-96AC93832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0DC3-7D82-4BD4-933D-E9D080CCE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C49D-CC26-4FF8-B499-FE3264554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0A42-7FBE-4B99-AD83-FE642AC46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ldNum" idx="1"/>
          </p:nvPr>
        </p:nvSpPr>
        <p:spPr>
          <a:xfrm>
            <a:off x="709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32D3-8684-4A25-9C9A-EE96B7FA07F9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512640"/>
            <a:ext cx="9144000" cy="131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059600" y="0"/>
            <a:ext cx="2084400" cy="522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7772400" y="25560"/>
            <a:ext cx="12682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华文行楷"/>
              </a:rPr>
              <a:t>VLSI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华文行楷"/>
              </a:rPr>
              <a:t>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华文行楷"/>
              <a:ea typeface="华文行楷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47640" y="1233360"/>
            <a:ext cx="788508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HG8: P2M based dual-coder </a:t>
            </a:r>
            <a:r>
              <a:rPr b="1" lang="en-CA" sz="3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xtension of HEVC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808080"/>
            <a:ext cx="7921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JCTVC-L030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14 Jan. – 23 Jan. 201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alibri"/>
              </a:rPr>
              <a:t>Tao L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00EC-00D2-4353-B137-6B0D8C6319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224000" y="58428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125360"/>
            <a:ext cx="91440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2M based dual-coder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straightforward yet very effective extension of HEVC for SC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ally just adding three new syntax elements in LCU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BD-rate reduction and subjective improvem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-main: 0% to 85% with an average of 35%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P-main: 0% to 73% with an average of 27%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4 complete meeting cycles, quite mature now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 to adopt the </a:t>
            </a: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2M based dual-coder extens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DCF5-C9F5-451D-BB88-AEC7AF6219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2637000"/>
            <a:ext cx="914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458c"/>
                </a:solidFill>
                <a:latin typeface="Times New Roman"/>
              </a:rPr>
              <a:t>THANK  YOU</a:t>
            </a:r>
            <a:endParaRPr b="0" lang="en-US" sz="8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3CA1-FD6D-4DB0-B42C-D114DF42F7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2920" y="1015920"/>
            <a:ext cx="8856720" cy="38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 picture has two types of content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tinuous-tone content + Discontinuous-tone cont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brid coding is not discontinuous-tone orient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ven 444 has bad quality (due to high QP) at low bit-ra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-2D-matching coder can do a much better job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D pixel data oriented dictionary-like code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sing a super-large searching-window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0" y="58428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87280" y="4905360"/>
            <a:ext cx="659160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8301-4739-487E-907C-7798BEC689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11280" y="0"/>
            <a:ext cx="582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P2M cod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50000" y="1197000"/>
            <a:ext cx="14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87600" y="2643120"/>
            <a:ext cx="579600" cy="579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LCU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87600" y="2643120"/>
            <a:ext cx="36720" cy="507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87600" y="3151080"/>
            <a:ext cx="36720" cy="71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4320" y="2643120"/>
            <a:ext cx="36360" cy="327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4320" y="2968560"/>
            <a:ext cx="36360" cy="254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60680" y="2643120"/>
            <a:ext cx="36720" cy="290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08360" y="1197000"/>
            <a:ext cx="3041640" cy="20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1240" y="1593720"/>
            <a:ext cx="3636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08360" y="1197000"/>
            <a:ext cx="579240" cy="579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LCU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87600" y="1197000"/>
            <a:ext cx="579600" cy="579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LCU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7200" y="1197000"/>
            <a:ext cx="579240" cy="579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LCU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08360" y="1774800"/>
            <a:ext cx="579240" cy="579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LCU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h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87600" y="1774800"/>
            <a:ext cx="579600" cy="579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LCU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h+1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67200" y="1774800"/>
            <a:ext cx="579240" cy="579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LCU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h+2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84320" y="3406680"/>
            <a:ext cx="27147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en-US" sz="900" spc="-1" strike="noStrike" baseline="30000">
                <a:solidFill>
                  <a:srgbClr val="40458c"/>
                </a:solidFill>
                <a:latin typeface="Times New Roman"/>
              </a:rPr>
              <a:t>st</a:t>
            </a:r>
            <a:r>
              <a:rPr b="0" lang="en-US" sz="900" spc="-1" strike="noStrike">
                <a:solidFill>
                  <a:srgbClr val="40458c"/>
                </a:solidFill>
                <a:latin typeface="Times New Roman"/>
              </a:rPr>
              <a:t> matched string (red) has 42 samples=14 pixels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0" lang="en-US" sz="900" spc="-1" strike="noStrike" baseline="30000">
                <a:solidFill>
                  <a:srgbClr val="40458c"/>
                </a:solidFill>
                <a:latin typeface="Times New Roman"/>
              </a:rPr>
              <a:t>nd</a:t>
            </a:r>
            <a:r>
              <a:rPr b="0" lang="en-US" sz="900" spc="-1" strike="noStrike">
                <a:solidFill>
                  <a:srgbClr val="40458c"/>
                </a:solidFill>
                <a:latin typeface="Times New Roman"/>
              </a:rPr>
              <a:t> matched string (blue) has 33 samples 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58c"/>
                </a:solidFill>
                <a:latin typeface="Times New Roman"/>
              </a:rPr>
              <a:t>3</a:t>
            </a:r>
            <a:r>
              <a:rPr b="0" lang="en-US" sz="900" spc="-1" strike="noStrike" baseline="30000">
                <a:solidFill>
                  <a:srgbClr val="40458c"/>
                </a:solidFill>
                <a:latin typeface="Times New Roman"/>
              </a:rPr>
              <a:t>rd</a:t>
            </a:r>
            <a:r>
              <a:rPr b="0" lang="en-US" sz="900" spc="-1" strike="noStrike">
                <a:solidFill>
                  <a:srgbClr val="40458c"/>
                </a:solidFill>
                <a:latin typeface="Times New Roman"/>
              </a:rPr>
              <a:t> matched string (green) has 45 samples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265200" y="3222720"/>
            <a:ext cx="122040" cy="182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87600" y="1197000"/>
            <a:ext cx="36720" cy="325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17800" y="1197000"/>
            <a:ext cx="36360" cy="144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81440" y="1522440"/>
            <a:ext cx="36360" cy="252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70400" y="1197000"/>
            <a:ext cx="579600" cy="579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LCU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h-1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13280" y="1305000"/>
            <a:ext cx="36720" cy="471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08360" y="1774800"/>
            <a:ext cx="36360" cy="73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70400" y="1774800"/>
            <a:ext cx="579600" cy="579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LCU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2h-1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5007-0CEF-405A-8C8A-1611CE6495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187280" y="728640"/>
          <a:ext cx="7164360" cy="4802040"/>
        </p:xfrm>
        <a:graphic>
          <a:graphicData uri="http://schemas.openxmlformats.org/drawingml/2006/table">
            <a:tbl>
              <a:tblPr/>
              <a:tblGrid>
                <a:gridCol w="5292720"/>
                <a:gridCol w="18716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q_parameter_set_rbsp( ) {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_parameter_set_i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4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nip ……&gt;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CA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ual_coder_mode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2_max_pic_order_cnt_lsb_minus4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nip ……&gt;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sp_trailing_bits( 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511280" y="0"/>
            <a:ext cx="582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P2M cod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99CD-169B-42FE-AACE-9D2F14A799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11280" y="0"/>
            <a:ext cx="582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P2M cod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9640" y="873000"/>
          <a:ext cx="7991640" cy="5842080"/>
        </p:xfrm>
        <a:graphic>
          <a:graphicData uri="http://schemas.openxmlformats.org/drawingml/2006/table">
            <a:tbl>
              <a:tblPr/>
              <a:tblGrid>
                <a:gridCol w="6661440"/>
                <a:gridCol w="133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ing_tree_unit( x0, y0, log2CbSize ) {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Calibri"/>
                          <a:ea typeface="Malgun Gothic"/>
                        </a:rPr>
                        <a:t>Descriptor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58c"/>
                          </a:solidFill>
                          <a:latin typeface="Calibri"/>
                          <a:ea typeface="Malgun Gothic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Calibri"/>
                          <a:ea typeface="Malgun Gothic"/>
                        </a:rPr>
                        <a:t>xCtb = ( CtbAddrRS % PicWidthInCtbsY ) &lt;&lt; Log2CtbSizeY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58c"/>
                          </a:solidFill>
                          <a:latin typeface="Calibri"/>
                          <a:ea typeface="Malgun Gothic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Calibri"/>
                          <a:ea typeface="Malgun Gothic"/>
                        </a:rPr>
                        <a:t>yCtb = ( CtbAddrRS / PicHeightInCtbsY ) &lt;&lt; Log2CtbSizeY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40458c"/>
                          </a:solidFill>
                          <a:latin typeface="Calibri"/>
                          <a:ea typeface="Malgun Gothic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Calibri"/>
                          <a:ea typeface="Malgun Gothic"/>
                        </a:rPr>
                        <a:t>Ctb</a:t>
                      </a: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Calibri"/>
                          <a:ea typeface="PMingLiU"/>
                        </a:rPr>
                        <a:t>AddrInSliceSeg </a:t>
                      </a: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Calibri"/>
                          <a:ea typeface="Malgun Gothic"/>
                        </a:rPr>
                        <a:t>= CtbAddrInRS − slice_segment_addres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40458c"/>
                          </a:solidFill>
                          <a:latin typeface="Calibri"/>
                          <a:ea typeface="Malgun Gothic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Calibri"/>
                          <a:ea typeface="PMingLiU"/>
                        </a:rPr>
                        <a:t>if( slice_sao_luma_flag  | |  slice_sao_chroma_flag 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40458c"/>
                          </a:solidFill>
                          <a:latin typeface="Calibri"/>
                          <a:ea typeface="Malgun Gothic"/>
                        </a:rPr>
                        <a:t>	</a:t>
                      </a:r>
                      <a:r>
                        <a:rPr b="0" lang="ko-KR" sz="1800" spc="-1" strike="noStrike">
                          <a:solidFill>
                            <a:srgbClr val="40458c"/>
                          </a:solidFill>
                          <a:latin typeface="Calibri"/>
                          <a:ea typeface="Malgun Gothic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Calibri"/>
                          <a:ea typeface="PMingLiU"/>
                        </a:rPr>
                        <a:t>sao</a:t>
                      </a: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Calibri"/>
                          <a:ea typeface="Malgun Gothic"/>
                        </a:rPr>
                        <a:t>( xCtb &gt;&gt; Log2CtbSizeY, yCtb &gt;&gt; Log2CtbSizeY 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(</a:t>
                      </a:r>
                      <a:r>
                        <a:rPr b="0" lang="en-CA" sz="18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dual_coder_mode =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0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coding_quadtree( xCtb, yCtb, Log2CtbSizeY, 0 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se {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    </a:t>
                      </a:r>
                      <a:r>
                        <a:rPr b="1" lang="en-GB" sz="18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ctu_coded_by_p2m_coder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_flag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ae(v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(</a:t>
                      </a: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cu_coded_by_p2m_coder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_flag</a:t>
                      </a: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 = = 0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//HYBRID_CODER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      </a:t>
                      </a: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coding_quadtree( xCtb, yCtb, Log2CtbSizeY, 0 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s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      </a:t>
                      </a: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p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m_coder( x0, y0, </a:t>
                      </a:r>
                      <a:r>
                        <a:rPr b="0" lang="en-GB" sz="18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Log2CtbSizeY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}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}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11F3-0F96-4B1B-A58C-66394E0BF8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657360" y="623880"/>
          <a:ext cx="8280360" cy="6129360"/>
        </p:xfrm>
        <a:graphic>
          <a:graphicData uri="http://schemas.openxmlformats.org/drawingml/2006/table">
            <a:tbl>
              <a:tblPr/>
              <a:tblGrid>
                <a:gridCol w="7235640"/>
                <a:gridCol w="1044720"/>
              </a:tblGrid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M_coder( x0, y0, log2CtbSizeY ) {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oded_sample_count = 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SamplesInCTU = (3 &lt;&lt; (log2CtbSizeY &lt;&lt; 1)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decoded_sample_count &lt; NumSamplesInCTU) {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flag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(v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(matching_string_flag = = 1) {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distance_use_recent_8_flag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(v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(matching_string_distance_use_recent_8_flag = = 1) {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distance_recent_8_idx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(v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distance_minus1 = Recent8Distances[matching_string_distance_recent_8_idx]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03200"/>
                          <a:tab algn="l" pos="457200"/>
                          <a:tab algn="l" pos="549360"/>
                          <a:tab algn="l" pos="685800"/>
                          <a:tab algn="l" pos="822240"/>
                          <a:tab algn="l" pos="9144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or( i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=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atching_string_distance_recent_8_idx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; i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; i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28600"/>
                          <a:tab algn="l" pos="274680"/>
                          <a:tab algn="l" pos="457200"/>
                          <a:tab algn="l" pos="679320"/>
                          <a:tab algn="l" pos="685800"/>
                          <a:tab algn="l" pos="727200"/>
                          <a:tab algn="l" pos="822240"/>
                          <a:tab algn="l" pos="9144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nt8Distances[i] = Recent8Distances[i-1]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28600"/>
                          <a:tab algn="l" pos="274680"/>
                          <a:tab algn="l" pos="457200"/>
                          <a:tab algn="l" pos="546120"/>
                          <a:tab algn="l" pos="593640"/>
                          <a:tab algn="l" pos="685800"/>
                          <a:tab algn="l" pos="822240"/>
                          <a:tab algn="l" pos="9144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nt8Distances[0] = matching_string_distance_minus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}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e {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distance_minus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(v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03200"/>
                          <a:tab algn="l" pos="457200"/>
                          <a:tab algn="l" pos="549360"/>
                          <a:tab algn="l" pos="685800"/>
                          <a:tab algn="l" pos="822240"/>
                          <a:tab algn="l" pos="9144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or( i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=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7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; i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; i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28600"/>
                          <a:tab algn="l" pos="274680"/>
                          <a:tab algn="l" pos="457200"/>
                          <a:tab algn="l" pos="679320"/>
                          <a:tab algn="l" pos="685800"/>
                          <a:tab algn="l" pos="727200"/>
                          <a:tab algn="l" pos="822240"/>
                          <a:tab algn="l" pos="9144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nt8Distances[i] = Recent8Distances[i-1]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28600"/>
                          <a:tab algn="l" pos="274680"/>
                          <a:tab algn="l" pos="457200"/>
                          <a:tab algn="l" pos="546120"/>
                          <a:tab algn="l" pos="593640"/>
                          <a:tab algn="l" pos="685800"/>
                          <a:tab algn="l" pos="822240"/>
                          <a:tab algn="l" pos="9144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nt8Distances[0] = matching_string_distance_minus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}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length_minus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(v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oded_sample_count += (matching_string_length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us2 + 2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}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e {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matchable_sample_residual_ab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(v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matchable_sample_residual_sign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(v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oded_sample_count +=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}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}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}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511280" y="0"/>
            <a:ext cx="582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P2M cod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8FD0F-E936-472F-B9AB-6D24B5AE2D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512640"/>
            <a:ext cx="70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AHG8 test sequenc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7640" y="0"/>
            <a:ext cx="582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Experimental Resul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41320" y="1515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44360" y="1089000"/>
          <a:ext cx="8856720" cy="5295960"/>
        </p:xfrm>
        <a:graphic>
          <a:graphicData uri="http://schemas.openxmlformats.org/drawingml/2006/table">
            <a:tbl>
              <a:tblPr/>
              <a:tblGrid>
                <a:gridCol w="1303560"/>
                <a:gridCol w="1757160"/>
                <a:gridCol w="828720"/>
                <a:gridCol w="826920"/>
                <a:gridCol w="863640"/>
                <a:gridCol w="900360"/>
                <a:gridCol w="828720"/>
                <a:gridCol w="792000"/>
                <a:gridCol w="7556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_mai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P_mai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-rate (cubic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-rate (cubic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F (YUV420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ketballDrillText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naSpeed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ideEditin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ideShow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 (YUV444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ueVu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-waveform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6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8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9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1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2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2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-waveform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5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6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8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1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2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2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81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81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83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7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7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8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cb-layout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0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1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3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8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9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0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cb-layout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8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9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80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7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8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9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8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9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81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8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9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4D3D-FB6D-43FB-AB27-B5169E1E47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50920" y="512640"/>
            <a:ext cx="70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AHG8 test sequenc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0"/>
            <a:ext cx="582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Experimental Resul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41320" y="1515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1085760"/>
          <a:ext cx="9144000" cy="5772240"/>
        </p:xfrm>
        <a:graphic>
          <a:graphicData uri="http://schemas.openxmlformats.org/drawingml/2006/table">
            <a:tbl>
              <a:tblPr/>
              <a:tblGrid>
                <a:gridCol w="1224000"/>
                <a:gridCol w="1727280"/>
                <a:gridCol w="828720"/>
                <a:gridCol w="1044360"/>
                <a:gridCol w="863640"/>
                <a:gridCol w="900000"/>
                <a:gridCol w="863640"/>
                <a:gridCol w="828720"/>
                <a:gridCol w="863640"/>
              </a:tblGrid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(YUV444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t-doc-xl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44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44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46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35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36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38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t-doc-xl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2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2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4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43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44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46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0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0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1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0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1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2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c-doc-sharin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38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41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41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39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44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42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c-doc-sharin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5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7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7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8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3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1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83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84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84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0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4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3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-browsin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39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44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40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7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9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6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-browsin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4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9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6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48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0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46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91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93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92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0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3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_twist_tunnel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8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28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27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3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5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6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Editin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3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3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3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4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4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4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0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9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9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8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9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9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3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6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8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mmin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2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3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3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4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D3651-D86C-49EF-8DB0-2E3908CF86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0920" y="512640"/>
            <a:ext cx="70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AHG8 test sequenc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47640" y="0"/>
            <a:ext cx="582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Experimental Resul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41320" y="1515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0" y="944640"/>
          <a:ext cx="9144000" cy="5887800"/>
        </p:xfrm>
        <a:graphic>
          <a:graphicData uri="http://schemas.openxmlformats.org/drawingml/2006/table">
            <a:tbl>
              <a:tblPr/>
              <a:tblGrid>
                <a:gridCol w="1197000"/>
                <a:gridCol w="1574640"/>
                <a:gridCol w="1008360"/>
                <a:gridCol w="792000"/>
                <a:gridCol w="971640"/>
                <a:gridCol w="828720"/>
                <a:gridCol w="863640"/>
                <a:gridCol w="1044360"/>
                <a:gridCol w="86364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 (GBR444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ueVu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-waveform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6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6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6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2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3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2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cb-layout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84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84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85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2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3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3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5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t-doc-xl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9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9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9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4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4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4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c-doc-sharin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1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1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2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4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5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6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19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-browsin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7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8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7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3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4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4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64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_twist_tunnel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2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1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2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29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29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29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Editin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33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31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32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3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3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3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28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25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25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3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3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4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mmin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32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29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28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of 2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35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35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36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27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28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28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Tim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Tim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Tim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484F-F1C9-440B-AC4B-D7F2B31F44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03:13:52Z</dcterms:created>
  <dc:creator>tao lin</dc:creator>
  <dc:description/>
  <dc:language>en-US</dc:language>
  <cp:lastModifiedBy>u</cp:lastModifiedBy>
  <dcterms:modified xsi:type="dcterms:W3CDTF">2013-01-15T02:02:54Z</dcterms:modified>
  <cp:revision>1344</cp:revision>
  <dc:subject/>
  <dc:title>Slide 1</dc:title>
</cp:coreProperties>
</file>