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500F-B61A-421C-8FDE-9A6548477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02A5-AA2E-4E4D-AA5E-D05B6C3A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B469-1D57-4378-80A1-57EB8CF74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058F-8FE2-408D-B16D-D46F04BC9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9DD7-F4A2-43BA-95A0-6B6B57D47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87CA-87AE-41B0-9D63-BE54690E9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B813-689F-4DE8-BD5D-BB8918CAA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4829-7FEE-45AC-A9E1-A8E0FA3A9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0160-D2D9-4886-9450-DD981A3EB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765F-FB65-44D6-A4D2-02C84882C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A109-7C88-43F8-8F21-F399BDD9D4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B53D4-78E1-4FE4-9D09-76F595FA5C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B3B5-DD25-4DD2-B240-6428B82217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6F39-7C0F-42E5-A6D2-5761EB1948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A7C7-3955-45D3-8F20-4D5BBAC2A3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466B-CE37-4546-B4E1-60AF94B3E6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8648-5158-4AD3-9317-9377FEB4B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8A72-11C0-4741-8681-49C4C7A4E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F59C-7028-446B-A853-BF5417A153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5C58-9D99-4DDE-8663-943AFAAF04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89A29-18DD-4EF7-B2F8-4DB7D0C642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183B-E32F-48CE-9CA9-88A6E7AA29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C700-0E10-4162-87E3-CD6E6E0DCB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CC2-C863-4CF3-A5BA-C04C29EE40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8C3-44E5-418D-8FB2-75AD631A93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28E-6732-414D-8139-08956E44E5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4B0-DC36-4463-9BD4-D8BFC1161C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01C-6CC6-47E2-B2BD-E6E2ED042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931F-1BE2-4C08-A63B-467AC7DFD2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9BD-92DD-4A20-A3D0-F199F508B0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1EB-EE3A-47EC-A1C0-D01249C8D2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AC6-2A19-4EB3-94BE-C30F7268F5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B8F-8F84-43DA-B3BE-6EB0C33A21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E0F-F7D0-4EEB-8E66-C698B4EDA6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573-862B-49A5-B431-404A11B471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393-FA28-4100-A5AE-CC269BFE0F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870AF-0ED4-4A9D-AFCB-0012D09975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234A4-FD86-40C9-9072-4F19F580D5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35AC6-FA1A-4420-97E4-87BDD485B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C947-DDBC-4195-A3DF-FB9C17455D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985A1-BCBA-48B7-978D-AE48F3DD89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11B44-E670-4549-A882-03AFE43190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8D738-556D-4693-B4FB-AB120FDB3D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58580-AABA-43CA-8826-ED678D626E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CFA63-E787-406F-9D5B-809A0679BD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AB4BF-CE9E-48DF-A644-4BD2862020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E52AC-DBB4-4883-82E8-F33F5DC5B7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AF412-0439-48D4-B7FF-ABBA50F0F7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E8779-6FAB-47D1-BEF0-89937FEEBB5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C6C6A-3AAC-494B-8EC7-ADEC1676D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5175-6314-4A0F-8BAC-93CCD8B1206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518FB-169F-4283-979E-CD26247A74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F630C-1558-4B38-9851-77BB18D353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B37E2-D5F3-4FD5-8F77-DE01B0BC685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D3D35-3BFA-42F6-BC6C-7586233DF8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C0B8F-D8BC-41AC-9242-2697721086D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6325C-FFF9-4FEF-A62C-1AC6959F83B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7F507-5A20-4542-AFCB-6B54E1E8E6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6F9B7-D391-4D93-B7D0-24998E08366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26426-2017-44B6-964C-E409AE640A5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340F2-4560-425F-BA80-23623C12A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379B-4C1B-422A-B00B-BBB36B3DD0E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25344-827A-4CD7-9261-5D8F98039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394A-04D3-4839-9A99-719835D75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5DD9-B42D-4872-BED2-69BCA408E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4507C-E14C-481B-B460-D48F310E4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474B-7B95-489D-95FA-22C5A4A9EF9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DA12-8DF9-4C6F-A672-F202B64A5219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14DD-31B2-41C7-8CE7-985DBC3DAFC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AAB9-5CEE-435B-B3C6-DDA1F92B348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A4A6-5AC7-4DF7-A544-C06D0689C88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EF3C-C19B-461A-A4C4-F1D441EBEA1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Gulim"/>
              </a:rPr>
              <a:t>JCTVC-L0231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Gulim"/>
              </a:rPr>
              <a:t>Inter-layer slice header syntax element prediction in SHVC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71160" y="37843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Do-Kyoung Kwon, Madhukar Budagavi and Minhua Zh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4F1E-871C-44C6-BB87-767833FCFA4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Overview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360" y="1042560"/>
            <a:ext cx="84391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 many cases, scalable layers are coded using the same GOP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Pictures at the same temporal position usually have the same slice type and temporal 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Same RPS can be used, and WP parameter could be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pose to signal in a slice header whether RPS and WP parameters are inferred from a reference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1457280" y="2435400"/>
            <a:ext cx="5594400" cy="29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D649-AE15-4493-B3E5-20D03AF43D4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Inter-layer RPS predic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33360" y="92844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po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er_layer_rps_prediction_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in the enhancement-layer 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If it is set equal to 1, RPS and reference picture list modification syntax elements are inferred from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ollocated reference-layer 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Collocated reference-layer slice hea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 is the SH that includes the collocated CU of the first LCU of the EL 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5920" y="2467080"/>
          <a:ext cx="4329000" cy="4114800"/>
        </p:xfrm>
        <a:graphic>
          <a:graphicData uri="http://schemas.openxmlformats.org/drawingml/2006/table">
            <a:tbl>
              <a:tblPr/>
              <a:tblGrid>
                <a:gridCol w="3566880"/>
                <a:gridCol w="762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lice_header( ) 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escrip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…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f( !IdrPicFlag ) 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pic_order_cnt_l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nter_layer_rps_prediction_fl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f (!inter_layer_rps_prediction_fla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hort_term_ref_pic_set_sps_fl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f( !short_term_ref_pic_set_sps_flag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hort_term_ref_pic_set( num_short_term_ref_pic_sets 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el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hort_term_ref_pic_set_id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f( long_term_ref_pics_present_flag ) 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9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                  </a:t>
                      </a:r>
                      <a:r>
                        <a:rPr b="1" lang="sv-SE" sz="9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.....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…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822920" y="2470320"/>
          <a:ext cx="4054320" cy="3657600"/>
        </p:xfrm>
        <a:graphic>
          <a:graphicData uri="http://schemas.openxmlformats.org/drawingml/2006/table">
            <a:tbl>
              <a:tblPr/>
              <a:tblGrid>
                <a:gridCol w="3473280"/>
                <a:gridCol w="5810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f( slice_type  = =  P  | |  slice_type  = =  B ) 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f( sps_temporal_mvp_enable_flag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    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lice_temporal_mvp_enable_fl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f (!inter_layer_rps_prediction_flag)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   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num_ref_idx_active_override_fl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            …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f( lists_modification_present_flag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 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ref_pic_list_modification(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f( slice_type = = B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  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mvd_l1_zero_fl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…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…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C588-2C9E-4BDC-AECC-A04913DC303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Inter-layer WP param predic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3360" y="92844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po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er_layer_wp_prediction_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in the enhancement-layer 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If it is set equal to 1, WP parameters for all references are inferred from a collocated reference-layer 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890720" y="2252520"/>
          <a:ext cx="5230800" cy="2597400"/>
        </p:xfrm>
        <a:graphic>
          <a:graphicData uri="http://schemas.openxmlformats.org/drawingml/2006/table">
            <a:tbl>
              <a:tblPr/>
              <a:tblGrid>
                <a:gridCol w="4262400"/>
                <a:gridCol w="968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slice_header( ) 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Descrip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f( ( weighted_pred_flag  &amp;&amp;   slice_type = = P)  | |</a:t>
                      </a:r>
                      <a:br>
                        <a:rPr sz="1000"/>
                      </a:b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( weighted_bipred_flag  &amp;&amp;  slice_type  = =  B )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nter_layer_wp_prediction_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u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if (!inter_layer_wp_prediction_fla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pred_weight_table( 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      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……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algun Gothic"/>
                        </a:rPr>
                        <a:t>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C2A1-EDAB-47BD-A3FD-F5D8E4ADE33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Conclus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33360" y="1109520"/>
            <a:ext cx="8467920" cy="46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Pictures at the same temporal positions usually share many properties in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Propose to signal whether RPS and WP parameters are inferred from a reference lay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er_layer_rps_prediction_flag and inter_layer_wp_prediction_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he proposed flags help reducing overhead signaling especially when scalable layers are coded using the same GOP structure, which is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71391</cp:lastModifiedBy>
  <dcterms:modified xsi:type="dcterms:W3CDTF">2013-01-14T09:16:57Z</dcterms:modified>
  <cp:revision>138</cp:revision>
  <dc:subject/>
  <dc:title>Presentation Title Here</dc:title>
</cp:coreProperties>
</file>