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8AC-8AF4-4B9A-BD60-C77A5F89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40B8-8F91-4E9F-BA22-766D1A5D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6575-6867-4763-8697-A08A12F9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206-9451-444F-ABAB-36432E77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B691-F9B9-4B67-8A3A-03FB7E25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1E02-F070-4521-BF40-5BF0BE86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4FE-870A-449C-908B-DF42AC4F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130-AE9C-45AB-AD6A-A52B9B5E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A1A5-F97A-45E8-97CB-DF04B6BC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91DB-0226-4090-A6E2-56CF372B8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5F8E-E06F-48B8-9287-97C80094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2353-53E1-4685-A5A4-7A2BE6994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C1AE-1A53-4701-B0DB-F55E34DDE1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5859-709B-4B0B-9538-1BA93634F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6C32-D821-4BB4-AF52-082C048967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C0B5-DE05-4FB8-B865-801EAFB57B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9FEF-965B-4B37-A2F7-06B97E76A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0B89-20C6-43D4-8CB3-A4E6C79635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C06A-B527-486A-B6E0-272895D73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A990-9844-4AF3-B406-1FE07EAEE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C722-8AB7-462D-839B-2BD21F81D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7BB9-5DCB-4DE2-B9B0-412315403A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4520-6130-416D-B2AF-4FCF18E3D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3151-5EE0-4531-8736-F9B926F98C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1B20-DEA0-4F67-ACFA-4536E7A03F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87F-58D1-420E-9B81-FB75A6CA9B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F2A-B558-462A-A24D-B134418D9C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2BF-9E39-42D1-A8DB-C8316A2CD6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E77-57E6-4147-B170-0F43BE037D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28C-4E16-434B-BEF4-2177B76E2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BB82-7252-43EC-A68C-44F2465A1E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B2F-5A3C-4004-99DD-ACAE52945F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9CF-16AF-40B3-B20A-2641F2E5EB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0DE-9F90-4C09-80AD-7AE12F21B2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FEB-7222-477F-8FE0-D01D4C286B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D24-6C7F-4BC0-B9E6-CEAD327598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76E-72C5-441B-854E-A2C0C07E4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5B8-717A-4B22-A067-FDD8583555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7C2AB-8854-47C5-940D-0E83EEDB16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CF18D-6651-49E8-84AD-AA88E93060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BEBD7-E1E6-4708-B855-896608FE4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F9D1-5574-4A6D-AFE4-4A804385B9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A89C-1A84-4889-ABDA-C465BB3181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EFB1-1B9C-44D8-89EB-1421401B86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4C5E-8008-49FD-BA3C-A3ECEB1957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D54D-D621-4F8B-8705-07ABF73ED1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F7EC1-ED63-4014-8D07-2A5DE32CF3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BDD16-C35F-4D1E-9D48-697B8F7E2A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3C455-8FD1-4F38-852A-DD1B911DB5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8812-0CAC-41FF-B8B2-01DEFECCCB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505F-6D44-4433-B025-7F279B058B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92AE-2684-42A3-B83C-DDEA4327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FEDD-9762-4F89-863A-4BDC5EB710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45EFF-6D64-4F18-B34B-26CDBE8859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FF46F-85B3-4D45-8C1A-E98B4FE1DC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6C2A3-C716-4EC4-8F4E-261E0641FB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C09D-7247-40F5-9295-9F766CC5B4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2762C-F0A3-4704-9775-FDBABF164E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EE0EE-89A8-47CE-AECB-B2863976A8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B8527-7D6F-4681-9782-301C096B05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13FE-C8FD-4627-86A9-7AE294A741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BDE36-F634-4000-ABE5-B769622DE6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0C1B-C512-469B-A5AC-1E93F6B6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D0EA-9A81-4292-A503-FCBD51C606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6E64-2DA5-42AC-916B-B7149173C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FAA6-8006-46F6-9058-4E46BA01E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E7ED-4189-409A-BAC9-2280411AB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6E7B-118B-4F6A-ADD9-071F659B1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52F-155E-455C-AE6D-3CB252AB78E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CEB3-5117-4FB3-8F97-EE30B105C45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40CA-F87F-45F0-8B20-0DC33597FB4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9233-F636-4E14-98D5-B60F43166D6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189-4DAF-42BB-A5F0-A625758D3DD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CC8-9EF2-4178-B170-B84B3EEE64D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L0229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Inter-layer texture prediction for bit-depth and chroma format scalabilit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, Madhukar Budagavi and Minhua 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364-1B01-42E4-8E6F-8533F75EDB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2: Bit-depth + 1.5x spatial scalability, SMuC_0.1.1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L – 720p 8-bit YUV4:2:0, EL – 1080p 10-bit YUV4:2: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197080" y="1751040"/>
          <a:ext cx="4470480" cy="4343400"/>
        </p:xfrm>
        <a:graphic>
          <a:graphicData uri="http://schemas.openxmlformats.org/drawingml/2006/table">
            <a:tbl>
              <a:tblPr/>
              <a:tblGrid>
                <a:gridCol w="1924200"/>
                <a:gridCol w="752400"/>
                <a:gridCol w="888840"/>
                <a:gridCol w="905040"/>
              </a:tblGrid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 HEVC BitDepth + 1,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5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 HEVC BitDepth + 1.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4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5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3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D-P HEVC BitDepth + 1.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5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7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2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26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4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2AFA-170D-4005-BB9E-1396D90E3F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3: Chroma format + Bit-depth, HM-8,0 AH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L – 1080p 8-bit YUV4:2:0, EL – 1080p 10-bit YUV4:2: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09680" y="1751040"/>
          <a:ext cx="4476960" cy="4343400"/>
        </p:xfrm>
        <a:graphic>
          <a:graphicData uri="http://schemas.openxmlformats.org/drawingml/2006/table">
            <a:tbl>
              <a:tblPr/>
              <a:tblGrid>
                <a:gridCol w="1927440"/>
                <a:gridCol w="752400"/>
                <a:gridCol w="890640"/>
                <a:gridCol w="906480"/>
              </a:tblGrid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 HEVC Chroma +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8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8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6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 HEVC Chroma +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5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6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D-P HEVC Chroma +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5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5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5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2861-9597-474B-99FD-045F2CCE54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4: Chroma format + Bit-depth + 1.5x spatial, HM-8,0 AH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L – 720p 8-bit YUV4:2:0, EL – 1080p 10-bit YUV4:2: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209680" y="1751040"/>
          <a:ext cx="4476960" cy="4343400"/>
        </p:xfrm>
        <a:graphic>
          <a:graphicData uri="http://schemas.openxmlformats.org/drawingml/2006/table">
            <a:tbl>
              <a:tblPr/>
              <a:tblGrid>
                <a:gridCol w="1927440"/>
                <a:gridCol w="752400"/>
                <a:gridCol w="890640"/>
                <a:gridCol w="906480"/>
              </a:tblGrid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 HEVC Chroma + BitDepth + 1.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4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5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5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8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 HEVC Chroma + BitDepth + 1.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3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3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3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D-P HEVC Chroma + BitDepth + 1.5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2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2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25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5F51-06A4-4719-A7CA-567170333C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33000" y="1109520"/>
            <a:ext cx="841068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ter-layer texture prediction (ILTP) is evaluated for bit-depth and chroma format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LTP showed decent gain even for combined scalability of bit-depth, chroma format and spatial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6.2% ~ 29.3% for AI, 41.0% ~ 20.1% for RA, 37.2% ~ 12.1% for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uggest to start investigating scalable coding of bit-depth and chroma format in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849-B938-47B4-ADC2-13E59B8438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33560"/>
            <a:ext cx="843912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calable coding tools are being evaluated using 8-bit YUV4:2:0 video in 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owever, need to start investigating scalable coding of bit-depth and chroma resolution s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High bit-depth video coding is already supported in HEVC ver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High chorma resolution video coding is studied in AH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 this contribution, inter-layer texture prediction (ILTP) is evaluated for the following scalable co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as a star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it-depth sca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it-depth + 1.5x spatial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hroma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hroma + bit-depth + 1.5x spatial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-layer texture prediction (ILTP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3360" y="10332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-level inter-layer texture prediction turned o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be 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ffect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multi-loop scalable coding of 8-bit YUV4:2:0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in SMuC along with DCT-IF up-sampl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B93C-53DB-45E0-9FA6-79890DC492C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74"/>
          <p:cNvGrpSpPr/>
          <p:nvPr/>
        </p:nvGrpSpPr>
        <p:grpSpPr>
          <a:xfrm>
            <a:off x="396000" y="2247840"/>
            <a:ext cx="8300160" cy="3846960"/>
            <a:chOff x="396000" y="2247840"/>
            <a:chExt cx="8300160" cy="3846960"/>
          </a:xfrm>
        </p:grpSpPr>
        <p:sp>
          <p:nvSpPr>
            <p:cNvPr id="224" name="AutoShape 5"/>
            <p:cNvSpPr/>
            <p:nvPr/>
          </p:nvSpPr>
          <p:spPr>
            <a:xfrm>
              <a:off x="1374840" y="2895480"/>
              <a:ext cx="6271920" cy="2609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2592720" y="3651480"/>
              <a:ext cx="99252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4836600" y="4047480"/>
              <a:ext cx="73044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2592720" y="4146480"/>
              <a:ext cx="99252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Int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5771520" y="3039480"/>
              <a:ext cx="73044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-loo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6733440" y="4048920"/>
              <a:ext cx="73044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Entrop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En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3850200" y="3651480"/>
              <a:ext cx="803520" cy="10076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3585240" y="3831480"/>
              <a:ext cx="264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3585240" y="432648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4664520" y="4217040"/>
              <a:ext cx="171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7482600" y="4213800"/>
              <a:ext cx="8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7731360" y="394380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  <a:ea typeface="Gulim"/>
                </a:rPr>
                <a:t>EL b</a:t>
              </a: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itstr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7727400" y="304704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Gulim"/>
                </a:rPr>
                <a:t> for nex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Gulim"/>
                </a:rPr>
                <a:t>frame’s ME/M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8"/>
            <p:cNvSpPr/>
            <p:nvPr/>
          </p:nvSpPr>
          <p:spPr>
            <a:xfrm>
              <a:off x="396000" y="3619800"/>
              <a:ext cx="75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EL C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9"/>
            <p:cNvSpPr/>
            <p:nvPr/>
          </p:nvSpPr>
          <p:spPr>
            <a:xfrm>
              <a:off x="417960" y="3096360"/>
              <a:ext cx="76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a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0"/>
            <p:cNvSpPr/>
            <p:nvPr/>
          </p:nvSpPr>
          <p:spPr>
            <a:xfrm>
              <a:off x="5777280" y="4047480"/>
              <a:ext cx="73044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1"/>
            <p:cNvSpPr/>
            <p:nvPr/>
          </p:nvSpPr>
          <p:spPr>
            <a:xfrm>
              <a:off x="1496520" y="4650480"/>
              <a:ext cx="840240" cy="35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DCT-I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Up-samp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1172160" y="5635800"/>
              <a:ext cx="148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Reconstruct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Base-layer Rec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5174640" y="2247840"/>
              <a:ext cx="191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Rec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for next layer’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Inter-layer intra predi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24"/>
            <p:cNvCxnSpPr>
              <a:stCxn id="237" idx="2"/>
              <a:endCxn id="227" idx="1"/>
            </p:cNvCxnSpPr>
            <p:nvPr/>
          </p:nvCxnSpPr>
          <p:spPr>
            <a:xfrm flipH="1" rot="16200000">
              <a:off x="1544760" y="3280680"/>
              <a:ext cx="275040" cy="181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AutoShape 26"/>
            <p:cNvCxnSpPr>
              <a:stCxn id="226" idx="3"/>
              <a:endCxn id="239" idx="1"/>
            </p:cNvCxnSpPr>
            <p:nvPr/>
          </p:nvCxnSpPr>
          <p:spPr>
            <a:xfrm>
              <a:off x="5567040" y="4227120"/>
              <a:ext cx="210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AutoShape 27"/>
            <p:cNvCxnSpPr>
              <a:stCxn id="239" idx="3"/>
              <a:endCxn id="229" idx="1"/>
            </p:cNvCxnSpPr>
            <p:nvPr/>
          </p:nvCxnSpPr>
          <p:spPr>
            <a:xfrm>
              <a:off x="6507720" y="4227480"/>
              <a:ext cx="2257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28"/>
            <p:cNvCxnSpPr>
              <a:stCxn id="238" idx="3"/>
              <a:endCxn id="225" idx="0"/>
            </p:cNvCxnSpPr>
            <p:nvPr/>
          </p:nvCxnSpPr>
          <p:spPr>
            <a:xfrm>
              <a:off x="1167480" y="3283920"/>
              <a:ext cx="1921680" cy="367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9"/>
            <p:cNvCxnSpPr>
              <a:stCxn id="237" idx="3"/>
              <a:endCxn id="225" idx="1"/>
            </p:cNvCxnSpPr>
            <p:nvPr/>
          </p:nvCxnSpPr>
          <p:spPr>
            <a:xfrm flipV="1">
              <a:off x="1140120" y="3831120"/>
              <a:ext cx="1452960" cy="504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30"/>
            <p:cNvCxnSpPr>
              <a:stCxn id="241" idx="0"/>
              <a:endCxn id="240" idx="2"/>
            </p:cNvCxnSpPr>
            <p:nvPr/>
          </p:nvCxnSpPr>
          <p:spPr>
            <a:xfrm flipV="1">
              <a:off x="1915560" y="5010120"/>
              <a:ext cx="1080" cy="62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9" name="AutoShape 31"/>
            <p:cNvSpPr/>
            <p:nvPr/>
          </p:nvSpPr>
          <p:spPr>
            <a:xfrm>
              <a:off x="2592720" y="4650480"/>
              <a:ext cx="977040" cy="3596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Gulim"/>
                </a:rPr>
                <a:t>I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AutoShape 32"/>
            <p:cNvCxnSpPr>
              <a:stCxn id="240" idx="3"/>
              <a:endCxn id="249" idx="1"/>
            </p:cNvCxnSpPr>
            <p:nvPr/>
          </p:nvCxnSpPr>
          <p:spPr>
            <a:xfrm>
              <a:off x="2336760" y="482976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1" name="Text Box 33"/>
            <p:cNvSpPr/>
            <p:nvPr/>
          </p:nvSpPr>
          <p:spPr>
            <a:xfrm>
              <a:off x="1788840" y="4983120"/>
              <a:ext cx="124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Up-scal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ase-layer C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Rec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AutoShape 34"/>
            <p:cNvCxnSpPr>
              <a:stCxn id="228" idx="3"/>
              <a:endCxn id="236" idx="1"/>
            </p:cNvCxnSpPr>
            <p:nvPr/>
          </p:nvCxnSpPr>
          <p:spPr>
            <a:xfrm>
              <a:off x="6501960" y="3219120"/>
              <a:ext cx="124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AutoShape 35"/>
            <p:cNvCxnSpPr>
              <a:stCxn id="228" idx="0"/>
              <a:endCxn id="242" idx="2"/>
            </p:cNvCxnSpPr>
            <p:nvPr/>
          </p:nvCxnSpPr>
          <p:spPr>
            <a:xfrm flipH="1" flipV="1">
              <a:off x="6131880" y="2678760"/>
              <a:ext cx="5040" cy="36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AutoShape 36"/>
            <p:cNvCxnSpPr>
              <a:stCxn id="249" idx="3"/>
              <a:endCxn id="230" idx="2"/>
            </p:cNvCxnSpPr>
            <p:nvPr/>
          </p:nvCxnSpPr>
          <p:spPr>
            <a:xfrm flipV="1">
              <a:off x="3570120" y="4659120"/>
              <a:ext cx="682560" cy="17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5" name="AutoShape 37"/>
            <p:cNvSpPr/>
            <p:nvPr/>
          </p:nvSpPr>
          <p:spPr>
            <a:xfrm>
              <a:off x="5777280" y="3543480"/>
              <a:ext cx="730440" cy="3596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IQ/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6" name="AutoShape 38"/>
            <p:cNvCxnSpPr>
              <a:stCxn id="239" idx="0"/>
              <a:endCxn id="255" idx="2"/>
            </p:cNvCxnSpPr>
            <p:nvPr/>
          </p:nvCxnSpPr>
          <p:spPr>
            <a:xfrm flipV="1">
              <a:off x="6142320" y="3902760"/>
              <a:ext cx="108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AutoShape 39"/>
            <p:cNvCxnSpPr>
              <a:stCxn id="255" idx="0"/>
              <a:endCxn id="228" idx="2"/>
            </p:cNvCxnSpPr>
            <p:nvPr/>
          </p:nvCxnSpPr>
          <p:spPr>
            <a:xfrm flipV="1" rot="16200000">
              <a:off x="6067440" y="3467520"/>
              <a:ext cx="144360" cy="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8" name="Text Box 8"/>
          <p:cNvSpPr/>
          <p:nvPr/>
        </p:nvSpPr>
        <p:spPr>
          <a:xfrm>
            <a:off x="2984400" y="568944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- EL CU-level encoding with IL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CT-IF up-sampling filte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SMuC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33360" y="10332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 up-sampl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 up-sampl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13A7-88E6-45AB-9FBE-C84F72BBBC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50880" y="1538280"/>
          <a:ext cx="5811840" cy="1300320"/>
        </p:xfrm>
        <a:graphic>
          <a:graphicData uri="http://schemas.openxmlformats.org/drawingml/2006/table">
            <a:tbl>
              <a:tblPr/>
              <a:tblGrid>
                <a:gridCol w="1616040"/>
                <a:gridCol w="2662560"/>
                <a:gridCol w="1533240"/>
              </a:tblGrid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ase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Luma up-sampling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caling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 0, 0, 0, 64, 0, 0, 0, 0} /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, 1.5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1, 4, -11, 52, 26, -8, 3, -1} /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1, 4, -11, 40, 40, -11, 4, -1} /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1, 3, -8, 26, 52, -11, 4, -1} /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542960" y="3517920"/>
          <a:ext cx="5819760" cy="2484360"/>
        </p:xfrm>
        <a:graphic>
          <a:graphicData uri="http://schemas.openxmlformats.org/drawingml/2006/table">
            <a:tbl>
              <a:tblPr/>
              <a:tblGrid>
                <a:gridCol w="1621080"/>
                <a:gridCol w="2360520"/>
                <a:gridCol w="1838160"/>
              </a:tblGrid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ase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roma up-sampling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orizontal, Vertical Scaling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0, 64, 0, 0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 H, 1.5x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4, 54, 16, -2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 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5, 50, 22, -3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 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6, 46, 28, -4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4, 36, 36, -4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4, 30, 43, -5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3, 22, 50, -5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 -2, 10, 58, -2 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x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1,  5, 62, -2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5x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LTP for bit-depth and chroma format scalabili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3360" y="10332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TP with DCT-IF up-sampling filter is evaluated for bit-depth and chroma format scalability using SMuC and HM-8.0 AHG7 software as f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B6F9-C2C8-43D1-A7D8-AC59313D0D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2428920"/>
          <a:ext cx="7201080" cy="2448000"/>
        </p:xfrm>
        <a:graphic>
          <a:graphicData uri="http://schemas.openxmlformats.org/drawingml/2006/table">
            <a:tbl>
              <a:tblPr/>
              <a:tblGrid>
                <a:gridCol w="2087640"/>
                <a:gridCol w="1722240"/>
                <a:gridCol w="1787760"/>
                <a:gridCol w="1603440"/>
              </a:tblGrid>
              <a:tr h="446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ype of 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it-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8-bit 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10-bit 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MuC (0.1.1b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it-depth + 1.5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20p 8-b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10-bit 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MuC (0.1.1b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roma + Bit-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8-bit 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10-bit YUV4:2: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M-8.0 AH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roma + Bit-depth + 1.5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20p 8-b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UV4:2: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80p 10-bit YUV4:2: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M-8.0 AH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68" name="Text Box 8"/>
          <p:cNvSpPr/>
          <p:nvPr/>
        </p:nvSpPr>
        <p:spPr>
          <a:xfrm>
            <a:off x="2422440" y="2022480"/>
            <a:ext cx="39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- Scalable coding conditions for exper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sequen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33000" y="1033200"/>
            <a:ext cx="84582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0p 10-bit YUV4:2:2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ono1, ParkScene, BirdsInCage, DucksAndLegs, CrowdRun, OldTwoCross and See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0p 10-bit YUV4:2:0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 by chroma down-sampling from “1080p10-bit YUV4:2: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0p 8-bit YUV4:2:0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 by bit shifting from “1080p 10-bit YUV4:2: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p 8-bit YUV4:2:0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 by spatial down-sampling from “1080p 8-bit YUV4:2: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BCC-4A1B-4510-9CBF-D73F0E0CD4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p-sampling procedur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33000" y="1033200"/>
            <a:ext cx="5181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chroma scaling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chroma format change, chroma scaling factor is dou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depth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bit-depth change b/w BL and EL, each sample is left shifted first before spatial up-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up-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5867280" y="1038240"/>
            <a:ext cx="22384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ju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hroma scaling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5867280" y="2057400"/>
            <a:ext cx="2238480" cy="18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Horizontal up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6267600" y="2476440"/>
            <a:ext cx="14191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it-dep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6267600" y="3219480"/>
            <a:ext cx="14191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pa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up-samp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5867280" y="4200480"/>
            <a:ext cx="2238480" cy="18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Vertical up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6267600" y="4629240"/>
            <a:ext cx="14191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it-dep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6267600" y="5353200"/>
            <a:ext cx="14191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pa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up-samp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C7A5-BBB2-427A-8443-EB18170946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Elbow Connector 14"/>
          <p:cNvCxnSpPr>
            <a:stCxn id="274" idx="2"/>
            <a:endCxn id="275" idx="0"/>
          </p:cNvCxnSpPr>
          <p:nvPr/>
        </p:nvCxnSpPr>
        <p:spPr>
          <a:xfrm rot="5400000">
            <a:off x="6839280" y="1908720"/>
            <a:ext cx="2955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Elbow Connector 16"/>
          <p:cNvCxnSpPr>
            <a:stCxn id="275" idx="2"/>
            <a:endCxn id="278" idx="0"/>
          </p:cNvCxnSpPr>
          <p:nvPr/>
        </p:nvCxnSpPr>
        <p:spPr>
          <a:xfrm rot="5400000">
            <a:off x="6851880" y="4067640"/>
            <a:ext cx="267120" cy="216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47400" y="1036800"/>
            <a:ext cx="519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chroma phases for up-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and vertical 4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, 1/4, 1/2 and 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3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, 1/3 and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3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12, 5/12 and 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CT-IF filter for chroma format scalabilit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B9EE-1A96-4B61-8F87-990B8162F58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35"/>
          <p:cNvGrpSpPr/>
          <p:nvPr/>
        </p:nvGrpSpPr>
        <p:grpSpPr>
          <a:xfrm>
            <a:off x="6750000" y="5421240"/>
            <a:ext cx="158760" cy="160560"/>
            <a:chOff x="6750000" y="5421240"/>
            <a:chExt cx="158760" cy="160560"/>
          </a:xfrm>
        </p:grpSpPr>
        <p:sp>
          <p:nvSpPr>
            <p:cNvPr id="288" name="Line 188"/>
            <p:cNvSpPr/>
            <p:nvPr/>
          </p:nvSpPr>
          <p:spPr>
            <a:xfrm>
              <a:off x="6750000" y="5421240"/>
              <a:ext cx="150840" cy="15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9"/>
            <p:cNvSpPr/>
            <p:nvPr/>
          </p:nvSpPr>
          <p:spPr>
            <a:xfrm flipV="1">
              <a:off x="6750000" y="5421240"/>
              <a:ext cx="158760" cy="160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195"/>
          <p:cNvSpPr/>
          <p:nvPr/>
        </p:nvSpPr>
        <p:spPr>
          <a:xfrm>
            <a:off x="6750000" y="4997520"/>
            <a:ext cx="158760" cy="160200"/>
          </a:xfrm>
          <a:prstGeom prst="ellipse">
            <a:avLst/>
          </a:pr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39"/>
          <p:cNvGrpSpPr/>
          <p:nvPr/>
        </p:nvGrpSpPr>
        <p:grpSpPr>
          <a:xfrm>
            <a:off x="6750000" y="4573440"/>
            <a:ext cx="158760" cy="160560"/>
            <a:chOff x="6750000" y="4573440"/>
            <a:chExt cx="158760" cy="160560"/>
          </a:xfrm>
        </p:grpSpPr>
        <p:sp>
          <p:nvSpPr>
            <p:cNvPr id="292" name="Line 188"/>
            <p:cNvSpPr/>
            <p:nvPr/>
          </p:nvSpPr>
          <p:spPr>
            <a:xfrm>
              <a:off x="6750000" y="4573440"/>
              <a:ext cx="150840" cy="15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9"/>
            <p:cNvSpPr/>
            <p:nvPr/>
          </p:nvSpPr>
          <p:spPr>
            <a:xfrm flipV="1">
              <a:off x="6750000" y="4573440"/>
              <a:ext cx="158760" cy="160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2"/>
          <p:cNvGrpSpPr/>
          <p:nvPr/>
        </p:nvGrpSpPr>
        <p:grpSpPr>
          <a:xfrm>
            <a:off x="6750000" y="3659040"/>
            <a:ext cx="158760" cy="160560"/>
            <a:chOff x="6750000" y="3659040"/>
            <a:chExt cx="158760" cy="160560"/>
          </a:xfrm>
        </p:grpSpPr>
        <p:sp>
          <p:nvSpPr>
            <p:cNvPr id="295" name="Line 188"/>
            <p:cNvSpPr/>
            <p:nvPr/>
          </p:nvSpPr>
          <p:spPr>
            <a:xfrm>
              <a:off x="6750000" y="3659040"/>
              <a:ext cx="150840" cy="15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89"/>
            <p:cNvSpPr/>
            <p:nvPr/>
          </p:nvSpPr>
          <p:spPr>
            <a:xfrm flipV="1">
              <a:off x="6750000" y="3659040"/>
              <a:ext cx="158760" cy="160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Oval 195"/>
          <p:cNvSpPr/>
          <p:nvPr/>
        </p:nvSpPr>
        <p:spPr>
          <a:xfrm>
            <a:off x="6750000" y="3235320"/>
            <a:ext cx="158760" cy="160200"/>
          </a:xfrm>
          <a:prstGeom prst="ellipse">
            <a:avLst/>
          </a:pr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46"/>
          <p:cNvGrpSpPr/>
          <p:nvPr/>
        </p:nvGrpSpPr>
        <p:grpSpPr>
          <a:xfrm>
            <a:off x="6750000" y="2811240"/>
            <a:ext cx="158760" cy="160200"/>
            <a:chOff x="6750000" y="2811240"/>
            <a:chExt cx="158760" cy="160200"/>
          </a:xfrm>
        </p:grpSpPr>
        <p:sp>
          <p:nvSpPr>
            <p:cNvPr id="299" name="Line 188"/>
            <p:cNvSpPr/>
            <p:nvPr/>
          </p:nvSpPr>
          <p:spPr>
            <a:xfrm>
              <a:off x="6750000" y="2811600"/>
              <a:ext cx="150840" cy="1522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9"/>
            <p:cNvSpPr/>
            <p:nvPr/>
          </p:nvSpPr>
          <p:spPr>
            <a:xfrm flipV="1">
              <a:off x="6750000" y="2811240"/>
              <a:ext cx="158760" cy="1602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49"/>
          <p:cNvGrpSpPr/>
          <p:nvPr/>
        </p:nvGrpSpPr>
        <p:grpSpPr>
          <a:xfrm>
            <a:off x="6750000" y="2011320"/>
            <a:ext cx="158760" cy="160560"/>
            <a:chOff x="6750000" y="2011320"/>
            <a:chExt cx="158760" cy="160560"/>
          </a:xfrm>
        </p:grpSpPr>
        <p:sp>
          <p:nvSpPr>
            <p:cNvPr id="302" name="Line 188"/>
            <p:cNvSpPr/>
            <p:nvPr/>
          </p:nvSpPr>
          <p:spPr>
            <a:xfrm>
              <a:off x="6750000" y="2011320"/>
              <a:ext cx="150840" cy="15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89"/>
            <p:cNvSpPr/>
            <p:nvPr/>
          </p:nvSpPr>
          <p:spPr>
            <a:xfrm flipV="1">
              <a:off x="6750000" y="2011320"/>
              <a:ext cx="158760" cy="160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195"/>
          <p:cNvSpPr/>
          <p:nvPr/>
        </p:nvSpPr>
        <p:spPr>
          <a:xfrm>
            <a:off x="6750000" y="1625760"/>
            <a:ext cx="158760" cy="160200"/>
          </a:xfrm>
          <a:prstGeom prst="ellipse">
            <a:avLst/>
          </a:pr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53"/>
          <p:cNvGrpSpPr/>
          <p:nvPr/>
        </p:nvGrpSpPr>
        <p:grpSpPr>
          <a:xfrm>
            <a:off x="6750000" y="1239480"/>
            <a:ext cx="158760" cy="160200"/>
            <a:chOff x="6750000" y="1239480"/>
            <a:chExt cx="158760" cy="160200"/>
          </a:xfrm>
        </p:grpSpPr>
        <p:sp>
          <p:nvSpPr>
            <p:cNvPr id="306" name="Line 188"/>
            <p:cNvSpPr/>
            <p:nvPr/>
          </p:nvSpPr>
          <p:spPr>
            <a:xfrm>
              <a:off x="6750000" y="1239840"/>
              <a:ext cx="150840" cy="1522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9"/>
            <p:cNvSpPr/>
            <p:nvPr/>
          </p:nvSpPr>
          <p:spPr>
            <a:xfrm flipV="1">
              <a:off x="6750000" y="1239480"/>
              <a:ext cx="158760" cy="1602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75"/>
          <p:cNvGrpSpPr/>
          <p:nvPr/>
        </p:nvGrpSpPr>
        <p:grpSpPr>
          <a:xfrm>
            <a:off x="6757920" y="1230480"/>
            <a:ext cx="152640" cy="152280"/>
            <a:chOff x="6757920" y="1230480"/>
            <a:chExt cx="152640" cy="152280"/>
          </a:xfrm>
        </p:grpSpPr>
        <p:sp>
          <p:nvSpPr>
            <p:cNvPr id="309" name="Oval 167"/>
            <p:cNvSpPr/>
            <p:nvPr/>
          </p:nvSpPr>
          <p:spPr>
            <a:xfrm>
              <a:off x="6771600" y="128556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21"/>
            <p:cNvSpPr/>
            <p:nvPr/>
          </p:nvSpPr>
          <p:spPr>
            <a:xfrm>
              <a:off x="6757920" y="123048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6801840" y="126792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376"/>
          <p:cNvGrpSpPr/>
          <p:nvPr/>
        </p:nvGrpSpPr>
        <p:grpSpPr>
          <a:xfrm>
            <a:off x="6754680" y="1633680"/>
            <a:ext cx="152640" cy="152280"/>
            <a:chOff x="6754680" y="1633680"/>
            <a:chExt cx="152640" cy="152280"/>
          </a:xfrm>
        </p:grpSpPr>
        <p:sp>
          <p:nvSpPr>
            <p:cNvPr id="313" name="Oval 167"/>
            <p:cNvSpPr/>
            <p:nvPr/>
          </p:nvSpPr>
          <p:spPr>
            <a:xfrm>
              <a:off x="6768360" y="168876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21"/>
            <p:cNvSpPr/>
            <p:nvPr/>
          </p:nvSpPr>
          <p:spPr>
            <a:xfrm>
              <a:off x="6754680" y="163368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68"/>
            <p:cNvSpPr/>
            <p:nvPr/>
          </p:nvSpPr>
          <p:spPr>
            <a:xfrm>
              <a:off x="6798600" y="167112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77"/>
          <p:cNvGrpSpPr/>
          <p:nvPr/>
        </p:nvGrpSpPr>
        <p:grpSpPr>
          <a:xfrm>
            <a:off x="6757920" y="2013120"/>
            <a:ext cx="152640" cy="152280"/>
            <a:chOff x="6757920" y="2013120"/>
            <a:chExt cx="152640" cy="152280"/>
          </a:xfrm>
        </p:grpSpPr>
        <p:sp>
          <p:nvSpPr>
            <p:cNvPr id="317" name="Oval 167"/>
            <p:cNvSpPr/>
            <p:nvPr/>
          </p:nvSpPr>
          <p:spPr>
            <a:xfrm>
              <a:off x="6771600" y="206820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1"/>
            <p:cNvSpPr/>
            <p:nvPr/>
          </p:nvSpPr>
          <p:spPr>
            <a:xfrm>
              <a:off x="6757920" y="201312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68"/>
            <p:cNvSpPr/>
            <p:nvPr/>
          </p:nvSpPr>
          <p:spPr>
            <a:xfrm>
              <a:off x="6801840" y="205056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78"/>
          <p:cNvGrpSpPr/>
          <p:nvPr/>
        </p:nvGrpSpPr>
        <p:grpSpPr>
          <a:xfrm>
            <a:off x="6750000" y="2809800"/>
            <a:ext cx="152280" cy="152640"/>
            <a:chOff x="6750000" y="2809800"/>
            <a:chExt cx="152280" cy="152640"/>
          </a:xfrm>
        </p:grpSpPr>
        <p:sp>
          <p:nvSpPr>
            <p:cNvPr id="321" name="Oval 167"/>
            <p:cNvSpPr/>
            <p:nvPr/>
          </p:nvSpPr>
          <p:spPr>
            <a:xfrm>
              <a:off x="6763680" y="286488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21"/>
            <p:cNvSpPr/>
            <p:nvPr/>
          </p:nvSpPr>
          <p:spPr>
            <a:xfrm>
              <a:off x="6750000" y="2809800"/>
              <a:ext cx="152280" cy="1526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68"/>
            <p:cNvSpPr/>
            <p:nvPr/>
          </p:nvSpPr>
          <p:spPr>
            <a:xfrm>
              <a:off x="6793560" y="284724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379"/>
          <p:cNvGrpSpPr/>
          <p:nvPr/>
        </p:nvGrpSpPr>
        <p:grpSpPr>
          <a:xfrm>
            <a:off x="6754680" y="3243240"/>
            <a:ext cx="152640" cy="152280"/>
            <a:chOff x="6754680" y="3243240"/>
            <a:chExt cx="152640" cy="152280"/>
          </a:xfrm>
        </p:grpSpPr>
        <p:sp>
          <p:nvSpPr>
            <p:cNvPr id="325" name="Oval 167"/>
            <p:cNvSpPr/>
            <p:nvPr/>
          </p:nvSpPr>
          <p:spPr>
            <a:xfrm>
              <a:off x="6768360" y="329832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1"/>
            <p:cNvSpPr/>
            <p:nvPr/>
          </p:nvSpPr>
          <p:spPr>
            <a:xfrm>
              <a:off x="6754680" y="324324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68"/>
            <p:cNvSpPr/>
            <p:nvPr/>
          </p:nvSpPr>
          <p:spPr>
            <a:xfrm>
              <a:off x="6798600" y="328068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80"/>
          <p:cNvGrpSpPr/>
          <p:nvPr/>
        </p:nvGrpSpPr>
        <p:grpSpPr>
          <a:xfrm>
            <a:off x="6754680" y="3672000"/>
            <a:ext cx="152640" cy="152280"/>
            <a:chOff x="6754680" y="3672000"/>
            <a:chExt cx="152640" cy="152280"/>
          </a:xfrm>
        </p:grpSpPr>
        <p:sp>
          <p:nvSpPr>
            <p:cNvPr id="329" name="Oval 167"/>
            <p:cNvSpPr/>
            <p:nvPr/>
          </p:nvSpPr>
          <p:spPr>
            <a:xfrm>
              <a:off x="6768360" y="372708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21"/>
            <p:cNvSpPr/>
            <p:nvPr/>
          </p:nvSpPr>
          <p:spPr>
            <a:xfrm>
              <a:off x="6754680" y="367200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8"/>
            <p:cNvSpPr/>
            <p:nvPr/>
          </p:nvSpPr>
          <p:spPr>
            <a:xfrm>
              <a:off x="6798600" y="370944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81"/>
          <p:cNvGrpSpPr/>
          <p:nvPr/>
        </p:nvGrpSpPr>
        <p:grpSpPr>
          <a:xfrm>
            <a:off x="6754680" y="4576680"/>
            <a:ext cx="152640" cy="152640"/>
            <a:chOff x="6754680" y="4576680"/>
            <a:chExt cx="152640" cy="152640"/>
          </a:xfrm>
        </p:grpSpPr>
        <p:sp>
          <p:nvSpPr>
            <p:cNvPr id="333" name="Oval 167"/>
            <p:cNvSpPr/>
            <p:nvPr/>
          </p:nvSpPr>
          <p:spPr>
            <a:xfrm>
              <a:off x="6768360" y="463176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21"/>
            <p:cNvSpPr/>
            <p:nvPr/>
          </p:nvSpPr>
          <p:spPr>
            <a:xfrm>
              <a:off x="6754680" y="4576680"/>
              <a:ext cx="152640" cy="1526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68"/>
            <p:cNvSpPr/>
            <p:nvPr/>
          </p:nvSpPr>
          <p:spPr>
            <a:xfrm>
              <a:off x="6798600" y="461412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82"/>
          <p:cNvGrpSpPr/>
          <p:nvPr/>
        </p:nvGrpSpPr>
        <p:grpSpPr>
          <a:xfrm>
            <a:off x="6754680" y="5005440"/>
            <a:ext cx="152640" cy="152280"/>
            <a:chOff x="6754680" y="5005440"/>
            <a:chExt cx="152640" cy="152280"/>
          </a:xfrm>
        </p:grpSpPr>
        <p:sp>
          <p:nvSpPr>
            <p:cNvPr id="337" name="Oval 167"/>
            <p:cNvSpPr/>
            <p:nvPr/>
          </p:nvSpPr>
          <p:spPr>
            <a:xfrm>
              <a:off x="6768360" y="506052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1"/>
            <p:cNvSpPr/>
            <p:nvPr/>
          </p:nvSpPr>
          <p:spPr>
            <a:xfrm>
              <a:off x="6754680" y="5005440"/>
              <a:ext cx="15264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8"/>
            <p:cNvSpPr/>
            <p:nvPr/>
          </p:nvSpPr>
          <p:spPr>
            <a:xfrm>
              <a:off x="6798600" y="5042880"/>
              <a:ext cx="7308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83"/>
          <p:cNvGrpSpPr/>
          <p:nvPr/>
        </p:nvGrpSpPr>
        <p:grpSpPr>
          <a:xfrm>
            <a:off x="6750000" y="5429160"/>
            <a:ext cx="152280" cy="152640"/>
            <a:chOff x="6750000" y="5429160"/>
            <a:chExt cx="152280" cy="152640"/>
          </a:xfrm>
        </p:grpSpPr>
        <p:sp>
          <p:nvSpPr>
            <p:cNvPr id="341" name="Oval 167"/>
            <p:cNvSpPr/>
            <p:nvPr/>
          </p:nvSpPr>
          <p:spPr>
            <a:xfrm>
              <a:off x="6763680" y="548424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21"/>
            <p:cNvSpPr/>
            <p:nvPr/>
          </p:nvSpPr>
          <p:spPr>
            <a:xfrm>
              <a:off x="6750000" y="5429160"/>
              <a:ext cx="152280" cy="1526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68"/>
            <p:cNvSpPr/>
            <p:nvPr/>
          </p:nvSpPr>
          <p:spPr>
            <a:xfrm>
              <a:off x="6793560" y="5466600"/>
              <a:ext cx="7308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8"/>
          <p:cNvSpPr/>
          <p:nvPr/>
        </p:nvSpPr>
        <p:spPr>
          <a:xfrm>
            <a:off x="6242040" y="568944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2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YUV4:2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85"/>
          <p:cNvGrpSpPr/>
          <p:nvPr/>
        </p:nvGrpSpPr>
        <p:grpSpPr>
          <a:xfrm>
            <a:off x="5108400" y="1239480"/>
            <a:ext cx="1206720" cy="4871520"/>
            <a:chOff x="5108400" y="1239480"/>
            <a:chExt cx="1206720" cy="4871520"/>
          </a:xfrm>
        </p:grpSpPr>
        <p:grpSp>
          <p:nvGrpSpPr>
            <p:cNvPr id="346" name="Group 214"/>
            <p:cNvGrpSpPr/>
            <p:nvPr/>
          </p:nvGrpSpPr>
          <p:grpSpPr>
            <a:xfrm>
              <a:off x="5626080" y="5421240"/>
              <a:ext cx="158760" cy="160200"/>
              <a:chOff x="5626080" y="5421240"/>
              <a:chExt cx="158760" cy="160200"/>
            </a:xfrm>
          </p:grpSpPr>
          <p:sp>
            <p:nvSpPr>
              <p:cNvPr id="347" name="Line 188"/>
              <p:cNvSpPr/>
              <p:nvPr/>
            </p:nvSpPr>
            <p:spPr>
              <a:xfrm>
                <a:off x="5626080" y="542160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89"/>
              <p:cNvSpPr/>
              <p:nvPr/>
            </p:nvSpPr>
            <p:spPr>
              <a:xfrm flipV="1">
                <a:off x="5626080" y="542124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195"/>
            <p:cNvSpPr/>
            <p:nvPr/>
          </p:nvSpPr>
          <p:spPr>
            <a:xfrm>
              <a:off x="5626080" y="499752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18"/>
            <p:cNvGrpSpPr/>
            <p:nvPr/>
          </p:nvGrpSpPr>
          <p:grpSpPr>
            <a:xfrm>
              <a:off x="5626080" y="4573440"/>
              <a:ext cx="158760" cy="160200"/>
              <a:chOff x="5626080" y="4573440"/>
              <a:chExt cx="158760" cy="160200"/>
            </a:xfrm>
          </p:grpSpPr>
          <p:sp>
            <p:nvSpPr>
              <p:cNvPr id="351" name="Line 188"/>
              <p:cNvSpPr/>
              <p:nvPr/>
            </p:nvSpPr>
            <p:spPr>
              <a:xfrm>
                <a:off x="5626080" y="457380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89"/>
              <p:cNvSpPr/>
              <p:nvPr/>
            </p:nvSpPr>
            <p:spPr>
              <a:xfrm flipV="1">
                <a:off x="5626080" y="457344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21"/>
            <p:cNvGrpSpPr/>
            <p:nvPr/>
          </p:nvGrpSpPr>
          <p:grpSpPr>
            <a:xfrm>
              <a:off x="5626080" y="3658680"/>
              <a:ext cx="158760" cy="160200"/>
              <a:chOff x="5626080" y="3658680"/>
              <a:chExt cx="158760" cy="160200"/>
            </a:xfrm>
          </p:grpSpPr>
          <p:sp>
            <p:nvSpPr>
              <p:cNvPr id="354" name="Line 188"/>
              <p:cNvSpPr/>
              <p:nvPr/>
            </p:nvSpPr>
            <p:spPr>
              <a:xfrm>
                <a:off x="5626080" y="365904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89"/>
              <p:cNvSpPr/>
              <p:nvPr/>
            </p:nvSpPr>
            <p:spPr>
              <a:xfrm flipV="1">
                <a:off x="5626080" y="365868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Oval 195"/>
            <p:cNvSpPr/>
            <p:nvPr/>
          </p:nvSpPr>
          <p:spPr>
            <a:xfrm>
              <a:off x="5626080" y="323532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25"/>
            <p:cNvGrpSpPr/>
            <p:nvPr/>
          </p:nvGrpSpPr>
          <p:grpSpPr>
            <a:xfrm>
              <a:off x="5626080" y="2810880"/>
              <a:ext cx="158760" cy="160200"/>
              <a:chOff x="5626080" y="2810880"/>
              <a:chExt cx="158760" cy="160200"/>
            </a:xfrm>
          </p:grpSpPr>
          <p:sp>
            <p:nvSpPr>
              <p:cNvPr id="358" name="Line 188"/>
              <p:cNvSpPr/>
              <p:nvPr/>
            </p:nvSpPr>
            <p:spPr>
              <a:xfrm>
                <a:off x="5626080" y="281124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89"/>
              <p:cNvSpPr/>
              <p:nvPr/>
            </p:nvSpPr>
            <p:spPr>
              <a:xfrm flipV="1">
                <a:off x="5626080" y="281088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28"/>
            <p:cNvGrpSpPr/>
            <p:nvPr/>
          </p:nvGrpSpPr>
          <p:grpSpPr>
            <a:xfrm>
              <a:off x="5626080" y="2010960"/>
              <a:ext cx="158760" cy="160200"/>
              <a:chOff x="5626080" y="2010960"/>
              <a:chExt cx="158760" cy="160200"/>
            </a:xfrm>
          </p:grpSpPr>
          <p:sp>
            <p:nvSpPr>
              <p:cNvPr id="361" name="Line 188"/>
              <p:cNvSpPr/>
              <p:nvPr/>
            </p:nvSpPr>
            <p:spPr>
              <a:xfrm>
                <a:off x="5626080" y="201132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89"/>
              <p:cNvSpPr/>
              <p:nvPr/>
            </p:nvSpPr>
            <p:spPr>
              <a:xfrm flipV="1">
                <a:off x="5626080" y="201096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Oval 195"/>
            <p:cNvSpPr/>
            <p:nvPr/>
          </p:nvSpPr>
          <p:spPr>
            <a:xfrm>
              <a:off x="5626080" y="162540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32"/>
            <p:cNvGrpSpPr/>
            <p:nvPr/>
          </p:nvGrpSpPr>
          <p:grpSpPr>
            <a:xfrm>
              <a:off x="5626080" y="1239480"/>
              <a:ext cx="158760" cy="160200"/>
              <a:chOff x="5626080" y="1239480"/>
              <a:chExt cx="158760" cy="160200"/>
            </a:xfrm>
          </p:grpSpPr>
          <p:sp>
            <p:nvSpPr>
              <p:cNvPr id="365" name="Line 188"/>
              <p:cNvSpPr/>
              <p:nvPr/>
            </p:nvSpPr>
            <p:spPr>
              <a:xfrm>
                <a:off x="5626080" y="123984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89"/>
              <p:cNvSpPr/>
              <p:nvPr/>
            </p:nvSpPr>
            <p:spPr>
              <a:xfrm flipV="1">
                <a:off x="5626080" y="123948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8"/>
            <p:cNvSpPr/>
            <p:nvPr/>
          </p:nvSpPr>
          <p:spPr>
            <a:xfrm>
              <a:off x="5108400" y="58039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YUV4:2: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8"/>
          <p:cNvSpPr/>
          <p:nvPr/>
        </p:nvSpPr>
        <p:spPr>
          <a:xfrm>
            <a:off x="6927840" y="15652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905520" y="1955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21"/>
          <p:cNvSpPr/>
          <p:nvPr/>
        </p:nvSpPr>
        <p:spPr>
          <a:xfrm>
            <a:off x="6754680" y="2398680"/>
            <a:ext cx="152640" cy="152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68"/>
          <p:cNvSpPr/>
          <p:nvPr/>
        </p:nvSpPr>
        <p:spPr>
          <a:xfrm>
            <a:off x="6797520" y="2436840"/>
            <a:ext cx="73080" cy="76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1"/>
          <p:cNvSpPr/>
          <p:nvPr/>
        </p:nvSpPr>
        <p:spPr>
          <a:xfrm>
            <a:off x="6754680" y="4137120"/>
            <a:ext cx="152640" cy="152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8"/>
          <p:cNvSpPr/>
          <p:nvPr/>
        </p:nvSpPr>
        <p:spPr>
          <a:xfrm>
            <a:off x="6797520" y="4173480"/>
            <a:ext cx="73080" cy="76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6905520" y="2346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6905520" y="2746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3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927840" y="317484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6905520" y="1149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Gulim"/>
              </a:rPr>
              <a:t>3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84"/>
          <p:cNvGrpSpPr/>
          <p:nvPr/>
        </p:nvGrpSpPr>
        <p:grpSpPr>
          <a:xfrm>
            <a:off x="7385040" y="1168560"/>
            <a:ext cx="1282680" cy="5042160"/>
            <a:chOff x="7385040" y="1168560"/>
            <a:chExt cx="1282680" cy="5042160"/>
          </a:xfrm>
        </p:grpSpPr>
        <p:grpSp>
          <p:nvGrpSpPr>
            <p:cNvPr id="379" name="Group 292"/>
            <p:cNvGrpSpPr/>
            <p:nvPr/>
          </p:nvGrpSpPr>
          <p:grpSpPr>
            <a:xfrm>
              <a:off x="7883640" y="5421600"/>
              <a:ext cx="158760" cy="160200"/>
              <a:chOff x="7883640" y="5421600"/>
              <a:chExt cx="158760" cy="160200"/>
            </a:xfrm>
          </p:grpSpPr>
          <p:sp>
            <p:nvSpPr>
              <p:cNvPr id="380" name="Line 188"/>
              <p:cNvSpPr/>
              <p:nvPr/>
            </p:nvSpPr>
            <p:spPr>
              <a:xfrm>
                <a:off x="7883640" y="542196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89"/>
              <p:cNvSpPr/>
              <p:nvPr/>
            </p:nvSpPr>
            <p:spPr>
              <a:xfrm flipV="1">
                <a:off x="7883640" y="542160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195"/>
            <p:cNvSpPr/>
            <p:nvPr/>
          </p:nvSpPr>
          <p:spPr>
            <a:xfrm>
              <a:off x="7883640" y="499824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96"/>
            <p:cNvGrpSpPr/>
            <p:nvPr/>
          </p:nvGrpSpPr>
          <p:grpSpPr>
            <a:xfrm>
              <a:off x="7883640" y="4573800"/>
              <a:ext cx="158760" cy="160200"/>
              <a:chOff x="7883640" y="4573800"/>
              <a:chExt cx="158760" cy="160200"/>
            </a:xfrm>
          </p:grpSpPr>
          <p:sp>
            <p:nvSpPr>
              <p:cNvPr id="384" name="Line 188"/>
              <p:cNvSpPr/>
              <p:nvPr/>
            </p:nvSpPr>
            <p:spPr>
              <a:xfrm>
                <a:off x="7883640" y="457416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89"/>
              <p:cNvSpPr/>
              <p:nvPr/>
            </p:nvSpPr>
            <p:spPr>
              <a:xfrm flipV="1">
                <a:off x="7883640" y="457380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99"/>
            <p:cNvGrpSpPr/>
            <p:nvPr/>
          </p:nvGrpSpPr>
          <p:grpSpPr>
            <a:xfrm>
              <a:off x="7883640" y="3659400"/>
              <a:ext cx="158760" cy="160200"/>
              <a:chOff x="7883640" y="3659400"/>
              <a:chExt cx="158760" cy="160200"/>
            </a:xfrm>
          </p:grpSpPr>
          <p:sp>
            <p:nvSpPr>
              <p:cNvPr id="387" name="Line 188"/>
              <p:cNvSpPr/>
              <p:nvPr/>
            </p:nvSpPr>
            <p:spPr>
              <a:xfrm>
                <a:off x="7883640" y="365976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89"/>
              <p:cNvSpPr/>
              <p:nvPr/>
            </p:nvSpPr>
            <p:spPr>
              <a:xfrm flipV="1">
                <a:off x="7883640" y="365940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Oval 195"/>
            <p:cNvSpPr/>
            <p:nvPr/>
          </p:nvSpPr>
          <p:spPr>
            <a:xfrm>
              <a:off x="7883640" y="323568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303"/>
            <p:cNvGrpSpPr/>
            <p:nvPr/>
          </p:nvGrpSpPr>
          <p:grpSpPr>
            <a:xfrm>
              <a:off x="7883640" y="2811240"/>
              <a:ext cx="158760" cy="160200"/>
              <a:chOff x="7883640" y="2811240"/>
              <a:chExt cx="158760" cy="160200"/>
            </a:xfrm>
          </p:grpSpPr>
          <p:sp>
            <p:nvSpPr>
              <p:cNvPr id="391" name="Line 188"/>
              <p:cNvSpPr/>
              <p:nvPr/>
            </p:nvSpPr>
            <p:spPr>
              <a:xfrm>
                <a:off x="7883640" y="281160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89"/>
              <p:cNvSpPr/>
              <p:nvPr/>
            </p:nvSpPr>
            <p:spPr>
              <a:xfrm flipV="1">
                <a:off x="7883640" y="281124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306"/>
            <p:cNvGrpSpPr/>
            <p:nvPr/>
          </p:nvGrpSpPr>
          <p:grpSpPr>
            <a:xfrm>
              <a:off x="7883640" y="2010960"/>
              <a:ext cx="158760" cy="160200"/>
              <a:chOff x="7883640" y="2010960"/>
              <a:chExt cx="158760" cy="160200"/>
            </a:xfrm>
          </p:grpSpPr>
          <p:sp>
            <p:nvSpPr>
              <p:cNvPr id="394" name="Line 188"/>
              <p:cNvSpPr/>
              <p:nvPr/>
            </p:nvSpPr>
            <p:spPr>
              <a:xfrm>
                <a:off x="7883640" y="201132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89"/>
              <p:cNvSpPr/>
              <p:nvPr/>
            </p:nvSpPr>
            <p:spPr>
              <a:xfrm flipV="1">
                <a:off x="7883640" y="201096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Oval 195"/>
            <p:cNvSpPr/>
            <p:nvPr/>
          </p:nvSpPr>
          <p:spPr>
            <a:xfrm>
              <a:off x="7883640" y="1625400"/>
              <a:ext cx="158760" cy="1602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310"/>
            <p:cNvGrpSpPr/>
            <p:nvPr/>
          </p:nvGrpSpPr>
          <p:grpSpPr>
            <a:xfrm>
              <a:off x="7883640" y="1239480"/>
              <a:ext cx="158760" cy="160200"/>
              <a:chOff x="7883640" y="1239480"/>
              <a:chExt cx="158760" cy="160200"/>
            </a:xfrm>
          </p:grpSpPr>
          <p:sp>
            <p:nvSpPr>
              <p:cNvPr id="398" name="Line 188"/>
              <p:cNvSpPr/>
              <p:nvPr/>
            </p:nvSpPr>
            <p:spPr>
              <a:xfrm>
                <a:off x="7883640" y="1239840"/>
                <a:ext cx="150840" cy="152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89"/>
              <p:cNvSpPr/>
              <p:nvPr/>
            </p:nvSpPr>
            <p:spPr>
              <a:xfrm flipV="1">
                <a:off x="7883640" y="1239480"/>
                <a:ext cx="158760" cy="160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Oval 167"/>
            <p:cNvSpPr/>
            <p:nvPr/>
          </p:nvSpPr>
          <p:spPr>
            <a:xfrm>
              <a:off x="7896240" y="128592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1"/>
            <p:cNvSpPr/>
            <p:nvPr/>
          </p:nvSpPr>
          <p:spPr>
            <a:xfrm>
              <a:off x="7882560" y="123084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68"/>
            <p:cNvSpPr/>
            <p:nvPr/>
          </p:nvSpPr>
          <p:spPr>
            <a:xfrm>
              <a:off x="7926120" y="126828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67"/>
            <p:cNvSpPr/>
            <p:nvPr/>
          </p:nvSpPr>
          <p:spPr>
            <a:xfrm>
              <a:off x="7896240" y="185904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1"/>
            <p:cNvSpPr/>
            <p:nvPr/>
          </p:nvSpPr>
          <p:spPr>
            <a:xfrm>
              <a:off x="7882560" y="180396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68"/>
            <p:cNvSpPr/>
            <p:nvPr/>
          </p:nvSpPr>
          <p:spPr>
            <a:xfrm>
              <a:off x="7926120" y="184140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7"/>
            <p:cNvSpPr/>
            <p:nvPr/>
          </p:nvSpPr>
          <p:spPr>
            <a:xfrm>
              <a:off x="7896240" y="238284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21"/>
            <p:cNvSpPr/>
            <p:nvPr/>
          </p:nvSpPr>
          <p:spPr>
            <a:xfrm>
              <a:off x="7882560" y="2327760"/>
              <a:ext cx="15228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68"/>
            <p:cNvSpPr/>
            <p:nvPr/>
          </p:nvSpPr>
          <p:spPr>
            <a:xfrm>
              <a:off x="7926120" y="236556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67"/>
            <p:cNvSpPr/>
            <p:nvPr/>
          </p:nvSpPr>
          <p:spPr>
            <a:xfrm>
              <a:off x="7896240" y="287856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21"/>
            <p:cNvSpPr/>
            <p:nvPr/>
          </p:nvSpPr>
          <p:spPr>
            <a:xfrm>
              <a:off x="7882560" y="282348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68"/>
            <p:cNvSpPr/>
            <p:nvPr/>
          </p:nvSpPr>
          <p:spPr>
            <a:xfrm>
              <a:off x="7926120" y="286092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7"/>
            <p:cNvSpPr/>
            <p:nvPr/>
          </p:nvSpPr>
          <p:spPr>
            <a:xfrm>
              <a:off x="7896240" y="350712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21"/>
            <p:cNvSpPr/>
            <p:nvPr/>
          </p:nvSpPr>
          <p:spPr>
            <a:xfrm>
              <a:off x="7882560" y="345204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68"/>
            <p:cNvSpPr/>
            <p:nvPr/>
          </p:nvSpPr>
          <p:spPr>
            <a:xfrm>
              <a:off x="7926120" y="348948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7"/>
            <p:cNvSpPr/>
            <p:nvPr/>
          </p:nvSpPr>
          <p:spPr>
            <a:xfrm>
              <a:off x="7896240" y="411696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1"/>
            <p:cNvSpPr/>
            <p:nvPr/>
          </p:nvSpPr>
          <p:spPr>
            <a:xfrm>
              <a:off x="7882560" y="406188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8"/>
            <p:cNvSpPr/>
            <p:nvPr/>
          </p:nvSpPr>
          <p:spPr>
            <a:xfrm>
              <a:off x="7926120" y="409932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7"/>
            <p:cNvSpPr/>
            <p:nvPr/>
          </p:nvSpPr>
          <p:spPr>
            <a:xfrm>
              <a:off x="7896240" y="464076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1"/>
            <p:cNvSpPr/>
            <p:nvPr/>
          </p:nvSpPr>
          <p:spPr>
            <a:xfrm>
              <a:off x="7882560" y="4585680"/>
              <a:ext cx="152280" cy="15228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8"/>
            <p:cNvSpPr/>
            <p:nvPr/>
          </p:nvSpPr>
          <p:spPr>
            <a:xfrm>
              <a:off x="7926120" y="462348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7"/>
            <p:cNvSpPr/>
            <p:nvPr/>
          </p:nvSpPr>
          <p:spPr>
            <a:xfrm>
              <a:off x="7896240" y="526032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1"/>
            <p:cNvSpPr/>
            <p:nvPr/>
          </p:nvSpPr>
          <p:spPr>
            <a:xfrm>
              <a:off x="7882560" y="5205240"/>
              <a:ext cx="152280" cy="15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7926120" y="5242680"/>
              <a:ext cx="727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7385040" y="5690520"/>
              <a:ext cx="120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1.5x YUV4:2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8137440" y="1717560"/>
              <a:ext cx="5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Gulim"/>
                </a:rPr>
                <a:t>1/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8"/>
            <p:cNvSpPr/>
            <p:nvPr/>
          </p:nvSpPr>
          <p:spPr>
            <a:xfrm>
              <a:off x="8137440" y="2241720"/>
              <a:ext cx="5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Gulim"/>
                </a:rPr>
                <a:t>5/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8137440" y="2727360"/>
              <a:ext cx="5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Gulim"/>
                </a:rPr>
                <a:t>3/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"/>
            <p:cNvSpPr/>
            <p:nvPr/>
          </p:nvSpPr>
          <p:spPr>
            <a:xfrm>
              <a:off x="8137440" y="1168560"/>
              <a:ext cx="5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Gulim"/>
                </a:rPr>
                <a:t>3/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8137440" y="3356280"/>
              <a:ext cx="5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Gulim"/>
                </a:rPr>
                <a:t>1/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77"/>
          <p:cNvGrpSpPr/>
          <p:nvPr/>
        </p:nvGrpSpPr>
        <p:grpSpPr>
          <a:xfrm>
            <a:off x="2724120" y="4905360"/>
            <a:ext cx="160200" cy="477360"/>
            <a:chOff x="2724120" y="4905360"/>
            <a:chExt cx="160200" cy="477360"/>
          </a:xfrm>
        </p:grpSpPr>
        <p:grpSp>
          <p:nvGrpSpPr>
            <p:cNvPr id="431" name="Group 178"/>
            <p:cNvGrpSpPr/>
            <p:nvPr/>
          </p:nvGrpSpPr>
          <p:grpSpPr>
            <a:xfrm>
              <a:off x="2724120" y="4905360"/>
              <a:ext cx="160200" cy="158400"/>
              <a:chOff x="2724120" y="4905360"/>
              <a:chExt cx="160200" cy="158400"/>
            </a:xfrm>
          </p:grpSpPr>
          <p:sp>
            <p:nvSpPr>
              <p:cNvPr id="432" name="Line 179"/>
              <p:cNvSpPr/>
              <p:nvPr/>
            </p:nvSpPr>
            <p:spPr>
              <a:xfrm>
                <a:off x="2724120" y="4905360"/>
                <a:ext cx="152280" cy="1504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80"/>
              <p:cNvSpPr/>
              <p:nvPr/>
            </p:nvSpPr>
            <p:spPr>
              <a:xfrm flipV="1">
                <a:off x="2724120" y="4905360"/>
                <a:ext cx="160200" cy="1584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Oval 181"/>
            <p:cNvSpPr/>
            <p:nvPr/>
          </p:nvSpPr>
          <p:spPr>
            <a:xfrm>
              <a:off x="2724120" y="5224320"/>
              <a:ext cx="160200" cy="15840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182"/>
          <p:cNvSpPr/>
          <p:nvPr/>
        </p:nvSpPr>
        <p:spPr>
          <a:xfrm>
            <a:off x="3027600" y="48261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Luma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3"/>
          <p:cNvSpPr/>
          <p:nvPr/>
        </p:nvSpPr>
        <p:spPr>
          <a:xfrm>
            <a:off x="3027960" y="513396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Chroma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84"/>
          <p:cNvSpPr/>
          <p:nvPr/>
        </p:nvSpPr>
        <p:spPr>
          <a:xfrm>
            <a:off x="2728800" y="5519880"/>
            <a:ext cx="152640" cy="152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5"/>
          <p:cNvSpPr/>
          <p:nvPr/>
        </p:nvSpPr>
        <p:spPr>
          <a:xfrm>
            <a:off x="3025440" y="5438880"/>
            <a:ext cx="18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Upsampled luma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6"/>
          <p:cNvSpPr/>
          <p:nvPr/>
        </p:nvSpPr>
        <p:spPr>
          <a:xfrm>
            <a:off x="2766960" y="5843520"/>
            <a:ext cx="73080" cy="76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7"/>
          <p:cNvSpPr/>
          <p:nvPr/>
        </p:nvSpPr>
        <p:spPr>
          <a:xfrm>
            <a:off x="3025080" y="5743440"/>
            <a:ext cx="20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Upsampled chroma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84240" y="3343320"/>
          <a:ext cx="3749760" cy="914400"/>
        </p:xfrm>
        <a:graphic>
          <a:graphicData uri="http://schemas.openxmlformats.org/drawingml/2006/table">
            <a:tbl>
              <a:tblPr/>
              <a:tblGrid>
                <a:gridCol w="1187640"/>
                <a:gridCol w="2562120"/>
              </a:tblGrid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ase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roma up-sampling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2, 62, 5, -1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4, 43, 30, -4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{-2, 16, 54, -4}/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4524-3885-4FC9-8605-3267F758D72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1: Bit-depth scalability, SMuC_0.1.1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L – 1080p 8-bit YUV4:2:0, EL – 1080p 10-bit YUV4:2: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200320" y="1752480"/>
          <a:ext cx="4476600" cy="4335480"/>
        </p:xfrm>
        <a:graphic>
          <a:graphicData uri="http://schemas.openxmlformats.org/drawingml/2006/table">
            <a:tbl>
              <a:tblPr/>
              <a:tblGrid>
                <a:gridCol w="1919160"/>
                <a:gridCol w="790560"/>
                <a:gridCol w="876240"/>
                <a:gridCol w="890640"/>
              </a:tblGrid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 HEVC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9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9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9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5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 HEVC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8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8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8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15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3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D-P HEVC BitDep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all (EL+B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7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verhead over Single La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Overall (E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7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7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바탕"/>
                        </a:rPr>
                        <a:t>-7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17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43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L M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tc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1-14T09:15:41Z</dcterms:modified>
  <cp:revision>187</cp:revision>
  <dc:subject/>
  <dc:title>Presentation Title Here</dc:title>
</cp:coreProperties>
</file>