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255FE7-E05F-41B2-B152-DA20F02E0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76AA6B-BAA8-4182-B405-27D1FB0C8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F33096-1BE6-4EDE-A5E4-B9CBB151D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223956-E931-4E6D-AF14-295225B60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277059-D4B4-4389-987F-EA7D4E01E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962422-11EC-408C-AEB3-A93C1519F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C499EC-FFF6-429D-B38A-A36BBA0C4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2689FC-DF41-40C2-8714-16EF03257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1D1-8FC9-40FC-AECE-AE162E05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3B2A-DDDB-4B66-88CB-DE047F0A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7DB-618F-45B7-AFB1-0F547740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FDC-5890-430D-A934-BD84AA87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F2C-AAF7-4FD2-8C6B-CA0E5146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818-4BCC-423C-A8D8-2D2ECF1A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C2E-4DE2-48F4-A747-AD539F53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6FC-943B-4CA5-946A-D4FFE894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722-DE49-463F-8FFA-2E3FA151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9C8-5737-4E6D-9E60-35490454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AF6-FB4E-4E61-AF8A-607ADC08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FD2-E69C-4F15-9CE4-66DAFFF5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A547-892F-4B2C-865A-4D9A965DC1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800100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0210: On Layer Dependency Signa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hin Deshp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p Lab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4391-5119-4904-92B4-5724A6A945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urrent video parameter set extension design layer dependency information is signaled using fixed length syntax elements which specif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number of layers each layer directly depends on - num_direct_ref_layers[ i ] coded as u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ist of these reference layer id values – a list of size num_direct_ref_layers[ i ] signaling ref_layer_id[ i ][ j ] values coded as u(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ocument proposes a new syntax for signaling layer dependency information. It is asserted that the proposed syntax is simpler and bit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sserted that the main advantages of the proposed approach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re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allow easy parsing of layer dependency information to detect which layers are independent and which layers are dependent on other lay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requires fewer bits to signal in case a layer is independ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our different syntax variants are prop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3F51-915B-4A95-B559-49DB5C9399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– Summary of Vari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t 1: Signals a mask of layer dependency information for all layer ids. Then it signals a list of reference layer id values only for layer ids which have reference layers that they depend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t 2: Signals a 1 bit flag for each layer indicating if the layer is dependent or independent. Then for the dependent layers it signals a list of reference layer id values that they depend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t 3: A two-dimensional array of 0 or 1 values is sent. Each row in the array corresponds to one layer id value. Each 0 or 1 mask pattern in a row signals which layers the particular layer depends up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t 4: Is a combination of variant 1 and variant 3. A mask of layer dependency information for all layer ids is signaled. Then only for the dependent layers a mask pattern of 0 or 1 values signaling which layers the dependent layer depends on is sign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1D94-5699-44F7-8902-555BA0546B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Variant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00600" y="1447920"/>
            <a:ext cx="4191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yer_dependency_information_patter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gnals a pattern of 0 and 1 bits with the length equal to vps_max_layers_minus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alue of 0 for i’th bit of layer_dependency_information_pattern indicates that the layer with layer_id (i+1) is an independent layer. A value of 1 for i’th bit of layer_dependency_information_pattern indicates that the layer with layer_id (i+1) is a dependent layer which depends on one or more of other lay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lue of NumDepLayers is equal to the sum of number of bits in the layer_dependency_information_pattern having value of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4C43-A827-4420-BC18-22887AC7F1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531800"/>
            <a:ext cx="4908600" cy="5031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457200" y="838080"/>
            <a:ext cx="83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riant 1: Signals a mask of layer dependency information for all layer ids. Then it signals a list of reference layer id values only for layer ids which have reference layers that they depend o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Varian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800600" y="1447920"/>
            <a:ext cx="4191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yer_dependency_flag[i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gnals if a layer depends on other layers . A value of 0 for the flag indicates that the layer with layer_id i is an independent layer. A value of 1 for i’th  bit indicates that the layer with layer_id i is a dependent lay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360C-654C-4508-9436-94F510CED3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457200" y="838080"/>
            <a:ext cx="83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riant 2: Signals a 1 bit flag for each layer indicating if the layer is dependent or independent. Then for the dependent layers it signals a list of reference layer id values that they depend o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240" y="1523880"/>
            <a:ext cx="474336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Variant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4120" y="1447920"/>
            <a:ext cx="3657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yer_dependency_map[i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gnals a pattern of 0 and 1 bits with the length equal to vps_max_layers_minus1. A value of 0 for k’th bit of layer_dependency_map[i] indicates that the layer i does not depend on layer with layer_id (k+1). A value of 1 for k’th bit of layer_dependency_map[i] indicates that the layer i depends on layer with layer_id (k+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FC24-7649-43B0-B4DB-F0FDF39A4B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457200" y="838080"/>
            <a:ext cx="838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riant 3: A two-dimensional array of 0 or 1 values is sent. Each row in the array corresponds to one layer id value. Each 0 or 1 mask pattern in a row signals which layers the particular layer depends upo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7480" y="1523880"/>
            <a:ext cx="524664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Variant 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800600" y="1676160"/>
            <a:ext cx="41911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yer_dependency_information_patter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the same semantics as in varian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yer_dependency_map[i]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the same semantics as in variant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lue of NumDepLayers is equal to the sum of number of bits in the layer_dependency_information_pattern having value of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s in variant 4 the layer_dependency_map is signaled only for the dependent lay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710D-7F90-44E1-8874-E3EAF8FC23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57200" y="838080"/>
            <a:ext cx="830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riant 4: Is a combination of variant 1 and variant 3. A mask of layer dependency information for all layer ids is signaled. Then only for the dependent layers a mask pattern of 0 or 1 values signaling which layers the dependent layer depends on is signaled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3600" y="1752480"/>
            <a:ext cx="470700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ocument proposes layer dependency signaling in video parameter set exten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syntax variants are propo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to adopt one of the proposed approaches to VPS extension design. Our preference is to adopt variant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B4A2-0C03-4971-8056-719421D8D2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20:09:59Z</dcterms:created>
  <dc:creator>lkerofsky</dc:creator>
  <dc:description/>
  <dc:language>en-US</dc:language>
  <cp:lastModifiedBy>Sachin Deshpande</cp:lastModifiedBy>
  <dcterms:modified xsi:type="dcterms:W3CDTF">2013-01-11T22:01:52Z</dcterms:modified>
  <cp:revision>1154</cp:revision>
  <dc:subject/>
  <dc:title>Slide 1</dc:title>
</cp:coreProperties>
</file>