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C63E2D-E2F6-4E4A-B288-44FD9A5C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2DF7D5-FAEE-4763-98AE-93A0E5DB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2A4A1D-8A91-47C2-9777-5937F53D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EB75E5-9BE5-433B-9702-AD2BB4DD4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E30FEA-6828-4A9C-9CA3-73BBE59AD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B716DA-B72A-4BDF-A318-15094278D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6BE-405D-46B1-8C24-B3DC6544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9BD-B3E8-462B-A6B1-C5F93253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D87-7DC4-4E07-B4D0-3DA0943B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8C6-EEA0-42AC-B3F4-E7134777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85D-226F-4119-AC37-E1A96BBD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6F3-C2EF-4DE0-8258-F79B6725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B0C-9F2F-4F0D-AD2F-CCF3B7A7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C01-F3FA-4D46-947B-AB0A079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5FF-4A49-4D96-899A-2729F14A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B58-2F33-4159-86B9-E0CEFC5D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1D0-C9D8-4A15-81F7-60E66E91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7AB-0CFE-497C-9490-AEA88A81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3198-683F-4B30-9182-5F9639EB68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0209: On Implicit Signaling of Scalability Dimension Identifi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5C2-9E85-45BB-8559-4C0DBCD0A4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9903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urrent video parameter set extension design dimension Id values (dimension_id[i][j]) for each scalability dimension of each layer are explicitly listed and transmit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sserted that in many typical situations the dimension Id values for each scalability dimension for each layer can be derived based on signaling a parameter about each scalability dime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ocument proposes such a method for implicit signaling of scalability dimension identifiers in video parameter set exte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sserted that the main advantages of the proposed approach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re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t allows a simple signalling mechanism which does not need to explicitly list all the scalability dimension identifiers for each layer_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t requires fewer bits to signal when the dimension IDs are assigned according to a typical manner providing full scalability on various scalability dimen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t supports explicit signalling of scalability dimension identifiers for each layer_id if required by som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wo syntax variants are proposed (Variant A, Variant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6AF3-3EBC-4AE0-8589-7D546247D2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Variant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800600" y="118908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s_implicit_dimension_ids_fla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 value of 1 specifies that the explicit listing of dimension_id[i][j] values for various scalability dimensions is not signaled and the dimension id[i][j] values are inferred. vps_implicit_dimension_ids_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 value of 0 specifies that the explicit listing of dimension_id[i][j] values for various scalability dimensions is signa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_dimension_id_minus1[i]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the maximum value of the dimension_id for the scalability dimension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D75F-2CF1-4EC7-8A67-0DC5960A2D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667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Variant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114300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imension_id values are implicitly signaled they are inferred as DimId[i][j]  as described by the code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CCDA-A47E-473E-8C4A-2BE24E5C04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371600" y="2209680"/>
            <a:ext cx="6019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 Id[]={0,0,0,…,0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(i=0;i&lt;=vps_max_layers_minus1;i++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(j=0;j&lt;NumScalabilityTypes;j++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mId[i][j]= Id[j]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[NumScalabilityTypes-1]= Id[NumScalabilityTypes-1]+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(k= NumScalabilityTypes-1;k&gt;=0;k--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Id[k]==(max_dimension_id_minus1[k]+1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[k]=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[k-1]= Id[k-1]+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Variant 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24280" y="1189080"/>
            <a:ext cx="42674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t B is similar to variant A except that the syntax elem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s_nuh_layer_id_present_fla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er_id_in_nuh[ i ]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lso not signaled when implicitly signaling scalability dimension identifi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s and decoding process for Variant B is same as that for variant A except that additionally the value of NUH layer id is inferred to be equal to the entry index i of the loop for (i=0; i&lt;=vps_max_layers_minus1; i++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78DD-CB76-4E71-9E49-28E7B50776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8240" y="1066680"/>
            <a:ext cx="466236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ocument proposes implicit signaling of scalability dimension identifiers in video parameter set exten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yntax variants are propo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one of the proposed approaches to VPS extension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436D-7095-4790-AF46-F24D1E6B5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21:34:55Z</dcterms:created>
  <dc:creator>lkerofsky</dc:creator>
  <dc:description/>
  <dc:language>en-US</dc:language>
  <cp:lastModifiedBy>Sachin Deshpande</cp:lastModifiedBy>
  <dcterms:modified xsi:type="dcterms:W3CDTF">2013-01-11T22:09:11Z</dcterms:modified>
  <cp:revision>1138</cp:revision>
  <dc:subject/>
  <dc:title>Slide 1</dc:title>
</cp:coreProperties>
</file>