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0924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3760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52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0924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63760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38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0924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63760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8052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0924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63760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38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00924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3760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38052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00924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63760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38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3840" cy="14493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 Bold"/>
              </a:rPr>
              <a:t>Click to edit the title text format</a:t>
            </a:r>
            <a:endParaRPr b="0" lang="en-US" sz="41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3887280"/>
            <a:ext cx="6400800" cy="2171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62000"/>
          </a:bodyPr>
          <a:p>
            <a:pPr marL="244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24480" indent="-244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24480" indent="-244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2708c"/>
                </a:solidFill>
                <a:latin typeface="Arial Bold"/>
              </a:rPr>
              <a:t>Click to edit the title text format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20600" indent="-20304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5600" indent="-20160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33480" indent="-203040">
              <a:spcBef>
                <a:spcPts val="400"/>
              </a:spcBef>
              <a:buClr>
                <a:srgbClr val="6270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801720" y="6480000"/>
            <a:ext cx="4648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116280" tIns="63360" bIns="63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3"/>
          <a:stretch/>
        </p:blipFill>
        <p:spPr>
          <a:xfrm>
            <a:off x="193680" y="655308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5"/>
          <p:cNvSpPr/>
          <p:nvPr/>
        </p:nvSpPr>
        <p:spPr>
          <a:xfrm>
            <a:off x="7404120" y="6534000"/>
            <a:ext cx="17524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 BBC MMXII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"/>
          <p:cNvSpPr/>
          <p:nvPr/>
        </p:nvSpPr>
        <p:spPr>
          <a:xfrm>
            <a:off x="304920" y="762120"/>
            <a:ext cx="8535960" cy="144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3492360" y="6526080"/>
            <a:ext cx="175284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CTVC-L01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2708c"/>
                </a:solidFill>
                <a:latin typeface="Arial Bold"/>
              </a:rPr>
              <a:t>Click to edit the title text format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20600" indent="-20304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5600" indent="-20160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33480" indent="-203040">
              <a:spcBef>
                <a:spcPts val="400"/>
              </a:spcBef>
              <a:buClr>
                <a:srgbClr val="6270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828720" y="3887640"/>
            <a:ext cx="77760" cy="4572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801720" y="6480000"/>
            <a:ext cx="4648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116280" tIns="63360" bIns="63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2"/>
          <a:stretch/>
        </p:blipFill>
        <p:spPr>
          <a:xfrm>
            <a:off x="193680" y="655308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6"/>
          <p:cNvSpPr/>
          <p:nvPr/>
        </p:nvSpPr>
        <p:spPr>
          <a:xfrm>
            <a:off x="7404120" y="6534000"/>
            <a:ext cx="17524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 BBC MMXII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2000" y="1270080"/>
            <a:ext cx="8712360" cy="2185920"/>
          </a:xfrm>
          <a:prstGeom prst="rect">
            <a:avLst/>
          </a:prstGeom>
          <a:noFill/>
          <a:ln w="0">
            <a:noFill/>
          </a:ln>
        </p:spPr>
        <p:txBody>
          <a:bodyPr lIns="38160" rIns="124560" tIns="38160" bIns="38160" anchor="ctr">
            <a:noAutofit/>
          </a:bodyPr>
          <a:p>
            <a:pPr marL="42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 Bold"/>
              </a:rPr>
              <a:t>JCTVC-L0162</a:t>
            </a:r>
            <a:br>
              <a:rPr sz="3000"/>
            </a:br>
            <a:br>
              <a:rPr sz="3000"/>
            </a:br>
            <a:r>
              <a:rPr b="1" lang="en-CA" sz="3200" spc="-1" strike="noStrike">
                <a:solidFill>
                  <a:srgbClr val="ffffff"/>
                </a:solidFill>
                <a:latin typeface="Arial Bold"/>
              </a:rPr>
              <a:t>AHG7: Coding 4:2:2 chroma format with 4:2:0 and 4:4:4 format codecs</a:t>
            </a: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99640" y="3849840"/>
            <a:ext cx="8231400" cy="2171520"/>
          </a:xfrm>
          <a:prstGeom prst="rect">
            <a:avLst/>
          </a:prstGeom>
          <a:noFill/>
          <a:ln w="0">
            <a:noFill/>
          </a:ln>
        </p:spPr>
        <p:txBody>
          <a:bodyPr lIns="50760" rIns="36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Andrea Gabriellini and Marta Mrak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BBC Research and Developmen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5600" y="70920"/>
            <a:ext cx="7773840" cy="693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2708c"/>
                </a:solidFill>
                <a:latin typeface="Arial Bold"/>
              </a:rPr>
              <a:t>Coding 4:2:2 signal using 4:4:4 and 4:2:0 codecs</a:t>
            </a:r>
            <a:endParaRPr b="0" lang="en-US" sz="24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80520" y="909720"/>
            <a:ext cx="7774200" cy="468000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Application scenario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Sources in 4:2:0 and 4:4:4 formats are used in environments with 4:2:2 serial interface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Sources in 4:2:2 format used in environment where 4:2:2 codecs are not availabl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hallenge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Selection of resampling filter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ing usage of correct filter at the decoder sid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erformance issues, especially in cascaded coding scenarios: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0"/>
            <a:ext cx="9145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0" y="0"/>
            <a:ext cx="9145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6"/>
          <p:cNvGraphicFramePr/>
          <p:nvPr/>
        </p:nvGraphicFramePr>
        <p:xfrm>
          <a:off x="1332000" y="4654440"/>
          <a:ext cx="6300720" cy="15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654440"/>
                    <a:ext cx="630072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2708c"/>
                </a:solidFill>
                <a:latin typeface="Arial Bold"/>
              </a:rPr>
              <a:t>Scenarios</a:t>
            </a:r>
            <a:endParaRPr b="0" lang="en-US" sz="24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80520" y="1053720"/>
            <a:ext cx="7774200" cy="508644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Coding of 4:2:2 format with 4:2:0 codec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Requires downsampling that introduces losse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Careful filter design can minimise resampling losses; see e.g. SMPTE solution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Coding of 4:2:2 format with 4:4:4 codec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Upsampling/downsampling process does not have to introduce losse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20600" indent="-20304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Use reversible filters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Evaluated scenario: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0" y="0"/>
            <a:ext cx="9145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Object 1"/>
          <p:cNvGraphicFramePr/>
          <p:nvPr/>
        </p:nvGraphicFramePr>
        <p:xfrm>
          <a:off x="828720" y="4294080"/>
          <a:ext cx="7815240" cy="21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4294080"/>
                    <a:ext cx="7815240" cy="21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2708c"/>
                </a:solidFill>
                <a:latin typeface="Arial Bold"/>
              </a:rPr>
              <a:t>Coding 4:2:2 format with 4:4:4 codec</a:t>
            </a:r>
            <a:endParaRPr b="0" lang="en-US" sz="24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0520" y="1294920"/>
            <a:ext cx="7774200" cy="508644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Any upsampling and downsampling filters can be use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Here focus on providing reversible resampling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Resampling 4:2:2 </a:t>
            </a:r>
            <a:r>
              <a:rPr b="0" lang="en-GB" sz="1800" spc="-1" strike="noStrike">
                <a:solidFill>
                  <a:srgbClr val="80808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4:4:4 </a:t>
            </a:r>
            <a:r>
              <a:rPr b="0" lang="en-GB" sz="1800" spc="-1" strike="noStrike">
                <a:solidFill>
                  <a:srgbClr val="80808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4:2:2 does not introduce losse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S-Filter and F-Fil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S-Fil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Encoder - 4:2:2 to 4:4:4 using line doubling: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Decoder - 4:4:4 to 4:2:2 a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Limited performance, but does not require increasing bit-depth to achieve reversibility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0" y="0"/>
            <a:ext cx="9145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1"/>
              <p:cNvSpPr txBox="1"/>
              <p:nvPr/>
            </p:nvSpPr>
            <p:spPr>
              <a:xfrm>
                <a:off x="2989440" y="3718080"/>
                <a:ext cx="289368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3" name="Rectangle 4"/>
          <p:cNvSpPr/>
          <p:nvPr/>
        </p:nvSpPr>
        <p:spPr>
          <a:xfrm>
            <a:off x="0" y="0"/>
            <a:ext cx="9145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3"/>
              <p:cNvSpPr txBox="1"/>
              <p:nvPr/>
            </p:nvSpPr>
            <p:spPr>
              <a:xfrm>
                <a:off x="2556000" y="4654440"/>
                <a:ext cx="42735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n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⌊"/>
                        <m:endChr m:val="⌋"/>
                      </m:dPr>
                      <m:e>
                        <m:f>
                          <m:num>
                            <m:r>
                              <m:t xml:space="preserve">y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n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2708c"/>
                </a:solidFill>
                <a:latin typeface="Arial Bold"/>
              </a:rPr>
              <a:t>Coding 4:2:2 format with 4:4:4  codec (cont.)</a:t>
            </a:r>
            <a:endParaRPr b="0" lang="en-US" sz="24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24000" y="1269720"/>
            <a:ext cx="7773840" cy="508644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F-Fil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Generally can be any FIR fil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Focus on reversibility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Short filter used in experiments, here defined with taps</a:t>
            </a:r>
            <a:r>
              <a:rPr b="0" lang="en-CA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i="1" lang="en-CA" sz="1800" spc="-1" strike="noStrike">
                <a:solidFill>
                  <a:srgbClr val="808080"/>
                </a:solidFill>
                <a:latin typeface="Arial"/>
              </a:rPr>
              <a:t>a</a:t>
            </a:r>
            <a:r>
              <a:rPr b="0" lang="en-CA" sz="1800" spc="-1" strike="noStrike">
                <a:solidFill>
                  <a:srgbClr val="808080"/>
                </a:solidFill>
                <a:latin typeface="Arial"/>
              </a:rPr>
              <a:t> / 2</a:t>
            </a:r>
            <a:r>
              <a:rPr b="0" i="1" lang="en-CA" sz="1800" spc="-1" strike="noStrike" baseline="30000">
                <a:solidFill>
                  <a:srgbClr val="808080"/>
                </a:solidFill>
                <a:latin typeface="Arial"/>
              </a:rPr>
              <a:t>k</a:t>
            </a:r>
            <a:r>
              <a:rPr b="0" lang="en-CA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20600" indent="-20304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For reversibility requires bit-depth increase by only 1 bit (</a:t>
            </a:r>
            <a:r>
              <a:rPr b="0" i="1" lang="en-CA" sz="1800" spc="-1" strike="noStrike">
                <a:solidFill>
                  <a:srgbClr val="808080"/>
                </a:solidFill>
                <a:latin typeface="Times New Roman"/>
                <a:ea typeface="Calibri"/>
              </a:rPr>
              <a:t>k</a:t>
            </a:r>
            <a:r>
              <a:rPr b="0" lang="en-CA" sz="1800" spc="-1" strike="noStrike" baseline="-25000">
                <a:solidFill>
                  <a:srgbClr val="808080"/>
                </a:solidFill>
                <a:latin typeface="Times New Roman"/>
                <a:ea typeface="Calibri"/>
              </a:rPr>
              <a:t>u</a:t>
            </a:r>
            <a:r>
              <a:rPr b="0" lang="en-CA" sz="1800" spc="-1" strike="noStrike">
                <a:solidFill>
                  <a:srgbClr val="808080"/>
                </a:solidFill>
                <a:latin typeface="Times New Roman"/>
                <a:ea typeface="Calibri"/>
              </a:rPr>
              <a:t> = 1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Longer filters will generally have  better anti-aliasing properties, but generally require higher bit-depth increase to keep reversibility propertie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0" y="0"/>
            <a:ext cx="9145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0" y="0"/>
            <a:ext cx="9145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268360" y="2997360"/>
          <a:ext cx="4073760" cy="1081080"/>
        </p:xfrm>
        <a:graphic>
          <a:graphicData uri="http://schemas.openxmlformats.org/drawingml/2006/table">
            <a:tbl>
              <a:tblPr/>
              <a:tblGrid>
                <a:gridCol w="1154160"/>
                <a:gridCol w="2051280"/>
                <a:gridCol w="868320"/>
              </a:tblGrid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amp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ilter taps, </a:t>
                      </a:r>
                      <a:r>
                        <a:rPr b="1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k</a:t>
                      </a:r>
                      <a:r>
                        <a:rPr b="0" lang="en-CA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u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ow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1, 2, 6, 2, 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k</a:t>
                      </a:r>
                      <a:r>
                        <a:rPr b="0" lang="en-CA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2708c"/>
                </a:solidFill>
                <a:latin typeface="Arial Bold"/>
              </a:rPr>
              <a:t>Experiments</a:t>
            </a:r>
            <a:endParaRPr b="0" lang="en-US" sz="24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80520" y="1294920"/>
            <a:ext cx="7774200" cy="508644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Anchor: HM 9.0 RExt; 4:2:2 format coding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Tested: HM 9.0 RExt 4:4:4 format coding, 4:2:2 sample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RExt test conditions and related sequences in 4:2:2 format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10-bit coding only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2708c"/>
                </a:solidFill>
                <a:latin typeface="Arial Bold"/>
              </a:rPr>
              <a:t>Results</a:t>
            </a:r>
            <a:endParaRPr b="0" lang="en-US" sz="2400" spc="-1" strike="noStrike">
              <a:solidFill>
                <a:srgbClr val="62708c"/>
              </a:solidFill>
              <a:latin typeface="Arial Bold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116000" y="838080"/>
          <a:ext cx="7246800" cy="5262840"/>
        </p:xfrm>
        <a:graphic>
          <a:graphicData uri="http://schemas.openxmlformats.org/drawingml/2006/table">
            <a:tbl>
              <a:tblPr/>
              <a:tblGrid>
                <a:gridCol w="1833480"/>
                <a:gridCol w="157320"/>
                <a:gridCol w="425520"/>
                <a:gridCol w="423720"/>
                <a:gridCol w="425520"/>
                <a:gridCol w="425520"/>
                <a:gridCol w="423720"/>
                <a:gridCol w="425520"/>
                <a:gridCol w="156960"/>
                <a:gridCol w="425520"/>
                <a:gridCol w="424080"/>
                <a:gridCol w="425160"/>
                <a:gridCol w="424080"/>
                <a:gridCol w="425520"/>
                <a:gridCol w="425160"/>
              </a:tblGrid>
              <a:tr h="165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6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lter 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6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lter 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8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HE Main-tier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HE High-tier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HE Main-tier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HE High-tier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03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ffic_2560x1600_30_10bit_422_crop.yuv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6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4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23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mono1_1920x1080_24_10bit_422.yuv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7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8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8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3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BUHorse_1920x1080_50_10bit_422.yuv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6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4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3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BUGraphics_1920x1080_50_10bit_422.yuv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6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5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8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BUWaterRocksClose_1920x1080_50_10bit_422.yuv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7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6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5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3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BUKidsSoccer_1920x1080_50_10bit_422.yuv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7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8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king_1920x1080_50_10bit_422.yuv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8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7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</a:tr>
              <a:tr h="1303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6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5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6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9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6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6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7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03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HE Main-tier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HE High-tier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HE Main-tier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HE High-tier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03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ffic_2560x1600_30_10bit_422_crop.yuv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.6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.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4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23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mono1_1920x1080_24_10bit_422.yuv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6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7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6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7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6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5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23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BUHorse_1920x1080_50_10bit_422.yuv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.8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2.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4.7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8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6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9.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23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BUGraphics_1920x1080_50_10bit_422.yuv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6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4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4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BUWaterRocksClose_1920x1080_50_10bit_422.yuv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8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5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</a:tr>
              <a:tr h="123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BUKidsSoccer_1920x1080_50_10bit_422.yuv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4.4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3.8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5.5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4.5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.7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.6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.5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303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king_1920x1080_50_10bit_422.yuv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5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8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4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3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4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5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4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5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9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4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8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HE Main-tier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HE High-tier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HE Main-tier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HE High-tier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03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ffic_2560x1600_30_10bit_422_crop.yuv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5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6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5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23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mono1_1920x1080_24_10bit_422.yuv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6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6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</a:tr>
              <a:tr h="123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BUHorse_1920x1080_50_10bit_422.yuv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4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4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7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5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3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BUGraphics_1920x1080_50_10bit_422.yuv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8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5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</a:tr>
              <a:tr h="183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BUWaterRocksClose_1920x1080_50_10bit_422.yuv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6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4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</a:tr>
              <a:tr h="123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BUKidsSoccer_1920x1080_50_10bit_422.yuv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4.6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4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3.5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2.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.7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.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8.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28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king_1920x1080_50_10bit_422.yuv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5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4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</a:tr>
              <a:tr h="1303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4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6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9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2708c"/>
                </a:solidFill>
                <a:latin typeface="Arial Bold"/>
              </a:rPr>
              <a:t>Conclusions</a:t>
            </a:r>
            <a:endParaRPr b="0" lang="en-US" sz="24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80520" y="1294920"/>
            <a:ext cx="7774200" cy="508644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When content in 4:2:2 chroma format is coded using 4:4:4 or 4:2:0 it is important to choose suitable filter pair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Depending on how the resampling on the encoder is performed, a filter for decoder should be define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Proposa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Enable resampling at the decoder sid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Enable signalling of filter coefficients to enable desirable resampling at the decoder sid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8:54:04Z</dcterms:created>
  <dc:creator>Matteo Naccari</dc:creator>
  <dc:description/>
  <dc:language>en-US</dc:language>
  <cp:lastModifiedBy>martam</cp:lastModifiedBy>
  <dcterms:modified xsi:type="dcterms:W3CDTF">2013-01-15T10:42:16Z</dcterms:modified>
  <cp:revision>153</cp:revision>
  <dc:subject/>
  <dc:title>JCTVC-H0477 On Just Noticeable Distortion Quantization in the HEVC Codec</dc:title>
</cp:coreProperties>
</file>