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A86-AD70-49D8-B123-075376F0804A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969A-8AFD-423C-A8D6-ED5F75038AC7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2DD3-339E-44EF-943A-F4EF70B04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AF7A-60AD-49DB-8C7D-1129F58C3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CB08-536A-4B16-96A9-0557B9E20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BD70-8E8B-4C5B-9D99-B296403DB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8FDE-06C9-4285-AF23-D21B8016F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539F-D2BA-40EC-A200-FE084105E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FCCF-D56B-4917-9B1F-873A5634D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342B-D03C-4756-B738-D5EABDF95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5A0F-0772-4C16-A4DE-9AC358B60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12271-EE4F-40FF-B1F4-9CF1F0E89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1945-72C0-4A91-88A7-E652D4BC6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F312-3038-49D9-94CA-AB37911D8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E938-5D41-404B-8A1B-983CF94F79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HY헤드라인M"/>
              </a:rPr>
              <a:t>TE2: Inter-layer Texture Prediction Signalling (test 3.1.9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ena Alsh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Jan. XX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U-based Intra_BL mo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5728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osed CU-based Intra_BL m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66"/>
                </a:solidFill>
                <a:latin typeface="맑은 고딕"/>
              </a:rPr>
              <a:t>Prediction: 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corresponding BL block of reconstructed pixels are scaled to the EL CU resolution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Residual: same as non-scalable HEVC's inter residual sample coding process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Special mode: Intra_BL skip mode in case of no significant coefficient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8112-C3D4-4274-AD9C-2B82928625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그룹 136"/>
          <p:cNvGrpSpPr/>
          <p:nvPr/>
        </p:nvGrpSpPr>
        <p:grpSpPr>
          <a:xfrm>
            <a:off x="1101600" y="2357280"/>
            <a:ext cx="7542360" cy="4073760"/>
            <a:chOff x="1101600" y="2357280"/>
            <a:chExt cx="7542360" cy="4073760"/>
          </a:xfrm>
        </p:grpSpPr>
        <p:sp>
          <p:nvSpPr>
            <p:cNvPr id="100" name="AutoShape 126"/>
            <p:cNvSpPr/>
            <p:nvPr/>
          </p:nvSpPr>
          <p:spPr>
            <a:xfrm>
              <a:off x="3821040" y="2357280"/>
              <a:ext cx="1608120" cy="2541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tart decoding a CU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utoShape 125"/>
            <p:cNvSpPr/>
            <p:nvPr/>
          </p:nvSpPr>
          <p:spPr>
            <a:xfrm>
              <a:off x="3864240" y="2750400"/>
              <a:ext cx="1521720" cy="4273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kip mode?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124"/>
            <p:cNvSpPr/>
            <p:nvPr/>
          </p:nvSpPr>
          <p:spPr>
            <a:xfrm>
              <a:off x="5500800" y="3286440"/>
              <a:ext cx="2285640" cy="67068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ntra_BL Skip mode?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123"/>
            <p:cNvSpPr/>
            <p:nvPr/>
          </p:nvSpPr>
          <p:spPr>
            <a:xfrm>
              <a:off x="4072320" y="4072320"/>
              <a:ext cx="2071440" cy="3355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ntra_BL mode?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122"/>
            <p:cNvSpPr/>
            <p:nvPr/>
          </p:nvSpPr>
          <p:spPr>
            <a:xfrm>
              <a:off x="3187800" y="4521960"/>
              <a:ext cx="1437840" cy="3355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ntra/Inter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121"/>
            <p:cNvSpPr/>
            <p:nvPr/>
          </p:nvSpPr>
          <p:spPr>
            <a:xfrm>
              <a:off x="1101600" y="5073840"/>
              <a:ext cx="1064160" cy="335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cess Inter predictio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utoShape 120"/>
            <p:cNvSpPr/>
            <p:nvPr/>
          </p:nvSpPr>
          <p:spPr>
            <a:xfrm>
              <a:off x="2619360" y="5073840"/>
              <a:ext cx="1064160" cy="335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cess Inter predictio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19"/>
            <p:cNvSpPr/>
            <p:nvPr/>
          </p:nvSpPr>
          <p:spPr>
            <a:xfrm>
              <a:off x="4137120" y="5073840"/>
              <a:ext cx="1064160" cy="335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cess Intra predictio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AutoShape 118"/>
            <p:cNvSpPr/>
            <p:nvPr/>
          </p:nvSpPr>
          <p:spPr>
            <a:xfrm>
              <a:off x="5654880" y="5073840"/>
              <a:ext cx="1249560" cy="335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cess Inter-layer pixel predictio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117"/>
            <p:cNvSpPr/>
            <p:nvPr/>
          </p:nvSpPr>
          <p:spPr>
            <a:xfrm>
              <a:off x="7358400" y="5073840"/>
              <a:ext cx="1285560" cy="3351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cess Inter-layer pixel prediction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116"/>
            <p:cNvSpPr/>
            <p:nvPr/>
          </p:nvSpPr>
          <p:spPr>
            <a:xfrm>
              <a:off x="4000680" y="5546880"/>
              <a:ext cx="1380600" cy="1677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sidual decoding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115"/>
            <p:cNvSpPr/>
            <p:nvPr/>
          </p:nvSpPr>
          <p:spPr>
            <a:xfrm>
              <a:off x="4038120" y="5859000"/>
              <a:ext cx="1306440" cy="1677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construct CU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114"/>
            <p:cNvSpPr/>
            <p:nvPr/>
          </p:nvSpPr>
          <p:spPr>
            <a:xfrm>
              <a:off x="4233960" y="6170400"/>
              <a:ext cx="914040" cy="2606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AutoShape 113"/>
            <p:cNvCxnSpPr/>
            <p:nvPr/>
          </p:nvCxnSpPr>
          <p:spPr>
            <a:xfrm flipH="1">
              <a:off x="1642680" y="2977560"/>
              <a:ext cx="1080" cy="208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AutoShape 111"/>
            <p:cNvCxnSpPr/>
            <p:nvPr/>
          </p:nvCxnSpPr>
          <p:spPr>
            <a:xfrm>
              <a:off x="3143160" y="4705920"/>
              <a:ext cx="108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AutoShape 107"/>
            <p:cNvCxnSpPr/>
            <p:nvPr/>
          </p:nvCxnSpPr>
          <p:spPr>
            <a:xfrm>
              <a:off x="6643440" y="2970720"/>
              <a:ext cx="10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AutoShape 99"/>
            <p:cNvCxnSpPr/>
            <p:nvPr/>
          </p:nvCxnSpPr>
          <p:spPr>
            <a:xfrm flipH="1">
              <a:off x="1642680" y="5429520"/>
              <a:ext cx="108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7" name="AutoShape 92"/>
            <p:cNvCxnSpPr/>
            <p:nvPr/>
          </p:nvCxnSpPr>
          <p:spPr>
            <a:xfrm>
              <a:off x="4617360" y="2613240"/>
              <a:ext cx="3600" cy="13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AutoShape 91"/>
            <p:cNvCxnSpPr/>
            <p:nvPr/>
          </p:nvCxnSpPr>
          <p:spPr>
            <a:xfrm>
              <a:off x="5372640" y="2963880"/>
              <a:ext cx="1267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AutoShape 90"/>
            <p:cNvCxnSpPr/>
            <p:nvPr/>
          </p:nvCxnSpPr>
          <p:spPr>
            <a:xfrm flipV="1">
              <a:off x="1643040" y="2963520"/>
              <a:ext cx="2232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" name="Text Box 87"/>
            <p:cNvSpPr/>
            <p:nvPr/>
          </p:nvSpPr>
          <p:spPr>
            <a:xfrm>
              <a:off x="3561120" y="2729520"/>
              <a:ext cx="610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85"/>
            <p:cNvSpPr/>
            <p:nvPr/>
          </p:nvSpPr>
          <p:spPr>
            <a:xfrm>
              <a:off x="2962080" y="4446720"/>
              <a:ext cx="610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nter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83"/>
            <p:cNvSpPr/>
            <p:nvPr/>
          </p:nvSpPr>
          <p:spPr>
            <a:xfrm>
              <a:off x="5269680" y="2735640"/>
              <a:ext cx="610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82"/>
            <p:cNvSpPr/>
            <p:nvPr/>
          </p:nvSpPr>
          <p:spPr>
            <a:xfrm>
              <a:off x="4286520" y="4429440"/>
              <a:ext cx="610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ntra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AutoShape 92"/>
            <p:cNvCxnSpPr/>
            <p:nvPr/>
          </p:nvCxnSpPr>
          <p:spPr>
            <a:xfrm>
              <a:off x="4674600" y="5429160"/>
              <a:ext cx="1080" cy="13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92"/>
            <p:cNvCxnSpPr/>
            <p:nvPr/>
          </p:nvCxnSpPr>
          <p:spPr>
            <a:xfrm>
              <a:off x="4672800" y="5721480"/>
              <a:ext cx="1080" cy="13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AutoShape 92"/>
            <p:cNvCxnSpPr/>
            <p:nvPr/>
          </p:nvCxnSpPr>
          <p:spPr>
            <a:xfrm>
              <a:off x="4665600" y="6037920"/>
              <a:ext cx="1080" cy="13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AutoShape 111"/>
            <p:cNvCxnSpPr/>
            <p:nvPr/>
          </p:nvCxnSpPr>
          <p:spPr>
            <a:xfrm>
              <a:off x="1636200" y="5929560"/>
              <a:ext cx="2428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AutoShape 99"/>
            <p:cNvCxnSpPr/>
            <p:nvPr/>
          </p:nvCxnSpPr>
          <p:spPr>
            <a:xfrm flipH="1">
              <a:off x="8000640" y="5429520"/>
              <a:ext cx="108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AutoShape 111"/>
            <p:cNvCxnSpPr/>
            <p:nvPr/>
          </p:nvCxnSpPr>
          <p:spPr>
            <a:xfrm flipH="1">
              <a:off x="5357520" y="5929560"/>
              <a:ext cx="2664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Text Box 83"/>
            <p:cNvSpPr/>
            <p:nvPr/>
          </p:nvSpPr>
          <p:spPr>
            <a:xfrm>
              <a:off x="5358240" y="3357360"/>
              <a:ext cx="610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83"/>
            <p:cNvSpPr/>
            <p:nvPr/>
          </p:nvSpPr>
          <p:spPr>
            <a:xfrm>
              <a:off x="3857760" y="4000680"/>
              <a:ext cx="610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87"/>
            <p:cNvSpPr/>
            <p:nvPr/>
          </p:nvSpPr>
          <p:spPr>
            <a:xfrm>
              <a:off x="7572600" y="3357360"/>
              <a:ext cx="610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87"/>
            <p:cNvSpPr/>
            <p:nvPr/>
          </p:nvSpPr>
          <p:spPr>
            <a:xfrm>
              <a:off x="5929560" y="4000680"/>
              <a:ext cx="610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AutoShape 99"/>
            <p:cNvCxnSpPr/>
            <p:nvPr/>
          </p:nvCxnSpPr>
          <p:spPr>
            <a:xfrm flipH="1">
              <a:off x="3142800" y="5429520"/>
              <a:ext cx="1080" cy="19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AutoShape 111"/>
            <p:cNvCxnSpPr/>
            <p:nvPr/>
          </p:nvCxnSpPr>
          <p:spPr>
            <a:xfrm flipV="1">
              <a:off x="3143160" y="5617440"/>
              <a:ext cx="828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99"/>
            <p:cNvCxnSpPr/>
            <p:nvPr/>
          </p:nvCxnSpPr>
          <p:spPr>
            <a:xfrm flipH="1">
              <a:off x="6285960" y="5429520"/>
              <a:ext cx="1080" cy="19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" name="AutoShape 111"/>
            <p:cNvCxnSpPr/>
            <p:nvPr/>
          </p:nvCxnSpPr>
          <p:spPr>
            <a:xfrm flipH="1" flipV="1">
              <a:off x="5391360" y="5643360"/>
              <a:ext cx="90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AutoShape 111"/>
            <p:cNvCxnSpPr/>
            <p:nvPr/>
          </p:nvCxnSpPr>
          <p:spPr>
            <a:xfrm>
              <a:off x="4672800" y="4700160"/>
              <a:ext cx="108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AutoShape 91"/>
            <p:cNvCxnSpPr/>
            <p:nvPr/>
          </p:nvCxnSpPr>
          <p:spPr>
            <a:xfrm>
              <a:off x="3135960" y="4693320"/>
              <a:ext cx="72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AutoShape 91"/>
            <p:cNvCxnSpPr/>
            <p:nvPr/>
          </p:nvCxnSpPr>
          <p:spPr>
            <a:xfrm>
              <a:off x="4605840" y="4699800"/>
              <a:ext cx="72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AutoShape 111"/>
            <p:cNvCxnSpPr/>
            <p:nvPr/>
          </p:nvCxnSpPr>
          <p:spPr>
            <a:xfrm>
              <a:off x="3913560" y="4257000"/>
              <a:ext cx="108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AutoShape 111"/>
            <p:cNvCxnSpPr/>
            <p:nvPr/>
          </p:nvCxnSpPr>
          <p:spPr>
            <a:xfrm>
              <a:off x="6266520" y="4257000"/>
              <a:ext cx="108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AutoShape 111"/>
            <p:cNvCxnSpPr/>
            <p:nvPr/>
          </p:nvCxnSpPr>
          <p:spPr>
            <a:xfrm>
              <a:off x="8001000" y="3643200"/>
              <a:ext cx="1080" cy="140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AutoShape 111"/>
            <p:cNvCxnSpPr/>
            <p:nvPr/>
          </p:nvCxnSpPr>
          <p:spPr>
            <a:xfrm>
              <a:off x="5098680" y="3636000"/>
              <a:ext cx="1080" cy="43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AutoShape 91"/>
            <p:cNvCxnSpPr/>
            <p:nvPr/>
          </p:nvCxnSpPr>
          <p:spPr>
            <a:xfrm>
              <a:off x="3921480" y="4236840"/>
              <a:ext cx="18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" name="AutoShape 91"/>
            <p:cNvCxnSpPr/>
            <p:nvPr/>
          </p:nvCxnSpPr>
          <p:spPr>
            <a:xfrm>
              <a:off x="6158160" y="4236840"/>
              <a:ext cx="108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" name="AutoShape 91"/>
            <p:cNvCxnSpPr/>
            <p:nvPr/>
          </p:nvCxnSpPr>
          <p:spPr>
            <a:xfrm>
              <a:off x="5099040" y="3630600"/>
              <a:ext cx="432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" name="AutoShape 91"/>
            <p:cNvCxnSpPr/>
            <p:nvPr/>
          </p:nvCxnSpPr>
          <p:spPr>
            <a:xfrm>
              <a:off x="7784280" y="3620880"/>
              <a:ext cx="216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U-based Intra_BL mo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5728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sults (Test 3.1.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According to the following results, test 3.1.9 provides not only BD-rate improvement but also decoder complexity reduction compared SmuC 0.1.1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The following result is obtained by disabling Intra_BL skip mode and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using Root Cbf coding for Intra_BL mode explicitly instead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870C-B67A-45C8-B535-C80FC7CFF0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2920" y="1857240"/>
          <a:ext cx="8929800" cy="951120"/>
        </p:xfrm>
        <a:graphic>
          <a:graphicData uri="http://schemas.openxmlformats.org/drawingml/2006/table">
            <a:tbl>
              <a:tblPr/>
              <a:tblGrid>
                <a:gridCol w="785880"/>
                <a:gridCol w="560160"/>
                <a:gridCol w="594000"/>
                <a:gridCol w="593640"/>
                <a:gridCol w="592200"/>
                <a:gridCol w="593640"/>
                <a:gridCol w="593640"/>
                <a:gridCol w="576360"/>
                <a:gridCol w="577800"/>
                <a:gridCol w="576360"/>
                <a:gridCol w="577800"/>
                <a:gridCol w="576360"/>
                <a:gridCol w="577800"/>
                <a:gridCol w="576000"/>
                <a:gridCol w="578160"/>
              </a:tblGrid>
              <a:tr h="188280">
                <a:tc rowSpan="2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g. AI (2X, 1.5X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g. RA/LDP (2X, 1.5X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I 2 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I 1.5 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 2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 1.5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 SN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D 2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D 1.5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D SN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. 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. 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. 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.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est 3.1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8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4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2.6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9.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9.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3.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3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32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6.6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6.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2.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2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3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muC 0.1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7.7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3.7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5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9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9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6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2.8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32.6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6.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6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2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1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3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2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l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3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3.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42920" y="3857760"/>
          <a:ext cx="8929800" cy="1019160"/>
        </p:xfrm>
        <a:graphic>
          <a:graphicData uri="http://schemas.openxmlformats.org/drawingml/2006/table">
            <a:tbl>
              <a:tblPr/>
              <a:tblGrid>
                <a:gridCol w="857160"/>
                <a:gridCol w="576360"/>
                <a:gridCol w="576360"/>
                <a:gridCol w="577800"/>
                <a:gridCol w="576000"/>
                <a:gridCol w="576360"/>
                <a:gridCol w="617760"/>
                <a:gridCol w="536400"/>
                <a:gridCol w="576360"/>
                <a:gridCol w="576360"/>
                <a:gridCol w="576000"/>
                <a:gridCol w="576360"/>
                <a:gridCol w="577800"/>
                <a:gridCol w="576360"/>
                <a:gridCol w="576360"/>
              </a:tblGrid>
              <a:tr h="203040">
                <a:tc rowSpan="2"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g. AI (2X, 1.5X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g. RA/LDP (2X, 1.5X)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I 2 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I 1.5 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 2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 1.5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RA SN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D 2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D 1.5X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D SN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. T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. T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. T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.T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est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7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5.5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9.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9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1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3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32.8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6.6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6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2.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2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3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muC 0.1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7.7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3.7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5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9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9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6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2.8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32.6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6.4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6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0.0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2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21.9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3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lt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8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2.8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15.6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3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1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0.2%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B9BE-DD83-4EEF-A52F-B4CD30DFDD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tammy.lee</cp:lastModifiedBy>
  <dcterms:modified xsi:type="dcterms:W3CDTF">2013-01-10T05:42:19Z</dcterms:modified>
  <cp:revision>4528</cp:revision>
  <dc:subject/>
  <dc:title>Visual SNHC Tools</dc:title>
</cp:coreProperties>
</file>