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Users\flibert\Pictures\En tête, pied de page\ATEME header.gif"/>
          <p:cNvPicPr/>
          <p:nvPr/>
        </p:nvPicPr>
        <p:blipFill>
          <a:blip r:embed="rId3"/>
          <a:stretch/>
        </p:blipFill>
        <p:spPr>
          <a:xfrm>
            <a:off x="0" y="0"/>
            <a:ext cx="9180360" cy="1792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2" name="ZoneTexte 1"/>
          <p:cNvSpPr/>
          <p:nvPr/>
        </p:nvSpPr>
        <p:spPr>
          <a:xfrm>
            <a:off x="25092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Shanghai JCT-VC meeting October 2012               JCTVC- K0353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cuments and Settings\bfouchard\Bureau\background.jp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D:\Users\flibert\Pictures\En tête, pied de page\ATEME header 2.gif"/>
          <p:cNvPicPr/>
          <p:nvPr/>
        </p:nvPicPr>
        <p:blipFill>
          <a:blip r:embed="rId3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51AA-4D5F-40C7-8D7D-F31B3BFD03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9D47-AA8B-43C3-98E2-4E248A9A11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D:\Users\flibert\Pictures\En tête, pied de page\top_simpl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Users\flibert\Pictures\En tête, pied de page\entête 2.jpg"/>
          <p:cNvPicPr/>
          <p:nvPr/>
        </p:nvPicPr>
        <p:blipFill>
          <a:blip r:embed="rId3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"/>
          <p:cNvSpPr/>
          <p:nvPr/>
        </p:nvSpPr>
        <p:spPr>
          <a:xfrm>
            <a:off x="46836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JCTVC- K0353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901"/>
              </a:spcBef>
              <a:buClr>
                <a:srgbClr val="006a27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6a27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>
              <a:spcBef>
                <a:spcPts val="751"/>
              </a:spcBef>
              <a:buClr>
                <a:srgbClr val="292929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entury Gothic"/>
              </a:rPr>
              <a:t>Second Outline Level</a:t>
            </a:r>
            <a:endParaRPr b="1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2" marL="1079640" indent="-171720">
              <a:spcBef>
                <a:spcPts val="675"/>
              </a:spcBef>
              <a:buClr>
                <a:srgbClr val="99cc00"/>
              </a:buClr>
              <a:buSzPct val="80000"/>
              <a:buFont typeface="Times"/>
              <a:buChar char="-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2e2f2e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2e2f2e"/>
              </a:solidFill>
              <a:latin typeface="Arial"/>
            </a:endParaRPr>
          </a:p>
          <a:p>
            <a:pPr lvl="3" marL="1365120" indent="6480">
              <a:spcBef>
                <a:spcPts val="451"/>
              </a:spcBef>
              <a:buClr>
                <a:srgbClr val="99cc00"/>
              </a:buClr>
              <a:buSzPct val="80000"/>
              <a:buFont typeface="Arial"/>
              <a:buChar char="–"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e2f2e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e2f2e"/>
              </a:solidFill>
              <a:latin typeface="Arial"/>
            </a:endParaRPr>
          </a:p>
          <a:p>
            <a:pPr lvl="4" marL="1822320" indent="6480">
              <a:spcBef>
                <a:spcPts val="451"/>
              </a:spcBef>
              <a:buClr>
                <a:srgbClr val="99cc00"/>
              </a:buClr>
              <a:buSzPct val="80000"/>
              <a:buFont typeface="Verdana"/>
              <a:buChar char="»"/>
              <a:tabLst>
                <a:tab algn="l" pos="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2e2f2e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2e2f2e"/>
              </a:solidFill>
              <a:latin typeface="Verdana"/>
            </a:endParaRPr>
          </a:p>
          <a:p>
            <a:pPr lvl="5" marL="1822320" indent="6480">
              <a:spcBef>
                <a:spcPts val="374"/>
              </a:spcBef>
              <a:buClr>
                <a:srgbClr val="000000"/>
              </a:buClr>
              <a:buSzPct val="80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e2f2e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2e2f2e"/>
              </a:solidFill>
              <a:latin typeface="Verdana"/>
            </a:endParaRPr>
          </a:p>
          <a:p>
            <a:pPr lvl="6" marL="1822320" indent="6480">
              <a:spcBef>
                <a:spcPts val="374"/>
              </a:spcBef>
              <a:buClr>
                <a:srgbClr val="000000"/>
              </a:buClr>
              <a:buSzPct val="80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e2f2e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2e2f2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Users\flibert\Pictures\En tête, pied de page\ATEME header.gif"/>
          <p:cNvPicPr/>
          <p:nvPr/>
        </p:nvPicPr>
        <p:blipFill>
          <a:blip r:embed="rId3"/>
          <a:stretch/>
        </p:blipFill>
        <p:spPr>
          <a:xfrm>
            <a:off x="0" y="0"/>
            <a:ext cx="9180360" cy="179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1"/>
          <p:cNvSpPr/>
          <p:nvPr/>
        </p:nvSpPr>
        <p:spPr>
          <a:xfrm>
            <a:off x="25092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Shanghai JCT-VC meeting October 2012               JCTVC- K0353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bfouchard\Bureau\background.jp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Users\flibert\Pictures\En tête, pied de page\ATEME header 2.gif"/>
          <p:cNvPicPr/>
          <p:nvPr/>
        </p:nvPicPr>
        <p:blipFill>
          <a:blip r:embed="rId3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C75-2FAB-4F3B-ADAE-DD182473CB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AE27-8E35-4896-877A-2ADAC4639B2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D:\Users\flibert\Pictures\En tête, pied de page\top_simpl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D:\Users\flibert\Pictures\En tête, pied de page\entête 2.jpg"/>
          <p:cNvPicPr/>
          <p:nvPr/>
        </p:nvPicPr>
        <p:blipFill>
          <a:blip r:embed="rId3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207" name="ZoneTexte 1"/>
          <p:cNvSpPr/>
          <p:nvPr/>
        </p:nvSpPr>
        <p:spPr>
          <a:xfrm>
            <a:off x="46836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JCTVC- K0353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optionnel"/>
          <p:cNvPicPr/>
          <p:nvPr/>
        </p:nvPicPr>
        <p:blipFill>
          <a:blip r:embed="rId4"/>
          <a:stretch/>
        </p:blipFill>
        <p:spPr>
          <a:xfrm>
            <a:off x="-7920" y="5327640"/>
            <a:ext cx="915192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3798-CDA3-4F70-961F-15C450F897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D:\Users\flibert\Pictures\En tête, pied de page\top_simpl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D:\Users\flibert\Pictures\En tête, pied de page\entête 2.jpg"/>
          <p:cNvPicPr/>
          <p:nvPr/>
        </p:nvPicPr>
        <p:blipFill>
          <a:blip r:embed="rId3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249" name="ZoneTexte 1"/>
          <p:cNvSpPr/>
          <p:nvPr/>
        </p:nvSpPr>
        <p:spPr>
          <a:xfrm>
            <a:off x="46836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JCTVC- K0353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ableau 8" descr=""/>
          <p:cNvPicPr/>
          <p:nvPr/>
        </p:nvPicPr>
        <p:blipFill>
          <a:blip r:embed="rId4"/>
          <a:stretch/>
        </p:blipFill>
        <p:spPr>
          <a:xfrm>
            <a:off x="1450800" y="981000"/>
            <a:ext cx="6242400" cy="1629000"/>
          </a:xfrm>
          <a:prstGeom prst="rect">
            <a:avLst/>
          </a:prstGeom>
          <a:ln w="0">
            <a:noFill/>
          </a:ln>
        </p:spPr>
      </p:pic>
      <p:grpSp>
        <p:nvGrpSpPr>
          <p:cNvPr id="251" name="Tableau 9"/>
          <p:cNvGrpSpPr/>
          <p:nvPr/>
        </p:nvGrpSpPr>
        <p:grpSpPr>
          <a:xfrm>
            <a:off x="1523880" y="2852640"/>
            <a:ext cx="6096240" cy="1482840"/>
            <a:chOff x="1523880" y="2852640"/>
            <a:chExt cx="6096240" cy="1482840"/>
          </a:xfrm>
        </p:grpSpPr>
        <p:sp>
          <p:nvSpPr>
            <p:cNvPr id="252" name=""/>
            <p:cNvSpPr/>
            <p:nvPr/>
          </p:nvSpPr>
          <p:spPr>
            <a:xfrm>
              <a:off x="1523880" y="28526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Exampl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6080" y="2852640"/>
              <a:ext cx="203184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7920" y="28526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3880" y="3224160"/>
              <a:ext cx="20322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Century Gothic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56080" y="3224160"/>
              <a:ext cx="2031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7920" y="3224160"/>
              <a:ext cx="20322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23880" y="3594240"/>
              <a:ext cx="20322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Century Gothic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56080" y="3594240"/>
              <a:ext cx="2031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7920" y="3594240"/>
              <a:ext cx="20322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963960"/>
              <a:ext cx="203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Century Gothic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56080" y="3963960"/>
              <a:ext cx="2031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7920" y="3963960"/>
              <a:ext cx="203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5608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8792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3880" y="32241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3880" y="35942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3880" y="39639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012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23880" y="28526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3880" y="43354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Tableau 10"/>
          <p:cNvGrpSpPr/>
          <p:nvPr/>
        </p:nvGrpSpPr>
        <p:grpSpPr>
          <a:xfrm>
            <a:off x="1523880" y="4681440"/>
            <a:ext cx="6096240" cy="1482840"/>
            <a:chOff x="1523880" y="4681440"/>
            <a:chExt cx="6096240" cy="1482840"/>
          </a:xfrm>
        </p:grpSpPr>
        <p:sp>
          <p:nvSpPr>
            <p:cNvPr id="274" name=""/>
            <p:cNvSpPr/>
            <p:nvPr/>
          </p:nvSpPr>
          <p:spPr>
            <a:xfrm>
              <a:off x="1523880" y="46814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Exampl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56080" y="4681440"/>
              <a:ext cx="203184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7920" y="46814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3880" y="5052960"/>
              <a:ext cx="2032200" cy="37008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56080" y="5052960"/>
              <a:ext cx="2031840" cy="37008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87920" y="5052960"/>
              <a:ext cx="2032200" cy="37008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23880" y="5423040"/>
              <a:ext cx="2032200" cy="369720"/>
            </a:xfrm>
            <a:prstGeom prst="rect">
              <a:avLst/>
            </a:prstGeom>
            <a:solidFill>
              <a:srgbClr val="a0e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56080" y="5423040"/>
              <a:ext cx="2031840" cy="369720"/>
            </a:xfrm>
            <a:prstGeom prst="rect">
              <a:avLst/>
            </a:prstGeom>
            <a:solidFill>
              <a:srgbClr val="a0e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87920" y="5423040"/>
              <a:ext cx="2032200" cy="369720"/>
            </a:xfrm>
            <a:prstGeom prst="rect">
              <a:avLst/>
            </a:prstGeom>
            <a:solidFill>
              <a:srgbClr val="a0e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23880" y="5792760"/>
              <a:ext cx="2032200" cy="37152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56080" y="5792760"/>
              <a:ext cx="2031840" cy="37152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87920" y="5792760"/>
              <a:ext cx="2032200" cy="37152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5608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792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0529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54230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23880" y="57927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388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012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3880" y="46814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3880" y="61642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2a43f"/>
                </a:solidFill>
                <a:latin typeface="Century Gothic"/>
              </a:rPr>
              <a:t>JCTVC_K0353 </a:t>
            </a:r>
            <a:br>
              <a:rPr sz="1800"/>
            </a:br>
            <a:r>
              <a:rPr b="1" lang="en-CA" sz="2800" spc="-1" strike="noStrike">
                <a:solidFill>
                  <a:srgbClr val="02a43f"/>
                </a:solidFill>
                <a:latin typeface="Century Gothic"/>
              </a:rPr>
              <a:t>HEVC encoding of deinterlaced sequences: a preliminary stud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1763640" y="472428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Z. Agyo, </a:t>
            </a:r>
            <a:r>
              <a:rPr b="1" lang="en-US" sz="1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J.M. Thiesse</a:t>
            </a: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, J. Viéron, P. Larb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7640" y="980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Deinterlacing</a:t>
            </a: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 interlaced sequences before HEVC encoding have been suggested during previous meetings: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 algn="just">
              <a:spcBef>
                <a:spcPts val="751"/>
              </a:spcBef>
              <a:buClr>
                <a:srgbClr val="02a43f"/>
              </a:buClr>
              <a:buSzPct val="50000"/>
              <a:buFont typeface="Wingdings" charset="2"/>
              <a:buChar char="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02a43f"/>
                </a:solidFill>
                <a:latin typeface="Century Gothic"/>
              </a:rPr>
              <a:t>What is its efficiency?</a:t>
            </a:r>
            <a:endParaRPr b="1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marL="272880" indent="-272880" algn="just">
              <a:spcBef>
                <a:spcPts val="825"/>
              </a:spcBef>
              <a:buClr>
                <a:srgbClr val="40404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2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This contribution reports an assessments of encoding after deinterlacing vs field coding and vs AVC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7640" y="980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HEVC encoding using HM8.0 with field GOP structure defined in JCTVC-K0216 compared to AVC encoding (MBAFF + PAFF)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Four HD interlaced sequences tested (100 frames)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Three deinterlacers tested: ATEME’s Deinterlacers and two well-known deinterlacers.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Experimental settings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42920" y="3141720"/>
          <a:ext cx="6648480" cy="2373120"/>
        </p:xfrm>
        <a:graphic>
          <a:graphicData uri="http://schemas.openxmlformats.org/drawingml/2006/table">
            <a:tbl>
              <a:tblPr/>
              <a:tblGrid>
                <a:gridCol w="1662120"/>
                <a:gridCol w="1662120"/>
                <a:gridCol w="1662120"/>
                <a:gridCol w="1662120"/>
              </a:tblGrid>
              <a:tr h="749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H.264/AV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HEVC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HEVC deinterlaced fr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Fram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SourceH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FrameToBeEnco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Intra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GOP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ZoneTexte 4"/>
          <p:cNvSpPr/>
          <p:nvPr/>
        </p:nvSpPr>
        <p:spPr>
          <a:xfrm>
            <a:off x="3132000" y="566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eriment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-360" y="5589360"/>
            <a:ext cx="8939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Symbol" charset="2"/>
              <a:buChar char="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erformances are highly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content-dependent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Symbol" charset="2"/>
              <a:buChar char="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Encoding of deinterlaced sequences is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 more efficient for static sequences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02a43f"/>
              </a:buClr>
              <a:buFont typeface="Symbol" charset="2"/>
              <a:buChar char="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Results: HEVC deinterlaced vs HEVC field (1)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63520" y="2852640"/>
          <a:ext cx="6793200" cy="2467080"/>
        </p:xfrm>
        <a:graphic>
          <a:graphicData uri="http://schemas.openxmlformats.org/drawingml/2006/table">
            <a:tbl>
              <a:tblPr/>
              <a:tblGrid>
                <a:gridCol w="1511280"/>
                <a:gridCol w="527040"/>
                <a:gridCol w="598680"/>
                <a:gridCol w="600120"/>
                <a:gridCol w="557280"/>
                <a:gridCol w="599760"/>
                <a:gridCol w="600120"/>
                <a:gridCol w="598680"/>
                <a:gridCol w="600120"/>
                <a:gridCol w="600120"/>
              </a:tblGrid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TEME's Deinterla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einterlace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einterlace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hu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arching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alk through the squ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hale s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6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6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9,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0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2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5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6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Rectangle 6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9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935680" cy="2009880"/>
          </a:xfrm>
          <a:prstGeom prst="rect">
            <a:avLst/>
          </a:prstGeom>
          <a:ln w="0">
            <a:noFill/>
          </a:ln>
        </p:spPr>
      </p:pic>
      <p:sp>
        <p:nvSpPr>
          <p:cNvPr id="344" name="ZoneTexte 6"/>
          <p:cNvSpPr/>
          <p:nvPr/>
        </p:nvSpPr>
        <p:spPr>
          <a:xfrm>
            <a:off x="2087640" y="5281560"/>
            <a:ext cx="58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coding of deinterlaced sequences vs Field coding with re-interlac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-360" y="1196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 algn="just">
              <a:spcBef>
                <a:spcPts val="675"/>
              </a:spcBef>
              <a:buClr>
                <a:srgbClr val="404040"/>
              </a:buClr>
              <a:buFont typeface="Symbol" charset="2"/>
              <a:buChar char="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“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Without” taking deinterlacing degradation into account,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deinterlaced encoding is better than field coding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56320" indent="-256320" algn="just">
              <a:spcBef>
                <a:spcPts val="675"/>
              </a:spcBef>
              <a:buClr>
                <a:srgbClr val="404040"/>
              </a:buClr>
              <a:buFont typeface="Symbol" charset="2"/>
              <a:buChar char="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TEME’s deinterlacer allows better “intrinsic coding” efficiency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Results: HEVC deinterlaced vs HEVC field (2)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7" name="Rectangle 6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695920" cy="19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"/>
          <p:cNvGraphicFramePr/>
          <p:nvPr/>
        </p:nvGraphicFramePr>
        <p:xfrm>
          <a:off x="755640" y="2708280"/>
          <a:ext cx="7561440" cy="2462040"/>
        </p:xfrm>
        <a:graphic>
          <a:graphicData uri="http://schemas.openxmlformats.org/drawingml/2006/table">
            <a:tbl>
              <a:tblPr/>
              <a:tblGrid>
                <a:gridCol w="1008000"/>
                <a:gridCol w="728640"/>
                <a:gridCol w="727200"/>
                <a:gridCol w="728640"/>
                <a:gridCol w="728640"/>
                <a:gridCol w="727200"/>
                <a:gridCol w="728640"/>
                <a:gridCol w="726840"/>
                <a:gridCol w="728640"/>
                <a:gridCol w="729000"/>
              </a:tblGrid>
              <a:tr h="284040"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TEME's Deinterla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einterlace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einterlace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hu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7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8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1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1,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9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1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0,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0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4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99960"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arching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0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6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5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0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8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9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4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5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4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527040"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alk through the squ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2,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3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7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6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7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4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401760"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hale s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3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9,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5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9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0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2,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0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0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282240"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6,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6,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9,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7,3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6,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7,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5,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2,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3,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1403280" y="513720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coding of deinterlaced sequences vs Field coding without re-interlac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7640" y="980640"/>
            <a:ext cx="8939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187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187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187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187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187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187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Results: HEVC deinterlaced vs AVC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54" name="Rectangle 6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00000" y="1341360"/>
          <a:ext cx="7201080" cy="2592360"/>
        </p:xfrm>
        <a:graphic>
          <a:graphicData uri="http://schemas.openxmlformats.org/drawingml/2006/table">
            <a:tbl>
              <a:tblPr/>
              <a:tblGrid>
                <a:gridCol w="1965600"/>
                <a:gridCol w="582480"/>
                <a:gridCol w="581040"/>
                <a:gridCol w="582480"/>
                <a:gridCol w="581040"/>
                <a:gridCol w="581040"/>
                <a:gridCol w="582840"/>
                <a:gridCol w="580680"/>
                <a:gridCol w="582840"/>
                <a:gridCol w="581040"/>
              </a:tblGrid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TEME's Deinterla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einterlace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einterlace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hu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9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arching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9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alk through the squ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9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hale s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3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2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1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9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1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7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7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6840" rIns="90000" tIns="152280" bIns="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8"/>
          <p:cNvSpPr/>
          <p:nvPr/>
        </p:nvSpPr>
        <p:spPr>
          <a:xfrm>
            <a:off x="1116000" y="400536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EVC encoding of deinterlaced sequences vs AVC encoding of interlaced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7640" y="980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Deinterlacing and its encoding is a tricky topic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02a43f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02a43f"/>
                </a:solidFill>
                <a:latin typeface="Century Gothic"/>
              </a:rPr>
              <a:t>Better compression </a:t>
            </a: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is achieved by encoding deinterlaced sequences (vs field coding) when </a:t>
            </a:r>
            <a:r>
              <a:rPr b="1" lang="fr-FR" sz="2000" spc="-1" strike="noStrike">
                <a:solidFill>
                  <a:srgbClr val="02a43f"/>
                </a:solidFill>
                <a:latin typeface="Century Gothic"/>
              </a:rPr>
              <a:t>deinterlacing degradation  is not considered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Significant performances against  AVC have been observed (40%)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Further study will be performed to assess coding efficiency of all the loop from captation to visualization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Conclusion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7:20:08Z</dcterms:created>
  <dc:creator>j.vieron@ateme.com</dc:creator>
  <dc:description/>
  <dc:language>en-US</dc:language>
  <cp:lastModifiedBy>Thiesse</cp:lastModifiedBy>
  <dcterms:modified xsi:type="dcterms:W3CDTF">2012-10-14T04:46:32Z</dcterms:modified>
  <cp:revision>266</cp:revision>
  <dc:subject/>
  <dc:title>Main Title</dc:title>
</cp:coreProperties>
</file>