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60400" y="6454800"/>
            <a:ext cx="4648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755880" y="6488280"/>
            <a:ext cx="1752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ill Sans"/>
                <a:ea typeface="Times New Roman"/>
              </a:rPr>
              <a:t>JCTVC-K03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612480" y="6477120"/>
            <a:ext cx="11181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BB98-2A03-49F0-A596-19104E8CCAC3}" type="slidenum">
              <a:rPr b="0" lang="en-GB" sz="15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0"/>
          <p:cNvSpPr/>
          <p:nvPr/>
        </p:nvSpPr>
        <p:spPr>
          <a:xfrm>
            <a:off x="7394400" y="6531120"/>
            <a:ext cx="0" cy="2156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828720" y="3860640"/>
            <a:ext cx="77760" cy="10544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2000" y="1773360"/>
            <a:ext cx="8712360" cy="1753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K0315</a:t>
            </a:r>
            <a:br>
              <a:rPr sz="3000"/>
            </a:br>
            <a:r>
              <a:rPr b="0" lang="en-GB" sz="3200" spc="-1" strike="noStrike">
                <a:solidFill>
                  <a:srgbClr val="ffffff"/>
                </a:solidFill>
                <a:latin typeface="Arial Bold"/>
              </a:rPr>
              <a:t>On default scaling list values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9640" y="3777840"/>
            <a:ext cx="82314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tteo Naccari, Marta Mrak, Andrea Gabriellin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0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Default scaling lists: main principl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000" y="838080"/>
            <a:ext cx="9037800" cy="2448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VC standard allow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using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caling list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a.k.a. quantisation matrice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efault valu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are provided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rived using a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imple model of the Human Visual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HVS) and proposed in JCTVC-G88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y model the HVS property: i.e.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ow sensitivity to the distortio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troduced i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igh spatial frequenci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71480" y="4635360"/>
            <a:ext cx="380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4×4 scaling list obtained with theHVS model used in G8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53160" y="3573360"/>
          <a:ext cx="1800000" cy="936720"/>
        </p:xfrm>
        <a:graphic>
          <a:graphicData uri="http://schemas.openxmlformats.org/drawingml/2006/table">
            <a:tbl>
              <a:tblPr/>
              <a:tblGrid>
                <a:gridCol w="449280"/>
                <a:gridCol w="450720"/>
                <a:gridCol w="449280"/>
                <a:gridCol w="450720"/>
              </a:tblGrid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92440" y="3573360"/>
          <a:ext cx="1800000" cy="936720"/>
        </p:xfrm>
        <a:graphic>
          <a:graphicData uri="http://schemas.openxmlformats.org/drawingml/2006/table">
            <a:tbl>
              <a:tblPr/>
              <a:tblGrid>
                <a:gridCol w="450720"/>
                <a:gridCol w="449280"/>
                <a:gridCol w="449280"/>
                <a:gridCol w="450720"/>
              </a:tblGrid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Box 43"/>
          <p:cNvSpPr/>
          <p:nvPr/>
        </p:nvSpPr>
        <p:spPr>
          <a:xfrm>
            <a:off x="4932360" y="4624560"/>
            <a:ext cx="34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</a:rPr>
              <a:t>4×4 default  scaling list for the luma component in intra coded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000" y="45720"/>
            <a:ext cx="903780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Default scaling lists: do they improve the perceived quality?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6000" y="838080"/>
            <a:ext cx="9037800" cy="29512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EVC default scaling lists should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mprove the perceived quality for a given target rate (or dually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duce the coded rate for a given perceptual quality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t the last JCT-VC meeting in Stockholm some concerns were expressed about the default scaling lists. From the meeting notes;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8080"/>
                </a:solidFill>
                <a:latin typeface="Arial"/>
              </a:rPr>
              <a:t>“…</a:t>
            </a:r>
            <a:r>
              <a:rPr b="0" i="1" lang="en-CA" sz="1800" spc="-1" strike="noStrike">
                <a:solidFill>
                  <a:srgbClr val="808080"/>
                </a:solidFill>
                <a:latin typeface="Arial"/>
              </a:rPr>
              <a:t>The question was also raised how suitable the current DCT default matrices are, as in practice most implementers would use own matrices with adaptation to the video material characteristics…</a:t>
            </a:r>
            <a:r>
              <a:rPr b="0" lang="en-CA" sz="1800" spc="-1" strike="noStrike">
                <a:solidFill>
                  <a:srgbClr val="80808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81080" y="4294080"/>
            <a:ext cx="8783640" cy="18921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8080"/>
                </a:solidFill>
                <a:latin typeface="Arial"/>
              </a:rPr>
              <a:t>An experiment has been designed to assess the performance brought by the default scaling lists both in objective and subjectiv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7460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JCT-VC videos coded with HM-8.0 and default scaling lists for 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  <a:ea typeface="ヒラギノ角ゴ ProN W3"/>
              </a:rPr>
              <a:t>Main</a:t>
            </a:r>
            <a:r>
              <a:rPr b="0" lang="en-CA" sz="1800" spc="-1" strike="noStrike">
                <a:solidFill>
                  <a:srgbClr val="ff0000"/>
                </a:solidFill>
                <a:latin typeface="Arial"/>
                <a:ea typeface="ヒラギノ角ゴ ProN W3"/>
              </a:rPr>
              <a:t> </a:t>
            </a:r>
            <a:r>
              <a:rPr b="0" lang="en-CA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7460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  <a:ea typeface="ヒラギノ角ゴ ProN W3"/>
              </a:rPr>
              <a:t>Additional QP values</a:t>
            </a:r>
            <a:r>
              <a:rPr b="0" lang="en-CA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 have been tested: 29, 30, 31, 33, 34, 35 and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7460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The coded videos are 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  <a:ea typeface="ヒラギノ角ゴ ProN W3"/>
              </a:rPr>
              <a:t>compared</a:t>
            </a:r>
            <a:r>
              <a:rPr b="0" lang="en-CA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 with the 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  <a:ea typeface="ヒラギノ角ゴ ProN W3"/>
              </a:rPr>
              <a:t>HM-8.0 anc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91520" y="3924360"/>
            <a:ext cx="1791720" cy="3682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 this propos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: objective evaluation (BD-rates)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6000" y="838080"/>
            <a:ext cx="9109080" cy="432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 bitrate distribution between luma and chroma is observed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38560" y="1341360"/>
          <a:ext cx="2844720" cy="5010120"/>
        </p:xfrm>
        <a:graphic>
          <a:graphicData uri="http://schemas.openxmlformats.org/drawingml/2006/table">
            <a:tbl>
              <a:tblPr/>
              <a:tblGrid>
                <a:gridCol w="825480"/>
                <a:gridCol w="619200"/>
                <a:gridCol w="691920"/>
                <a:gridCol w="708120"/>
              </a:tblGrid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8"/>
          <p:cNvSpPr/>
          <p:nvPr/>
        </p:nvSpPr>
        <p:spPr>
          <a:xfrm>
            <a:off x="3132000" y="1757520"/>
            <a:ext cx="309564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3133800" y="3645000"/>
            <a:ext cx="309564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24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: subjective evaluation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6000" y="838080"/>
            <a:ext cx="9037800" cy="3456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n informal subjective viewing have been organised at the BBC R&amp;D premi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5 experts took part to the experim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ide-by-side comparison w.r.t. to the HM-8.0 anchors in a light controlled viewing roo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urther inspection is done by stopping the video player onto some fram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oded contents selected according to their level of texture, motion and sharp detail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Kimono, Cactus, Park-Scene, China-Speed, Basketball-Drive, Kristen-and-Sara and Slide-Edit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dditional QP values also test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6360" y="4654440"/>
            <a:ext cx="8915400" cy="15811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me slight quality differences were noticed only on a frame-by-frame comparison (not in play 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Quality differences may be due to RDO search with use of default scaling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"/>
          <p:cNvSpPr/>
          <p:nvPr/>
        </p:nvSpPr>
        <p:spPr>
          <a:xfrm>
            <a:off x="4376880" y="4078440"/>
            <a:ext cx="484200" cy="4888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00" y="70920"/>
            <a:ext cx="777420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6000" y="837720"/>
            <a:ext cx="9037800" cy="53276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n experiment has been designed to assess the performance and suitability of default scaling lists (motived also from observations provided at the previous meeting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rom the informal subjective viewing seems that default scaling lists bring a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inimal contributio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to the overall video qual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igh bitrate reduction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are observed for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rticular coding condition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QP 22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ossible factor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which contribute to th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imited performanc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HVS model considers JPEG quantisation rather than predictive on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33520" indent="-174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Model parameters tuned onto different image resolutions than the ones considered for HEV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2-10-11T05:51:56Z</dcterms:modified>
  <cp:revision>215</cp:revision>
  <dc:subject/>
  <dc:title>JCTVC-H0477 On Just Noticeable Distortion Quantization in the HEVC Codec</dc:title>
</cp:coreProperties>
</file>