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K03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K0302</a:t>
            </a:r>
            <a:br>
              <a:rPr sz="3000"/>
            </a:b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AHG7: On processing 4:2:2 chroma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ndrea Gabriellini and Marta Mra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2708c"/>
                </a:solidFill>
                <a:latin typeface="Arial Bold"/>
              </a:rPr>
              <a:t>On processing 4:2:2 chroma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 support compression of 4:2:2 format, the AHG7 software uses non-square transforms and transform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dditional supporting tools required - as introduced in AHG7 softwa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ifferent variants of the tools only compared with each oth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dditional experiment designed to evaluate efficiency of 4:2:2 support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0" name="Straight Arrow Connector 3"/>
          <p:cNvCxnSpPr/>
          <p:nvPr/>
        </p:nvCxnSpPr>
        <p:spPr>
          <a:xfrm>
            <a:off x="324000" y="393336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Box 4"/>
          <p:cNvSpPr/>
          <p:nvPr/>
        </p:nvSpPr>
        <p:spPr>
          <a:xfrm>
            <a:off x="324000" y="34624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:2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116000" y="3605040"/>
            <a:ext cx="1081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, V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1, 3, 3,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6"/>
          <p:cNvCxnSpPr/>
          <p:nvPr/>
        </p:nvCxnSpPr>
        <p:spPr>
          <a:xfrm>
            <a:off x="2196720" y="393336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7"/>
          <p:cNvSpPr/>
          <p:nvPr/>
        </p:nvSpPr>
        <p:spPr>
          <a:xfrm>
            <a:off x="2197080" y="34624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:4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989440" y="3502080"/>
            <a:ext cx="1439640" cy="93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M-8.0-dev-ahg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9"/>
          <p:cNvCxnSpPr/>
          <p:nvPr/>
        </p:nvCxnSpPr>
        <p:spPr>
          <a:xfrm>
            <a:off x="4429080" y="39333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7" name="Rectangle 12"/>
          <p:cNvSpPr/>
          <p:nvPr/>
        </p:nvSpPr>
        <p:spPr>
          <a:xfrm>
            <a:off x="4716360" y="3502080"/>
            <a:ext cx="1440000" cy="93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M-8.0-dev-ahg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3"/>
          <p:cNvCxnSpPr/>
          <p:nvPr/>
        </p:nvCxnSpPr>
        <p:spPr>
          <a:xfrm>
            <a:off x="6156360" y="393336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14"/>
          <p:cNvSpPr/>
          <p:nvPr/>
        </p:nvSpPr>
        <p:spPr>
          <a:xfrm>
            <a:off x="6156360" y="34624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:4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5"/>
          <p:cNvCxnSpPr/>
          <p:nvPr/>
        </p:nvCxnSpPr>
        <p:spPr>
          <a:xfrm>
            <a:off x="8029080" y="39016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16"/>
          <p:cNvSpPr/>
          <p:nvPr/>
        </p:nvSpPr>
        <p:spPr>
          <a:xfrm>
            <a:off x="8029440" y="3430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:2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6948360" y="3573360"/>
            <a:ext cx="108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, V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1, 2,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 setup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Upsampled 4:2:2 videos encoded with AHG7 branch operating on 4:4:4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fter decoding, downsampling to 4:2:2 is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SNR computed at this poi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 for 4:2:2 sequences - comparison with JM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1125360"/>
          <a:ext cx="2895840" cy="4229280"/>
        </p:xfrm>
        <a:graphic>
          <a:graphicData uri="http://schemas.openxmlformats.org/drawingml/2006/table">
            <a:tbl>
              <a:tblPr/>
              <a:tblGrid>
                <a:gridCol w="873360"/>
                <a:gridCol w="674640"/>
                <a:gridCol w="674640"/>
                <a:gridCol w="673200"/>
              </a:tblGrid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7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-in-c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cks-and-le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wd-ru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-tow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4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-in-c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cks-and-le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wd-ru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-tow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8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48040" y="1125360"/>
          <a:ext cx="2921040" cy="4248360"/>
        </p:xfrm>
        <a:graphic>
          <a:graphicData uri="http://schemas.openxmlformats.org/drawingml/2006/table">
            <a:tbl>
              <a:tblPr/>
              <a:tblGrid>
                <a:gridCol w="881280"/>
                <a:gridCol w="679320"/>
                <a:gridCol w="681120"/>
                <a:gridCol w="679320"/>
              </a:tblGrid>
              <a:tr h="152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-in-c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cks-and-le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4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wd-ru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-tow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71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-in-c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8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7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4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cks-and-le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wd-ru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-tow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3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2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TextBox 5"/>
          <p:cNvSpPr/>
          <p:nvPr/>
        </p:nvSpPr>
        <p:spPr>
          <a:xfrm>
            <a:off x="684360" y="551808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M-8.0-dev-ahg7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4:2: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s JM1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13080" y="551808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M-8.0-dev-ahg7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4:2:2 to 4:4:4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s JM1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 for 4:2:2 sequences - comparison with HM (AHG7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520" y="909360"/>
            <a:ext cx="8512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D-rates difficult to interpret because of the interpolation involved in its computat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ested 4:2:2 to 4:4:4 format conversion has worse performance at high bit-rates; PSNR gains in chroma components occurs in some points, with some losses in luma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Performance is not consistent, pointing to possible problems in the AHG4 software (either 4:2:2 or 4:4:4 support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12840" y="2349360"/>
            <a:ext cx="2892240" cy="195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2892600" cy="1955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6084720" y="2278080"/>
            <a:ext cx="2889360" cy="1959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252360" y="4365720"/>
            <a:ext cx="2892600" cy="1955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5"/>
          <a:stretch/>
        </p:blipFill>
        <p:spPr>
          <a:xfrm>
            <a:off x="3132000" y="4365720"/>
            <a:ext cx="2889360" cy="196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6"/>
          <a:stretch/>
        </p:blipFill>
        <p:spPr>
          <a:xfrm>
            <a:off x="6084720" y="4365720"/>
            <a:ext cx="28893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m</cp:lastModifiedBy>
  <dcterms:modified xsi:type="dcterms:W3CDTF">2012-10-11T06:43:10Z</dcterms:modified>
  <cp:revision>148</cp:revision>
  <dc:subject/>
  <dc:title>JCTVC-H0477 On Just Noticeable Distortion Quantization in the HEVC Codec</dc:title>
</cp:coreProperties>
</file>