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667-E800-4FEE-9F77-52E9F9B4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4BE-54F1-4C2A-9FBF-D261921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8A7-B533-4DE2-8C9F-4F7786B6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F35-6EB0-41DF-B9A5-7660F709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470-0E4D-4191-AB82-98E3254D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31F-5C34-4EA5-BCC8-47E96CB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BB57-7462-4432-AA8E-7F97E3B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F643-B210-4064-BC63-EDAAE50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9A16-7561-476D-9129-1DCEE69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1A67-0668-482F-A641-99C781D5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965-9269-4EA7-95F4-AA5E332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C1F-A3D6-46EC-8595-5F410185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D12F-13ED-443A-8B5D-67BC4EB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9203-CFA3-4189-BE55-8E7F5B3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0C35-D60B-4E1D-9F73-C11C360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333-5C08-4C2E-A198-B9E8A39B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26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7C19-503B-40AD-A697-989607DF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B28-1497-442F-A35F-53C9060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95E-61FA-4A0A-90DF-ABF21E7D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EA3-8B67-49EF-BFA6-9B74C4A6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8FE-5C08-43AC-8292-1527A6D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D09-EAF7-4E04-86FD-FC170A8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826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BF7-490B-4DFB-AB9E-16EF4BE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FF6-ED08-4D2B-954F-95844BD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3241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806-0272-4A01-9035-3CFDE983E7F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inghai Yang@ISN of Xidian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5576-7AF2-464B-9949-3C64E08EAA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" name="直线 8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" name="图片 11" descr="Xidian"/>
          <p:cNvPicPr/>
          <p:nvPr/>
        </p:nvPicPr>
        <p:blipFill>
          <a:blip r:embed="rId2"/>
          <a:stretch/>
        </p:blipFill>
        <p:spPr>
          <a:xfrm>
            <a:off x="0" y="6181560"/>
            <a:ext cx="685800" cy="6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矩形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8" name="矩形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9" name="矩形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50" name="图片 11" descr="Xidian"/>
          <p:cNvPicPr/>
          <p:nvPr/>
        </p:nvPicPr>
        <p:blipFill>
          <a:blip r:embed="rId2"/>
          <a:stretch/>
        </p:blipFill>
        <p:spPr>
          <a:xfrm>
            <a:off x="0" y="6181560"/>
            <a:ext cx="685800" cy="67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8E5-8CF8-401B-81CD-CA0DD1C9FCE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278-58F9-4D73-B952-0CBBB17592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Novel coding tree unit layer scheme for rate control in HEVC  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6933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                                                      </a:t>
            </a: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JCTVC-K029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i Wu and Bin S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dian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QPs predicted for CTU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QP values for CTUs are determined by a new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RQ model, a DQ model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arget bits for the remaining CTUs in a frame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In the contribution, the following RQ model is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The total distortion of the remaining CTUs in the frame is minimized to find the QS for the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-th CTU in the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-th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887-2452-4C7B-9724-92F15C5B1F57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7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1C2-D698-4EED-9B6F-8299E5EF1E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79" name="Object 1"/>
          <p:cNvGraphicFramePr/>
          <p:nvPr/>
        </p:nvGraphicFramePr>
        <p:xfrm>
          <a:off x="1371600" y="2743200"/>
          <a:ext cx="3494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43200"/>
                    <a:ext cx="3494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274680" y="4572000"/>
          <a:ext cx="8793000" cy="14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680" y="4572000"/>
                    <a:ext cx="87930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teps of CTU layer rate contro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the tot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ts  for the remaining pictures i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G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e the target bits allocated for fr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de the first CTU in the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-t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e the target bits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or the remaining CTUs in the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-th fr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the parameters and compute the predicted complexities. Estimate the QP for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CT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d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CTU, and then go to back to encode the next CTU until the last CTU in the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-t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de th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1)-th frame until the last frame in the sequ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9AE-B672-4607-8289-DD5FD2D75BC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10A-2D88-4CF1-8ACD-3F2678C590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Experimental result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periment is implemented with the HEVC reference software HM-8.0rc2. The proposed scheme is compared with HM-8.0 rate contr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ideo quality is evaluated in terms of PSNR (units: dB). In order to evaluate the PSNR and bit rate performances, the following two measurements are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12B-B410-46FF-A481-34C4A80EE30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E6E8-0C19-485E-AEE5-0048FAB52D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93" name="Object 1"/>
          <p:cNvGraphicFramePr/>
          <p:nvPr/>
        </p:nvGraphicFramePr>
        <p:xfrm>
          <a:off x="1447920" y="3886200"/>
          <a:ext cx="27111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86200"/>
                    <a:ext cx="2711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1447920" y="4572000"/>
          <a:ext cx="21938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572000"/>
                    <a:ext cx="2193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RD performanc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Δbps and ΔPSN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proposed scheme compared with HM-8.0 rate control for RA-main, LB-main, and LP-main c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8850-D15D-4BC0-AFB4-50933DAE122C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07EE-B29E-4ADF-BDBC-CFD5365D66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2438280"/>
          <a:ext cx="6248520" cy="3429000"/>
        </p:xfrm>
        <a:graphic>
          <a:graphicData uri="http://schemas.openxmlformats.org/drawingml/2006/table">
            <a:tbl>
              <a:tblPr/>
              <a:tblGrid>
                <a:gridCol w="858960"/>
                <a:gridCol w="914400"/>
                <a:gridCol w="930240"/>
                <a:gridCol w="912960"/>
                <a:gridCol w="912600"/>
                <a:gridCol w="860400"/>
                <a:gridCol w="858960"/>
              </a:tblGrid>
              <a:tr h="5018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-main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-main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-main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bp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PSN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B)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bp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PSN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B)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bp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PSN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B)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6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7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8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8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3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12"/>
          <p:cNvGraphicFramePr/>
          <p:nvPr/>
        </p:nvGraphicFramePr>
        <p:xfrm>
          <a:off x="0" y="0"/>
          <a:ext cx="206280" cy="1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06280" cy="1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1"/>
          <p:cNvGraphicFramePr/>
          <p:nvPr/>
        </p:nvGraphicFramePr>
        <p:xfrm>
          <a:off x="0" y="0"/>
          <a:ext cx="43488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34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0"/>
          <p:cNvGraphicFramePr/>
          <p:nvPr/>
        </p:nvGraphicFramePr>
        <p:xfrm>
          <a:off x="0" y="0"/>
          <a:ext cx="206280" cy="13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06280" cy="1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0" y="0"/>
          <a:ext cx="434880" cy="15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434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0" y="0"/>
          <a:ext cx="206280" cy="13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206280" cy="1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7"/>
          <p:cNvGraphicFramePr/>
          <p:nvPr/>
        </p:nvGraphicFramePr>
        <p:xfrm>
          <a:off x="0" y="0"/>
          <a:ext cx="434880" cy="15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434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PSNR curv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                  “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artyScene”, 768 kbp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-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FD1-AA86-4ADD-A46D-F3E767273B6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BF6B-A7C1-4BEA-BE04-C10C14D163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9" name="Picture 2" descr="PartyScene-RM-PSNR-11"/>
          <p:cNvPicPr/>
          <p:nvPr/>
        </p:nvPicPr>
        <p:blipFill>
          <a:blip r:embed="rId1"/>
          <a:stretch/>
        </p:blipFill>
        <p:spPr>
          <a:xfrm>
            <a:off x="1752480" y="1219320"/>
            <a:ext cx="52578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PSNR curv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“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Kimono”, 1600 kbp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P-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92BD-771D-4E8C-830C-958CFE16C600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46F4-FE4F-42F6-9049-821E053625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4" name="Picture 2" descr="Kimono-LDP-PSNR-1"/>
          <p:cNvPicPr/>
          <p:nvPr/>
        </p:nvPicPr>
        <p:blipFill>
          <a:blip r:embed="rId1"/>
          <a:stretch/>
        </p:blipFill>
        <p:spPr>
          <a:xfrm>
            <a:off x="1752480" y="1219320"/>
            <a:ext cx="518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PSNR curv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                     “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BQMall”, 512 kbp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-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1D8C-3375-4C81-AFF5-2631B462080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8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E4B9-424E-4A63-AD41-F1C2C284E5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29" name="Picture 2" descr="BQMall-RM-PSNR-11"/>
          <p:cNvPicPr/>
          <p:nvPr/>
        </p:nvPicPr>
        <p:blipFill>
          <a:blip r:embed="rId1"/>
          <a:stretch/>
        </p:blipFill>
        <p:spPr>
          <a:xfrm>
            <a:off x="1752480" y="1219320"/>
            <a:ext cx="518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PSNR curv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               “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BlowingBubbles”, 384 kbp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-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95CB-2FA2-43DF-BCFE-F9784B9B842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37F-896E-40F7-B220-DD5259B0B2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34" name="Picture 2" descr="BlowingBubbles-RM-PSNR-11"/>
          <p:cNvPicPr/>
          <p:nvPr/>
        </p:nvPicPr>
        <p:blipFill>
          <a:blip r:embed="rId1"/>
          <a:stretch/>
        </p:blipFill>
        <p:spPr>
          <a:xfrm>
            <a:off x="1752480" y="1219320"/>
            <a:ext cx="518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Conclusi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tribution proposes a novel CTU layer rate control for HEV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ompared with H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8.0 rate control, the average PSNR can be increased by 1.10 dB, 0.67 dB, and 0.62 dB for RA-main, LB-main, and LP-main, respectiv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ompared with H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8.0 rate control, the smoother PSNR performances can be achie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0FA-B310-41DA-9656-81C56E2FF25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03B-31A7-4184-A069-0900DB1CCF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日期占位符 1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63A2-5F2A-4DC8-9793-DDF7A329586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D43B-3474-4897-9EE0-1AA230EDB7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1" name="艺术字 3"/>
          <p:cNvSpPr txBox="1"/>
          <p:nvPr/>
        </p:nvSpPr>
        <p:spPr>
          <a:xfrm>
            <a:off x="2209680" y="2438280"/>
            <a:ext cx="4267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66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s !</a:t>
            </a:r>
            <a:endParaRPr b="1" lang="en-US" sz="2000" spc="1" strike="noStrike">
              <a:ln w="0">
                <a:noFill/>
              </a:ln>
              <a:solidFill>
                <a:srgbClr val="66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日期占位符 2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ADA-7ED1-4007-A719-425CABA633E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C20E-4CF6-4B12-BC15-BAF994B312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矩形 590"/>
          <p:cNvSpPr/>
          <p:nvPr/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57200" y="1574640"/>
            <a:ext cx="8381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of determining QPs for the first frames in GOP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 bits allocated for fram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 predicted for CTU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s of CTU layer rate control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E549-B9EB-41BB-827B-FC2B6374674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03A2-B9F8-492A-A63C-FD5E23FB29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Method of determining QPs for the first frames in GOP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125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order to achieve accurate rate control, in the proposed scheme the QPs of the first frames in most GOPs are computed using the CTU layer rate contro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30000"/>
              </a:lnSpc>
              <a:spcBef>
                <a:spcPts val="125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the low delay configuration, except the IDR frame and the first frame in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P, the CTU layer rate control is used for all the other fr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30000"/>
              </a:lnSpc>
              <a:spcBef>
                <a:spcPts val="1250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the random access configuration, except the first frame in each of the three referenced frame layers in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P, and all the intra pictures and all the non-referenced frames in the sequence, the CTU layer rate control is used for all the other fr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2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E93B-B897-47A4-ACBC-7154DF07EB63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1D6-45A9-4761-A086-77B7E149C1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arget bits allocated for frame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80880" y="1219320"/>
            <a:ext cx="815364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ing that generally the actual generated bits of intra frames are much larger than those of inter frames, based on the scheme in JCTVC-I0094, a modified strategy of allocating target bits for frames is presented, which consists of two methods for random access (RA) and low delay (LD) configurations, respectively.</a:t>
            </a: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矩形 5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矩形 59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矩形 6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C76-5888-49E2-9644-33E6F20394D9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灯片编号占位符 5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521-FFDE-4B50-BF7C-75FE23CE05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locating target bits for RA configur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frame i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GOP is encoded, the number of the bits for the remaining pictures in the GOP is calcu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arget bit budget based on the bits of the remaining pictures is compu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21" name="Object 10"/>
          <p:cNvGraphicFramePr/>
          <p:nvPr/>
        </p:nvGraphicFramePr>
        <p:xfrm>
          <a:off x="1676520" y="2209680"/>
          <a:ext cx="59673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5967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24" name="Object 12"/>
          <p:cNvGraphicFramePr/>
          <p:nvPr/>
        </p:nvGraphicFramePr>
        <p:xfrm>
          <a:off x="1752480" y="4572000"/>
          <a:ext cx="365760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572000"/>
                    <a:ext cx="36576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5098-01A8-4C8A-BA32-3FDDF326A0B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EE9-720E-4EA3-A56D-139D3AE470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locating target bits for RA configur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frame i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GOP, the target buffer level is decid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arget bit budget based on the target buffer level is calcu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33" name="Object 1"/>
          <p:cNvGraphicFramePr/>
          <p:nvPr/>
        </p:nvGraphicFramePr>
        <p:xfrm>
          <a:off x="1066680" y="2286000"/>
          <a:ext cx="76806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680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066680" y="5105520"/>
          <a:ext cx="3017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105520"/>
                    <a:ext cx="3017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locating target bits for RA configur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arget bit allocated for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frame i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GOP is obta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ly, the target bit is clipp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615-695B-42DB-B50F-A4A827EBA98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F4C6-5C82-4C22-B5D1-D79D991A30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43" name="Object 1"/>
          <p:cNvGraphicFramePr/>
          <p:nvPr/>
        </p:nvGraphicFramePr>
        <p:xfrm>
          <a:off x="1676520" y="2057400"/>
          <a:ext cx="2895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2895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676520" y="3200400"/>
          <a:ext cx="31557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200400"/>
                    <a:ext cx="31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1676520" y="3809880"/>
          <a:ext cx="39272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809880"/>
                    <a:ext cx="3927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1676520" y="4952880"/>
          <a:ext cx="413676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4952880"/>
                    <a:ext cx="41367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locating target bits for LD configur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 frame i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th, the number of the bits for the remaining pictures in the GOP is calcu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arget bit budget based on the bits of the remaining pictures is computed 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AAC6-2331-4B17-B3BB-6364329E08C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2FC6-E8A0-41FD-A111-FD312DD13F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59" name="Object 1"/>
          <p:cNvGraphicFramePr/>
          <p:nvPr/>
        </p:nvGraphicFramePr>
        <p:xfrm>
          <a:off x="1523880" y="2057400"/>
          <a:ext cx="66438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643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4572000"/>
          <a:ext cx="121896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72000"/>
                    <a:ext cx="12189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llocating target bits for LD configura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arget buffer level is decid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the target bits allocated can be calcul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ly, the target bits is clipped where the lower bound is recomput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09480" y="63244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1CB-2884-44E7-A670-AD239A9A951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灯片编号占位符 4"/>
          <p:cNvSpPr/>
          <p:nvPr/>
        </p:nvSpPr>
        <p:spPr>
          <a:xfrm>
            <a:off x="6553080" y="63244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44D5-FE83-4DC3-9AFB-4278645CF9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69" name="Object 1"/>
          <p:cNvGraphicFramePr/>
          <p:nvPr/>
        </p:nvGraphicFramePr>
        <p:xfrm>
          <a:off x="1371600" y="1828800"/>
          <a:ext cx="47102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4710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447920" y="4267080"/>
          <a:ext cx="40208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267080"/>
                    <a:ext cx="4020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6T12:37:53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