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K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270080"/>
            <a:ext cx="8712360" cy="2185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K0294</a:t>
            </a:r>
            <a:br>
              <a:rPr sz="3000"/>
            </a:br>
            <a:br>
              <a:rPr sz="3000"/>
            </a:br>
            <a:r>
              <a:rPr b="1" lang="en-GB" sz="3200" spc="-1" strike="noStrike">
                <a:solidFill>
                  <a:srgbClr val="ffffff"/>
                </a:solidFill>
                <a:latin typeface="Arial Bold"/>
              </a:rPr>
              <a:t>Mirroring of Coefficients for Transform Skipping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849840"/>
            <a:ext cx="8231400" cy="21715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ajitha Weerakkody, Marta Mrak and Andrea Gabriellin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Transform skip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tropy coding design assumes usage of transform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ignificant coefficients closer to top-left corne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cans depend on intra-coding mod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uboptimal performance when the transform is skipp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08080"/>
                </a:solidFill>
                <a:latin typeface="Arial"/>
              </a:rPr>
              <a:t>Enabling better efficiency of the entropy coding when transform skip is used: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08080"/>
                </a:solidFill>
                <a:latin typeface="Arial"/>
              </a:rPr>
              <a:t>Simple rearrangements of coefficients can lead to improved compre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Proposal - mirroring of coefficient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2000" y="90936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efore entropy coding residual coefficients are rearrang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ame at the decoder after entropy decod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pending on the scanning order for the given block, the coefficients are rearranged relative to their original spatial posi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"/>
          <p:cNvGraphicFramePr/>
          <p:nvPr/>
        </p:nvGraphicFramePr>
        <p:xfrm>
          <a:off x="324000" y="2494080"/>
          <a:ext cx="815796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4080"/>
                    <a:ext cx="815796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Implementation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294920"/>
            <a:ext cx="8764560" cy="5015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Mirroring implemented during transform skipping normalisatio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efore quantization, after dequantiz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8080"/>
                </a:solidFill>
                <a:latin typeface="Arial"/>
              </a:rPr>
              <a:t>Decoder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if (diag)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  </a:t>
            </a: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pResidual[j*uiStride+k]=(plCoef[(width*height)-1-width*k-j]+offset)&gt;&gt; transformSkipShift;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  </a:t>
            </a: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pResidual[j*uiStride+k]= (plCoef[k*width + j] + offset) &gt;&gt; transformSkipShift;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2484360" y="4294080"/>
          <a:ext cx="448488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294080"/>
                    <a:ext cx="44848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90600" y="765000"/>
          <a:ext cx="4542120" cy="5613480"/>
        </p:xfrm>
        <a:graphic>
          <a:graphicData uri="http://schemas.openxmlformats.org/drawingml/2006/table">
            <a:tbl>
              <a:tblPr/>
              <a:tblGrid>
                <a:gridCol w="770040"/>
                <a:gridCol w="628560"/>
                <a:gridCol w="628920"/>
                <a:gridCol w="628560"/>
                <a:gridCol w="628560"/>
                <a:gridCol w="628560"/>
                <a:gridCol w="628920"/>
              </a:tblGrid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Content Placeholder 2"/>
          <p:cNvSpPr/>
          <p:nvPr/>
        </p:nvSpPr>
        <p:spPr>
          <a:xfrm>
            <a:off x="6985080" y="5759280"/>
            <a:ext cx="2268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Cross check by Sharp </a:t>
            </a:r>
            <a:br>
              <a:rPr sz="16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CTVC-K02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rtam</cp:lastModifiedBy>
  <dcterms:modified xsi:type="dcterms:W3CDTF">2012-10-10T04:22:22Z</dcterms:modified>
  <cp:revision>142</cp:revision>
  <dc:subject/>
  <dc:title>JCTVC-H0477 On Just Noticeable Distortion Quantization in the HEVC Codec</dc:title>
</cp:coreProperties>
</file>