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51F5-14C0-46C5-BB79-87CD274F3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52DF-8DEC-4051-ACFD-FC51FE7E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F9F-35EE-46F6-90F6-313AF894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F21A-87BB-4033-9C01-4376924E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E895-C7C0-4D87-82E9-FAE8A31BB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ABC-4E0D-4888-BA73-8802E210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3DA-3EFF-4AC3-890C-CBD34B31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F01-CEB2-4D50-840F-191E6422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A46E-ADC7-4BEE-A47C-805D5805D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D566-5F2D-49EC-B15A-9E44E8C7B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D8F4-249F-491F-8C1B-49D95F787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C1E7-9B80-4CCE-BC07-915B1BB55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938E-6AAD-41B4-ADFB-F4929E0DF2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7F55-8F6D-4383-B600-2B658EF629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9D00-3AA3-4583-9F07-E8045C4C4A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0CA1-0429-4160-B9F7-CDB3FCEDC4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6398-8D6A-41A1-81AF-EDA2CD86FE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59AB-89A8-4AB0-9A51-C3DABD46AC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3EC6-DCA2-4C59-A697-556AA30C6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2734-333F-4F15-8E4C-E949745E5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1AD8-BEB2-418E-8DBD-F883CD862D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AD92-92DD-42D1-8464-EBBB5BE029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153F-3010-48BC-AA4A-06C394E277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FA75-F812-4D67-BA9B-63CEFA3733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964C-D776-4A03-9908-587A10CCFC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28A-988E-49F4-90EB-37AEB59018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039-48D2-4882-995D-16C930548D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543-FA85-4AD6-B2B8-20AF845825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2CE-D52A-48AD-9826-F84A2F9783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53C-EB7E-4443-8A35-D440E1F08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32DF-D64A-422B-A03B-6C270F0038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D99-2C3A-4E57-9BCF-AAF1828D79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144-73CA-4C7F-9E01-88A4B80224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F9A-4B30-44D3-A9E0-7A489A56EF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DD0-6293-41B8-9070-310406325F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B2B-FB15-4509-992C-FED8269CFA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4D2-6213-47AB-B405-312DA11024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0E9-B5ED-4A10-A7FB-50747D75DB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FCBF3-254D-4EEB-BF87-E4F7AF257B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C4A48-CFBA-41EC-A0B7-2C9789987C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604DC-3243-49E2-A4F6-2D7767DA9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F998-3E80-415D-A4B6-E67524D79E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424C7-5824-4DD9-8682-7306EB998F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89CF2-E1FA-405B-8556-09FA7E3E46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C9091-6FE0-4AA6-9082-E1668E8A12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76606-A4D0-4491-BBA6-90C4FFF926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17768-7112-41AB-9A22-6C0E17E705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973C7-FD2F-416A-A08F-0BAA9F8B39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4709F-33A8-40E0-8B7D-EA3518827F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A711C-04ED-49DD-9ADD-DABD8D76C4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C5718-933A-4525-A533-2C857B2169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64715-33DD-416A-AF78-457B3E9CA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653B-659E-44DA-A7F8-E8A502C807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951A-38D6-449F-9ADA-59E50FC7BD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5B6A2-8CCC-44A0-A389-6AD5F75587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1BFDA-1C5D-4800-9D51-795432DD72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F25C0-2187-49D0-A6B3-68672DE6F2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4817E-FFCE-40DD-9BCB-539B2BCEBF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8AA32-BEE7-41AE-B130-A952084528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898D8-E460-4DDE-A2DC-96804A90FF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9F614-2A86-4662-A5D4-9B99C263E1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ABB13-1D40-46C9-9901-3F20B7D6A0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22402-5051-49D4-A5DD-68BCA7694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58B8-FA79-4588-9110-E92F482B64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34D67-C770-4AC1-94A4-11B0B4ADA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A349-A18B-4AC8-B70D-86DBDE756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6A7A-FBF5-402F-A255-84100B043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0878-E3DC-4188-9193-C5446F491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65A-3070-4F78-A4CD-95ECDDF9ADD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1023-104F-4E4D-A135-A298F1D9603A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0344-49A0-4CC4-97F4-E9AD65134D2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D7D7-219F-4468-8CA8-234ACC3A045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4821-12EE-4E07-9686-AE5C49289FD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BDF0-A2D3-4B4F-8055-9537B62C781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60076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5499"/>
              </a:spcBef>
              <a:spcAft>
                <a:spcPts val="5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JCTVC-K0249: AhG6</a:t>
            </a:r>
            <a:br>
              <a:rPr sz="3200"/>
            </a:br>
            <a:r>
              <a:rPr b="1" lang="fr-FR" sz="4400" spc="-1" strike="noStrike">
                <a:solidFill>
                  <a:srgbClr val="ff0000"/>
                </a:solidFill>
                <a:latin typeface="Arial"/>
                <a:ea typeface="Gulim"/>
              </a:rPr>
              <a:t>SAO offset coding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Gulim"/>
              </a:rPr>
              <a:t> </a:t>
            </a:r>
            <a:r>
              <a:rPr b="1" lang="en-CA" sz="4400" spc="-1" strike="noStrike">
                <a:solidFill>
                  <a:srgbClr val="ff0000"/>
                </a:solidFill>
                <a:latin typeface="Arial"/>
              </a:rPr>
              <a:t>for higher bit-depth video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oo-Shik Kim, Madhukar Budagavi, Vivienne S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D1D4-5301-45C4-B4E6-3BF35B7C6C7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SAO Offset Coding in HM-8.0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902880"/>
            <a:ext cx="847728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Offset range depends on internal bit-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runcated unary binarization with bypass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4335480" y="3657600"/>
            <a:ext cx="4336920" cy="25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offset value: binarized b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1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2: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: 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0: 111111111111111111111111111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1: 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 10 bit video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968400" y="3646440"/>
            <a:ext cx="305424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offset value: binarized b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1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2: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: 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6: 111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7: 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 8 bit vide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8"/>
          <p:cNvSpPr/>
          <p:nvPr/>
        </p:nvSpPr>
        <p:spPr>
          <a:xfrm>
            <a:off x="2314440" y="3008160"/>
            <a:ext cx="4515120" cy="50544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Gulim"/>
              </a:rPr>
              <a:t>Max 31 bins per offset, bypass 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66680" y="1751040"/>
          <a:ext cx="7010640" cy="1112760"/>
        </p:xfrm>
        <a:graphic>
          <a:graphicData uri="http://schemas.openxmlformats.org/drawingml/2006/table">
            <a:tbl>
              <a:tblPr/>
              <a:tblGrid>
                <a:gridCol w="2059200"/>
                <a:gridCol w="1558800"/>
                <a:gridCol w="1560600"/>
                <a:gridCol w="1832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978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bit 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978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bit 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978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bit and ab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978c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set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, 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, 1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, 3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ax b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779B-CCF3-499A-9C2F-3A59D31C51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SAO Offset Coding in HM-8.0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3360" y="902880"/>
            <a:ext cx="847728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Maximum bin rate for SAO offset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K@60fps (3840x2176) assuming 16x16 LCU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Gulim"/>
              </a:rPr>
              <a:t>4 offsets for each color component, 12 for each L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729 Mbins/sec for SAO offset cod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ucing worst case bypass bin desirable, since bypass bins throughput could be around only 2 times that of context coded bins at typically used processor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ucing number of SAO offset bins can help real-tim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76E-1BB7-48AA-83F0-761F6984B5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Proposed Method – First Approach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9880" y="883800"/>
            <a:ext cx="847728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No change in Main profile (8 bit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For internal bit-depth larger than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refix: truncated unary binarization as in HM-8.0 (cMax =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uffix: fixed length binarization when offset is larger than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ll bypass co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8"/>
          <p:cNvSpPr/>
          <p:nvPr/>
        </p:nvSpPr>
        <p:spPr>
          <a:xfrm>
            <a:off x="2347920" y="2612880"/>
            <a:ext cx="4448160" cy="50544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Gulim"/>
              </a:rPr>
              <a:t>Max 12 bins for 10 bit an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5207040" y="3254400"/>
            <a:ext cx="2684520" cy="304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1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2: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: 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6: 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7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00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8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0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9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0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0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1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1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971320" y="33210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roposed, 10 bi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658800" y="3240000"/>
            <a:ext cx="4336920" cy="30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1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2: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: 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6: 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7: 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8: 1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9: 11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0: 11111111111111111111111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1: 111111111111111111111111111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3449520" y="33591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M8, 10 bi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2E5-7104-41B4-AE6F-EDE63A6FF76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Proposed Method – Second Approach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9880" y="883800"/>
            <a:ext cx="847728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No change in Main profile (8 bit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For internal bit-depth larger than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refix: truncated unary (TU) binarization as in HM-8.0 (cMax =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uffix: 0th exp-Golomb (EG0) binarization when offset is larger than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ll bypass co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8"/>
          <p:cNvSpPr/>
          <p:nvPr/>
        </p:nvSpPr>
        <p:spPr>
          <a:xfrm>
            <a:off x="2347920" y="2571840"/>
            <a:ext cx="444816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Gulim"/>
              </a:rPr>
              <a:t>Max 16 bins for 10 bit an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Gulim"/>
              </a:rPr>
              <a:t>Use of existing binariz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5207040" y="3541680"/>
            <a:ext cx="2684520" cy="304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1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2: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: 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6: 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7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8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9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0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11110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1: 111111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맑은 고딕"/>
              </a:rPr>
              <a:t>11110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58800" y="3540240"/>
            <a:ext cx="4336920" cy="30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1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2: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: 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6: 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7: 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8: 1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9: 11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0: 11111111111111111111111111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1: 111111111111111111111111111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3400200" y="35942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M8, 10 bi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5931720" y="359424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roposed, 10 bi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2902-D485-4C44-8FAE-C6E615866DC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33360" y="794880"/>
            <a:ext cx="84772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No change for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No coding loss in HE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47840" y="1779480"/>
          <a:ext cx="6448320" cy="2100240"/>
        </p:xfrm>
        <a:graphic>
          <a:graphicData uri="http://schemas.openxmlformats.org/drawingml/2006/table">
            <a:tbl>
              <a:tblPr/>
              <a:tblGrid>
                <a:gridCol w="1003320"/>
                <a:gridCol w="907920"/>
                <a:gridCol w="906480"/>
                <a:gridCol w="907920"/>
                <a:gridCol w="908280"/>
                <a:gridCol w="906480"/>
                <a:gridCol w="907920"/>
              </a:tblGrid>
              <a:tr h="349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U+FL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-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347840" y="4089240"/>
          <a:ext cx="6448320" cy="2097360"/>
        </p:xfrm>
        <a:graphic>
          <a:graphicData uri="http://schemas.openxmlformats.org/drawingml/2006/table">
            <a:tbl>
              <a:tblPr/>
              <a:tblGrid>
                <a:gridCol w="1003320"/>
                <a:gridCol w="907920"/>
                <a:gridCol w="906480"/>
                <a:gridCol w="907920"/>
                <a:gridCol w="908280"/>
                <a:gridCol w="906480"/>
                <a:gridCol w="907920"/>
              </a:tblGrid>
              <a:tr h="351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U+EG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-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0863-2FDA-4B1A-852B-F7589FC009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rable to reduce worst case number of SAO offsets 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posed SAO offset coding for internal bit-depth larger than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U+FL : max number of bin is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U+EG0 : uses existing binarization scheme with max number of bin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No change for Main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Maximum number of bin is reduced from 31 to 12 (TU+FL) or 16 (TU+EG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No coding loss in HE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14362</cp:lastModifiedBy>
  <dcterms:modified xsi:type="dcterms:W3CDTF">2012-10-11T04:57:07Z</dcterms:modified>
  <cp:revision>119</cp:revision>
  <dc:subject/>
  <dc:title>Presentation Title Here</dc:title>
</cp:coreProperties>
</file>