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8ADD-129E-4509-9DFA-9B8E9DD9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77722-99B1-48E6-8390-55F74F6D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D1101-69F0-4BFF-896B-7E060515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8152F-8A72-476F-BF62-0E965C1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77044-19EF-46C0-94E3-EA0A56D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629B9-A76A-42B9-94F1-E64513E1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9C253-3D09-4291-B079-3D83810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53CE6-35F3-458C-AAD7-0747A58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C260-10FA-4D4E-BDF2-31237B6F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248CD-29D7-40D1-9858-A50485B4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5D2D2-8999-4F14-86C3-E9E4ABCC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0737F-E29B-4473-A0AB-E8EC8E91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2C936-855D-437B-AB16-4CD23CC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DFC4B8-D38D-4FF9-9D2F-FEC1652F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A09BBC-6855-4824-AB5D-91946DD0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BA1964-88A1-449A-BD29-5297B9BC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061FB-9A37-478E-854B-7A56E397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A3CC72-F0D0-430C-A72B-F186499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876DEB-10F4-4135-B1CA-C03C72F2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49D92E-61DD-479A-8D29-6AF1AC8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75CF29-9186-4840-AD08-47B2A4D0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2A51C-6F30-4674-8713-41BA8699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E0F1FE-98BC-45F7-A702-E80E615C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BFCE6-7AFF-4670-9E0A-B90D8B4B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AD9A31-E145-41E1-89B3-646D76B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8C4D2-2227-4A96-9824-087D7B19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19253-52A1-4650-9C76-64B4AD89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446C3-1217-43D7-95FF-35E7E4E5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FE4FC-BCB1-426B-9238-DE93A99F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4092B8-5C8D-407B-832C-67FC7E60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E5EA2-B6FF-46B9-BEE8-E03E0AB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B8A44-6872-4B73-A486-FA03BCB4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55DE6-29F2-409D-B8D3-5AD32D25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FC477C-16E2-40CB-933F-1880E464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C0182-1870-4B40-9B41-7C0ABCB8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AA862-8E69-48C8-B288-B18CF40A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1A17A-8F29-406A-9512-363D0295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B73419-084A-41DF-BF8B-4D096F954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57801-085E-4C76-AE2A-62381E1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79338B-B5C9-43DC-967B-F3600930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535999-CA55-436A-AF0B-75B0B8D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D2B73-D83F-4FE5-9FCB-93E10378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4CAC92-9EC8-422F-810C-8075275F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C7384-B49E-4A71-9F43-07A392E7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B25354-4E29-49EA-A759-A395BE69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0775F-3BC5-4399-AFF5-3B30E85C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71BDD8-2F7A-43FC-B04D-061BB0AAD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42741E-7241-4FFF-AE3C-5531F9F9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4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463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85800" y="6078240"/>
            <a:ext cx="4152600" cy="2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19440" y="637056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CTVC-K02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04D9-1DFE-4A2F-B3A1-D3708DB88F68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75000" y="6038640"/>
            <a:ext cx="416376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A3CC-F570-4085-9920-B0E7D54BD4E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12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spcBef>
                <a:spcPts val="26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968400" algn="ctr">
              <a:spcBef>
                <a:spcPts val="88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1616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1616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49DB-D82A-4CA3-9CD7-8F762EA7D2A4}" type="datetime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2468520" y="6038640"/>
            <a:ext cx="4159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2B32-7BF0-45F9-B5FC-E555241B4386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8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4EF-B0B3-4FE7-A66E-60DC4BC7C94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9"/>
          </p:nvPr>
        </p:nvSpPr>
        <p:spPr>
          <a:xfrm>
            <a:off x="2485800" y="6039000"/>
            <a:ext cx="4152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0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168-61A9-4B3E-819E-7C9FC7D32A1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1"/>
          </p:nvPr>
        </p:nvSpPr>
        <p:spPr>
          <a:xfrm>
            <a:off x="355680" y="6038640"/>
            <a:ext cx="213336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7ADB-7B04-44D2-A53D-5FCE3756ADE7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2"/>
          </p:nvPr>
        </p:nvSpPr>
        <p:spPr>
          <a:xfrm>
            <a:off x="2486160" y="6039000"/>
            <a:ext cx="416376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3D66-92FB-4CA5-8FA4-1CD5B91062E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3000" y="534960"/>
            <a:ext cx="86137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gion of interest (ROI) SEI message</a:t>
            </a: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JCTVC-K0247)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58560" y="3153960"/>
            <a:ext cx="8458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Gosel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Dedeogl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sv-SE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dhukar Budag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as Instruments I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98480" y="4871520"/>
            <a:ext cx="591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Joint Collaborative Team on Video Coding (JCT-V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of ITU-T SG 16 WP 3 and ISO/IEC JTC 1/SC 29/WG 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1th Meeting: Shanghai, CN, 10–19 Oct. 20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26ED-CE51-4888-A502-8B7F55B1217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1B00B08-6EC4-485A-B119-321D402692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31480" y="777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25160" y="955440"/>
            <a:ext cx="8358120" cy="53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gion of interest (ROI) based video coding is used in practice to improve video quali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re-determined regions of videos such as human faces, text, and graphical elements such as lo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I and ROI priority determination done by a content analysis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P modulated depending on ROI pri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800280" y="3579840"/>
            <a:ext cx="7748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1480" y="7776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oud computing/video infrastructure - 1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25160" y="844560"/>
            <a:ext cx="8358120" cy="55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 chain multiple encode-decode blocks to prepare video content for delivery to end-users in cloud computing/video infrastructur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 include, multipoint video conferencing, overlaying text or logos on top of existing video content, server based video stabilization and quality enhancement, trans-rating between bit-rate/quality options, and transcoding from one video standard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Intermediate encoders do not have readily available ROI information and cannot take advantage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690480" y="4186080"/>
            <a:ext cx="759960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806400" y="5756400"/>
            <a:ext cx="74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-CA – content analysis block, V-Enc – Video enc, V-Dec – video d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oud computing/video infrastructure - 2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33360" y="884160"/>
            <a:ext cx="84679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include content analysis block in every intermediat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304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OI estimation might degrade in coding chain since every round of re-encoding could introduce quality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1"/>
          <a:stretch/>
        </p:blipFill>
        <p:spPr>
          <a:xfrm>
            <a:off x="722160" y="1644480"/>
            <a:ext cx="7877160" cy="1400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93880" y="3184560"/>
            <a:ext cx="74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V-CA – content analysis block, V-Enc – Video enc, V-Dec – video d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1480" y="763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posed solut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33360" y="782280"/>
            <a:ext cx="881064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ROI information in S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I information is propagated to intermediate en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ntent analysis blocks not required in intermediat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1" descr=""/>
          <p:cNvPicPr/>
          <p:nvPr/>
        </p:nvPicPr>
        <p:blipFill>
          <a:blip r:embed="rId1"/>
          <a:stretch/>
        </p:blipFill>
        <p:spPr>
          <a:xfrm>
            <a:off x="1077840" y="1297080"/>
            <a:ext cx="6645240" cy="174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"/>
          <p:cNvPicPr/>
          <p:nvPr/>
        </p:nvPicPr>
        <p:blipFill>
          <a:blip r:embed="rId2"/>
          <a:stretch/>
        </p:blipFill>
        <p:spPr>
          <a:xfrm>
            <a:off x="482760" y="4363920"/>
            <a:ext cx="80546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1480" y="763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I SEI messag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9640" y="901800"/>
            <a:ext cx="852156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window_start_xp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starting x-position of the ROI in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window_start_yp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starting y-position of the ROI in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window_wid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width of the ROI in pix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window_heigh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height of the ROI in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prio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priority for the RO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ype of ROI (0: Face, 1:Text, 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oi_labe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pecifies the label for the ROI. roi_label can be used to track ROIs from one frame to another: for instance, if they are used to track a person’s face in the video sequence, the person’s face will be assigned the same label through the whole video sequenc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>Eric Wand</dc:creator>
  <dc:description/>
  <dc:language>en-US</dc:language>
  <cp:lastModifiedBy>a0214362</cp:lastModifiedBy>
  <dcterms:modified xsi:type="dcterms:W3CDTF">2012-10-15T22:38:36Z</dcterms:modified>
  <cp:revision>747</cp:revision>
  <dc:subject/>
  <dc:title>Presentation Title Here</dc:title>
</cp:coreProperties>
</file>