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4F87-91F5-455A-B6A0-E0AF3F800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5E7C-9649-43C3-BC55-0CDEE15C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C8B73-2431-40A2-87CB-99268631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4E49A-BD35-4D50-9493-31A1AE2E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63EA10-55A8-47D7-90EF-CE8F4C1E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074AD-860B-4D7F-B365-D16A473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90E44-9342-4D2A-A4FC-A0E07871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AC19E-6622-4B16-8FF9-96145D9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7F26E-E8B2-4A99-878B-5B9B35D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C8514-7EF2-4897-979C-5C9D796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A7426-0744-48EE-ADD6-8D7D12AFA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C924-2FEE-492A-BB3C-359ED15E9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FDDA-C2D5-466A-9B82-ABD1AEE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8C5F-6AAC-4A91-9D9A-9A63B1D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28D6-8034-405A-94C9-6E8A3360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9A2F-156F-4CA2-9985-7CCFB6BE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2340-E979-4701-A535-AEB9620B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89FE-CDC2-47B0-BAA6-3CDC947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13FE-E43D-4F72-8605-9D66B25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6E39-BF4D-4000-AA92-8C9D049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7605-37D7-4278-8960-3DA94AF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C255-0C23-4990-A96F-F9769E37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5D07-73ED-4A6F-91E9-E62E905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705E-BB3B-47E5-B6FA-A49407C22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51AA-6524-4008-B8F9-BC20D7E2B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A5D6E-84E8-4CF8-A742-CBC934F0E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80D52-66D2-4767-9D36-B7CD1D8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4E514-F2F9-473F-B49C-E9B7CF6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37182-2A1C-4FFD-AF3E-C5837C9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A7473-96D6-4BF5-948B-47022B5F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D500F-2D7B-4DFC-BEE3-FBCF54DB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B53BD-7F2C-4974-BAF3-ABA1CB8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E0C15-FD07-4A5A-A058-A0D246B7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BD5F6-01A8-47AC-AB9F-D692D3B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4A0AE-AA84-4640-B99E-2FBAC0E5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267E7-A6D8-4446-81E3-B527D2D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81BCE-ECCF-44E2-800F-93A30ED3C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1C70A-05C5-4B3E-9F41-297CC58B4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FD415-88DF-445A-BDD7-F76DB9E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81F9A-E063-4399-A5BB-AC43AA8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8723F-F229-48EA-BE69-FD3F907E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37F30B-D0E7-4C3C-AB4A-417D03E7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01976-6330-44DD-929A-311ACDE5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C9E87-A0ED-4D82-A792-E2074EDF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D14607-E41C-4E10-BB1C-C8B20A1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26D2B9-942A-40F6-88B6-3919B5C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533B1-D649-4298-B439-BB6EF38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DDEA6-F08B-422E-B568-17A7BF9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0533A-5ECE-4906-82C3-93F665CEE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6B64B-FA95-4C4B-8A63-275CB0E73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FD84-1F01-44DA-81E3-8A68DF2A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70FF-E48B-43E3-83F2-94386F7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3A86-6A0D-4D1C-8C46-1BFE241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88E1-FCB4-4B4F-B990-A663D0A3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BD48-4332-4441-A34A-052D716E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D4D9-E8FE-4A5B-8323-BF4F66A3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755D6-32A1-45A6-AD07-7255487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1AA3-6DAC-408F-A8E7-1481AD6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109D-2707-44DC-B9FF-8E7CCCFA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EED69-23A4-4D26-A0E0-0D6112F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2E60-A8A1-416C-9787-31737507B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66C89-BDF4-4C8D-9B8A-BB3BA173C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689C80-9EBB-40B7-A40A-040F8D40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36B6B-A87E-4481-A81C-7626B3D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6D1BF-515E-42E4-8DDA-E61E300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8B81C-4BD9-4320-B434-0260F028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5880F-E495-4495-9FF7-B5DEFD2E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E42A9-54F3-45E0-8BB9-6F6F89C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64A90-5179-455B-BAC8-DC010C8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CEC4B3-C572-44C6-99F9-B8B1C16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A8BE9-12FF-4F24-BAFD-1EA6CA49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E7F76-50BF-4825-8DCA-EE9E5A2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60751F-0216-467D-A17A-B481F2785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DB29A-9374-4B49-BC5D-430AA89D3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DE104-094A-43F1-9C1D-78CF469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C5DA8-332B-4A4B-B7B6-F371D32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AF705-8401-4623-962C-150F220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51E56-E9CD-4600-820D-10B3EB1A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A1714-188B-4D20-BAD8-13B652F3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6A40F-355E-4F80-8DBC-1766843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BF68C-5AF7-41D6-BF88-0E68650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3CCFA-F6EB-4339-8883-52327E70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91CE2-752E-4D42-9FBE-83FE4984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4EBA7-F3B2-495A-83B4-217B014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55A09-2FF4-4D60-B08F-A672112FB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9AF2-CC0A-4B42-A575-2FAC013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2BD0-3A5D-487E-B275-7AA9BEDD5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C7A7-FE2F-4566-BC09-7279FA8A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B0CC-93FB-4097-B2CD-A1FBA8E3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C24FB-5470-4AEE-B55B-64ACB24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A235-B2CB-4A65-9FAF-AC17EF08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D8D8-024E-40DE-94CD-1D504E9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85AEE-FAC5-4170-AA0A-DCFC472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D4F72-0B64-4121-8FC0-A876ECC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30574-B0A9-4FDD-B55D-0DA9636B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BCE25-144F-4410-8269-0CFBA9A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69C30-21C9-413C-AF95-DAEF27D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9584C-7A29-4DC4-A20D-A1F8FA2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01DDB-1441-46AD-BB18-894E9298F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EDC-C90D-4B9E-85E5-0FD8DD194F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D49-3516-47A4-8B11-7775EF7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D5B-08D0-46F9-BCF2-E308DDC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6A04-BB90-4CA9-AB32-C222BC95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F097-39F9-4864-9F3E-5D1913D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5E2-305C-43E6-A9E7-931E823E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33D-EE3F-462E-BE69-A3AD63E2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4AA2-9309-4AC3-AFDF-D12B1B7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200-2D34-44E8-8EF5-51BD423C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A7B2-9E53-422B-8F64-E1DA185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D55-091A-4A74-8E91-6E36D844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173-1A9C-40C0-8B95-26C39D6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788-2F31-4D84-9247-DCA8DCFE4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EF07A-6C97-44A4-A08A-18DED5FAD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21DE-BE41-4421-B0D2-17E02C14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EEECD-E762-4C2F-B62C-16DB913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94D5A-7507-44D4-A246-6BAD3E9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73C64-3C08-47DF-80EB-484644DD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BDF58-3C50-4CD0-8689-DE192930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966B8-22B1-4BF5-97BC-F7CDE043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07E15-356D-4731-98CF-331BE703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49797-579F-4161-8B9A-795A451B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689E8-B554-464A-B2BF-0381AC92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8EFFC-6CED-4613-A479-8067C00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8D8F7-1702-4021-9FE5-D01DAAB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E5C5-9DFE-440B-8A6C-146BC4FC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35C34-EB52-40A9-AD3E-D8ABB1110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FDAAA-D87B-40FC-8084-5A8935B91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4FEFF-634C-4F95-9030-3906EC7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48219-0A96-4230-819A-B7EE7BC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27ACF-C7D7-4272-81C8-BF536AD3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CA88F-4686-42BD-ACA8-15F82AFA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6DF39-2A28-4F71-B9DE-963CB2F0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3578F-BC23-4BCE-893D-D860781B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666C3-A894-4FD8-9E48-0EEB4CF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B47B9-982B-44D9-BED7-2FCD2722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97DE-1FDC-40CF-B1C2-66B2A50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DBB0E-D7F4-418C-8A10-764B1E95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9BB66-81C3-49E4-9604-20D0C21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058EE-E4D0-47A7-8231-E33AFE18A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3DD4-9FB0-4048-8DCF-61714CBD7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7287-3482-49CC-AF5B-03221CCA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11E7-E148-41B4-AEB6-291A8DE6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C02E-AC14-4274-99CC-1E16D16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285F-6B4A-43F8-B8D5-4EF333CE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BFB7-5DA7-411E-83A6-519035B4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DC08-0E17-43E1-8678-67D42029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829E-F8AF-49D5-92CB-71C8E33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C82A-0A6F-4D24-BE7C-FD89D75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2A47-1D34-4EA4-B0CA-7A9D30D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F80D-87C0-4FE1-A4D2-302AE79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25CD-8835-423F-8837-D235B16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3827-2959-4B2E-A7B6-157D8066F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6F88F-FE8B-452D-A96D-137309623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28962-7C6C-4EEB-A668-43836085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DDE98-EA9A-4D0B-9D9E-2879CF4E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60C96-5219-443A-B21B-0D7592C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90151-66E7-4FC8-9654-C3A5C5AC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7598-2987-488B-98DE-D218CC3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768240"/>
            <a:ext cx="640080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2CC8A-1209-4151-90E9-C68AC6B4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9D298-2EDC-4091-BC62-A1ECFE0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7A2AB-1110-435A-8E36-7858E88D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0E0CE-2D89-487F-8823-FDE3388C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599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DD34A-BA6D-4F71-9612-5F86AC0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2628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59900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7A71B-BCDD-4515-9B13-38BBA1B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2628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59900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8B962-53F0-4AB2-B55E-9FC9FF48B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8E03A-AC35-4972-A1FA-A0A3DE16F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14DBA-4D59-416C-815A-67B6ADB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3665D-8C2F-4AF1-9ADA-6382402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5228-D43B-47ED-BE52-D95BA0E46639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706F-EC9D-4727-A69E-49A7CE4FB6C0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383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8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679C-80DC-4695-8759-946AD562E1EB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9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3DA-C4B6-4618-A3DE-1D82BA0E5C0A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426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RIM_black.png"/>
          <p:cNvPicPr/>
          <p:nvPr/>
        </p:nvPicPr>
        <p:blipFill>
          <a:blip r:embed="rId3"/>
          <a:stretch/>
        </p:blipFill>
        <p:spPr>
          <a:xfrm>
            <a:off x="419040" y="133200"/>
            <a:ext cx="587520" cy="2556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0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8FF-6811-4B3B-814B-D71D5EE64905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dt" idx="21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589-E4AA-4E23-A01D-6339532750E7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469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RIM_black.png"/>
          <p:cNvPicPr/>
          <p:nvPr/>
        </p:nvPicPr>
        <p:blipFill>
          <a:blip r:embed="rId3"/>
          <a:stretch/>
        </p:blipFill>
        <p:spPr>
          <a:xfrm>
            <a:off x="419040" y="133200"/>
            <a:ext cx="587520" cy="2556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2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FBA1-CEAC-45F9-978E-9704A6A03C16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23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3F8-23FE-473F-BC0D-C74C78CF284B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512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RIM_black.png"/>
          <p:cNvPicPr/>
          <p:nvPr/>
        </p:nvPicPr>
        <p:blipFill>
          <a:blip r:embed="rId3"/>
          <a:stretch/>
        </p:blipFill>
        <p:spPr>
          <a:xfrm>
            <a:off x="419040" y="133200"/>
            <a:ext cx="587520" cy="255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4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CA5-5998-4088-9C85-91C9C1D9FF9F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25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097-CB9B-47D7-9492-877233B83B99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555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RIM_black.png"/>
          <p:cNvPicPr/>
          <p:nvPr/>
        </p:nvPicPr>
        <p:blipFill>
          <a:blip r:embed="rId3"/>
          <a:stretch/>
        </p:blipFill>
        <p:spPr>
          <a:xfrm>
            <a:off x="419040" y="133200"/>
            <a:ext cx="587520" cy="255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6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8D0-546D-4EC2-979F-433BB82B1596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dt" idx="27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215-B773-4FD8-8108-3DF21A0A2F13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598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8" descr="RIM_black.png"/>
          <p:cNvPicPr/>
          <p:nvPr/>
        </p:nvPicPr>
        <p:blipFill>
          <a:blip r:embed="rId3"/>
          <a:stretch/>
        </p:blipFill>
        <p:spPr>
          <a:xfrm>
            <a:off x="419040" y="133200"/>
            <a:ext cx="587520" cy="2556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8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5FB-44AA-4AAE-B7B8-8B1D50770CA4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dt" idx="29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AFB-3037-46BC-AB11-6BA8D0E7EE5A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45" name="Picture 14" descr="RIM_white_LG16percent.png"/>
          <p:cNvPicPr/>
          <p:nvPr/>
        </p:nvPicPr>
        <p:blipFill>
          <a:blip r:embed="rId2"/>
          <a:stretch/>
        </p:blipFill>
        <p:spPr>
          <a:xfrm>
            <a:off x="6723000" y="5495760"/>
            <a:ext cx="2087640" cy="908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46040" y="4172040"/>
            <a:ext cx="64008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73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95F-1187-4D68-8219-6D6949CD4F23}" type="datetime3">
              <a:rPr b="0" lang="en-US" sz="1800" spc="-1" strike="noStrike">
                <a:solidFill>
                  <a:srgbClr val="0073bc"/>
                </a:solidFill>
                <a:latin typeface="Times New Roman"/>
              </a:rPr>
              <a:t>July 31, 20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86" name="Picture 13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F9A-3ED5-471A-9A2D-6F7BD53CB33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D49-E6A5-432A-8104-49533C903257}" type="datetime3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BB_Multistream_BlueDark_RGB.jpg"/>
          <p:cNvPicPr/>
          <p:nvPr/>
        </p:nvPicPr>
        <p:blipFill>
          <a:blip r:embed="rId2"/>
          <a:srcRect l="0" t="0" r="1363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6"/>
          </p:nvPr>
        </p:nvSpPr>
        <p:spPr>
          <a:xfrm>
            <a:off x="8686800" y="0"/>
            <a:ext cx="457200" cy="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" spc="-1" strike="noStrike">
                <a:solidFill>
                  <a:srgbClr val="0167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B5A-E779-4F7C-A854-EDFEC9BC5090}" type="slidenum">
              <a:rPr b="0" lang="en-US" sz="100" spc="-1" strike="noStrike">
                <a:solidFill>
                  <a:srgbClr val="0167ae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7"/>
          </p:nvPr>
        </p:nvSpPr>
        <p:spPr>
          <a:xfrm>
            <a:off x="8686800" y="1440"/>
            <a:ext cx="457200" cy="6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" spc="-1" strike="noStrike">
                <a:solidFill>
                  <a:srgbClr val="0167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B3C-DF0D-4805-B64B-A1B1BDBC2520}" type="datetime3">
              <a:rPr b="0" lang="en-US" sz="100" spc="-1" strike="noStrike">
                <a:solidFill>
                  <a:srgbClr val="0167ae"/>
                </a:solidFill>
                <a:latin typeface="Times New Roman"/>
              </a:rPr>
              <a:t>July 31, 2026</a:t>
            </a:fld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Untitled-3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8"/>
          </p:nvPr>
        </p:nvSpPr>
        <p:spPr>
          <a:xfrm>
            <a:off x="8686800" y="0"/>
            <a:ext cx="457200" cy="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C13-E645-4D92-9434-73B88D2C0B98}" type="slidenum"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9"/>
          </p:nvPr>
        </p:nvSpPr>
        <p:spPr>
          <a:xfrm>
            <a:off x="8686800" y="1440"/>
            <a:ext cx="457200" cy="6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4063-EA80-4A90-B2AE-713A041A373E}" type="datetime3"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211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0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A36-5E9F-461C-8252-6FB686939625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dt" idx="11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639-CFF9-4DF2-91E1-4BDA5EFD30A7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254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2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669-55F3-4601-BA4F-9F95C5089C82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13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2BC-FEDC-4AA9-B94E-DE295CFFF584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297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4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B20-6090-4494-8FA7-90CFF5C9F469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dt" idx="15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79E-FB66-41C6-9C09-5F89B5D3FACF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traight Connector 6"/>
          <p:cNvSpPr/>
          <p:nvPr/>
        </p:nvSpPr>
        <p:spPr>
          <a:xfrm>
            <a:off x="455760" y="455760"/>
            <a:ext cx="8226360" cy="0"/>
          </a:xfrm>
          <a:prstGeom prst="line">
            <a:avLst/>
          </a:prstGeom>
          <a:ln w="6480">
            <a:solidFill>
              <a:srgbClr val="9699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340" name="Picture 10" descr="RIM_white.png"/>
          <p:cNvPicPr/>
          <p:nvPr/>
        </p:nvPicPr>
        <p:blipFill>
          <a:blip r:embed="rId2"/>
          <a:stretch/>
        </p:blipFill>
        <p:spPr>
          <a:xfrm>
            <a:off x="419040" y="136440"/>
            <a:ext cx="590760" cy="2574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 Gothic Next LT Pro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26287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Click to edit the outline text format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con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81120" indent="-21456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Third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3" marL="914400" indent="-23328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our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4" marL="230040" indent="-230040">
              <a:spcBef>
                <a:spcPts val="1001"/>
              </a:spcBef>
              <a:buClr>
                <a:srgbClr val="9699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Fif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5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ix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6" marL="230040" indent="-2300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99a"/>
                </a:solidFill>
                <a:latin typeface="Trade Gothic Next LT Pro Lt"/>
              </a:rPr>
              <a:t>Seventh Outline Level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16"/>
          </p:nvPr>
        </p:nvSpPr>
        <p:spPr>
          <a:xfrm>
            <a:off x="8226360" y="19008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643-3E9D-4F9D-B78F-9C453A2DCDF4}" type="slidenum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dt" idx="17"/>
          </p:nvPr>
        </p:nvSpPr>
        <p:spPr>
          <a:xfrm>
            <a:off x="6857640" y="19188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9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4413-D3F5-453B-B852-2E12E9B645FF}" type="datetime3">
              <a:rPr b="0" lang="en-US" sz="900" spc="-1" strike="noStrike">
                <a:solidFill>
                  <a:srgbClr val="96999a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495080"/>
            <a:ext cx="640080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 Gothic Next LT Pro Lt"/>
              </a:rPr>
              <a:t>Rotation of Residual Block for Transform Skipping in HM8 (JCTVC-K0237)</a:t>
            </a:r>
            <a:endParaRPr b="0" lang="en-US" sz="32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4200" y="3127320"/>
            <a:ext cx="6400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99a"/>
                </a:solidFill>
                <a:latin typeface="Trade Gothic Next LT Pro Lt"/>
              </a:rPr>
              <a:t>Dake He, Jing Wang, Gaelle Martin-Cocher (RIM)</a:t>
            </a:r>
            <a:endParaRPr b="0" lang="en-US" sz="18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446040" y="4172040"/>
            <a:ext cx="6400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5A18-35A9-4855-B264-33A229150FBC}" type="datetime3">
              <a:rPr b="0" lang="en-US" sz="1800" spc="-1" strike="noStrike">
                <a:solidFill>
                  <a:srgbClr val="00a8df"/>
                </a:solidFill>
                <a:latin typeface="Trade Gothic Next LT Pro Lt"/>
                <a:ea typeface="ＭＳ Ｐゴシック"/>
              </a:rPr>
              <a:t>July 31, 2026</a:t>
            </a:fld>
            <a:endParaRPr b="0" lang="en-US" sz="18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3" name="Text Placeholder 6"/>
          <p:cNvSpPr/>
          <p:nvPr/>
        </p:nvSpPr>
        <p:spPr>
          <a:xfrm>
            <a:off x="493560" y="5794200"/>
            <a:ext cx="6400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c"/>
                </a:solidFill>
                <a:latin typeface="Trade Gothic Next LT Pro Lt"/>
              </a:rPr>
              <a:t>Intra transform skipping was adopted at the 9</a:t>
            </a:r>
            <a:r>
              <a:rPr b="0" lang="en-US" sz="2000" spc="-1" strike="noStrike" baseline="30000">
                <a:solidFill>
                  <a:srgbClr val="0073bc"/>
                </a:solidFill>
                <a:latin typeface="Trade Gothic Next LT Pro Lt"/>
              </a:rPr>
              <a:t>th</a:t>
            </a:r>
            <a:r>
              <a:rPr b="0" lang="en-US" sz="2000" spc="-1" strike="noStrike">
                <a:solidFill>
                  <a:srgbClr val="0073bc"/>
                </a:solidFill>
                <a:latin typeface="Trade Gothic Next LT Pro Lt"/>
              </a:rPr>
              <a:t> JCTVC meeting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c"/>
                </a:solidFill>
                <a:latin typeface="Trade Gothic Next LT Pro Lt"/>
              </a:rPr>
              <a:t>Substantial improvement of the coding efficiency for Class F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66560" indent="-23328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c"/>
                </a:solidFill>
                <a:latin typeface="Trade Gothic Next LT Pro Lt"/>
              </a:rPr>
              <a:t>Little impact on the coding efficiency for other classes</a:t>
            </a: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  <a:p>
            <a:pPr marL="230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97A3-B086-4D55-802C-71887CC32D87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D14-73B9-4BC0-96CB-B9FD670CA31C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876320" y="301932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tra Prediction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3591000" y="301932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Transform/Scaling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5276880" y="301932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Entropy Coding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cxnSp>
        <p:nvCxnSpPr>
          <p:cNvPr id="651" name="Straight Arrow Connector 8"/>
          <p:cNvCxnSpPr>
            <a:stCxn id="648" idx="3"/>
            <a:endCxn id="649" idx="1"/>
          </p:cNvCxnSpPr>
          <p:nvPr/>
        </p:nvCxnSpPr>
        <p:spPr>
          <a:xfrm>
            <a:off x="3105000" y="3362040"/>
            <a:ext cx="4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Straight Arrow Connector 12"/>
          <p:cNvCxnSpPr>
            <a:stCxn id="649" idx="3"/>
            <a:endCxn id="650" idx="1"/>
          </p:cNvCxnSpPr>
          <p:nvPr/>
        </p:nvCxnSpPr>
        <p:spPr>
          <a:xfrm>
            <a:off x="4819680" y="3362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Straight Arrow Connector 16"/>
          <p:cNvCxnSpPr/>
          <p:nvPr/>
        </p:nvCxnSpPr>
        <p:spPr>
          <a:xfrm>
            <a:off x="6505560" y="3362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Straight Arrow Connector 17"/>
          <p:cNvCxnSpPr/>
          <p:nvPr/>
        </p:nvCxnSpPr>
        <p:spPr>
          <a:xfrm>
            <a:off x="1390320" y="336204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5" name="Rectangle 18"/>
          <p:cNvSpPr/>
          <p:nvPr/>
        </p:nvSpPr>
        <p:spPr>
          <a:xfrm>
            <a:off x="1876320" y="399096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tra Prediction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656" name="Rectangle 19" descr=""/>
          <p:cNvPicPr/>
          <p:nvPr/>
        </p:nvPicPr>
        <p:blipFill>
          <a:blip r:embed="rId1"/>
          <a:stretch/>
        </p:blipFill>
        <p:spPr>
          <a:xfrm>
            <a:off x="3578400" y="3962520"/>
            <a:ext cx="1255680" cy="7254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20"/>
          <p:cNvSpPr/>
          <p:nvPr/>
        </p:nvSpPr>
        <p:spPr>
          <a:xfrm>
            <a:off x="5276880" y="399096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Entropy Coding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cxnSp>
        <p:nvCxnSpPr>
          <p:cNvPr id="658" name="Straight Arrow Connector 21"/>
          <p:cNvCxnSpPr>
            <a:stCxn id="655" idx="3"/>
            <a:endCxn id="656" idx="1"/>
          </p:cNvCxnSpPr>
          <p:nvPr/>
        </p:nvCxnSpPr>
        <p:spPr>
          <a:xfrm>
            <a:off x="3105000" y="4333680"/>
            <a:ext cx="4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9" name="Straight Arrow Connector 22"/>
          <p:cNvCxnSpPr>
            <a:stCxn id="656" idx="3"/>
            <a:endCxn id="657" idx="1"/>
          </p:cNvCxnSpPr>
          <p:nvPr/>
        </p:nvCxnSpPr>
        <p:spPr>
          <a:xfrm>
            <a:off x="4819680" y="4333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0" name="Straight Arrow Connector 23"/>
          <p:cNvCxnSpPr/>
          <p:nvPr/>
        </p:nvCxnSpPr>
        <p:spPr>
          <a:xfrm>
            <a:off x="6505560" y="4333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1" name="Straight Arrow Connector 24"/>
          <p:cNvCxnSpPr/>
          <p:nvPr/>
        </p:nvCxnSpPr>
        <p:spPr>
          <a:xfrm>
            <a:off x="1390320" y="433368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Intra prediction produces a residual block with zeros more likely at the top-left corner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marL="230040" indent="-23004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Scans (diagonal, horizontal, vertical) expect zeros near the bottom-right corner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582-778B-45A8-B9C3-439963A12EA0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5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B33-26C7-44E3-A1A2-007B32F48584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7" name="Rectangle 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8" name="TextBox 17"/>
          <p:cNvSpPr/>
          <p:nvPr/>
        </p:nvSpPr>
        <p:spPr>
          <a:xfrm>
            <a:off x="342720" y="302904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Racehorses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Class D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QP=22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69" name="TextBox 17"/>
          <p:cNvSpPr/>
          <p:nvPr/>
        </p:nvSpPr>
        <p:spPr>
          <a:xfrm>
            <a:off x="297000" y="4643280"/>
            <a:ext cx="174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BasketballDrillText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Class F, QP=37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0" name="Rectangle 1"/>
          <p:cNvSpPr/>
          <p:nvPr/>
        </p:nvSpPr>
        <p:spPr>
          <a:xfrm>
            <a:off x="2125800" y="2921040"/>
            <a:ext cx="211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37  0.37  0.37  0.41 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48  0.49  0.50  0.53 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54  0.56  0.56  0.58 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0  0.62  0.62  0.62 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1" name="TextBox 17"/>
          <p:cNvSpPr/>
          <p:nvPr/>
        </p:nvSpPr>
        <p:spPr>
          <a:xfrm>
            <a:off x="2680560" y="25304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Horizontal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2" name="TextBox 17"/>
          <p:cNvSpPr/>
          <p:nvPr/>
        </p:nvSpPr>
        <p:spPr>
          <a:xfrm>
            <a:off x="4709880" y="253044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Vertical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4305240" y="29210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3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54  0.57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2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3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55  0.59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5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2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55  0.59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4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4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56  0.61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5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4" name="TextBox 17"/>
          <p:cNvSpPr/>
          <p:nvPr/>
        </p:nvSpPr>
        <p:spPr>
          <a:xfrm>
            <a:off x="6856560" y="253044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Diagonal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340320" y="2921040"/>
            <a:ext cx="196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4  0.49  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49  0.52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49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54  0.56  0.60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49  0.56  0.58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3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51  0.59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2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66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2243160" y="4292640"/>
            <a:ext cx="187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7  0.17  0.17  0.19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25  0.27  0.27  0.28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32  0.35  0.34  0.35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39  0.44  0.43  0.41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4305240" y="4292640"/>
            <a:ext cx="1933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2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0  0.23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32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1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1  0.30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39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1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1  0.29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37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6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3  0.29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34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6362640" y="4292640"/>
            <a:ext cx="195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6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21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1  0.23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ade Gothic Next LT Pro Lt"/>
              </a:rPr>
              <a:t>0.19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0.25  0.28  0.31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22  0.30  0.34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40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0.27  0.34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41</a:t>
            </a: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  </a:t>
            </a:r>
            <a:r>
              <a:rPr b="0" lang="en-US" sz="1400" spc="-1" strike="noStrike">
                <a:solidFill>
                  <a:srgbClr val="0070c0"/>
                </a:solidFill>
                <a:latin typeface="Trade Gothic Next LT Pro Lt"/>
              </a:rPr>
              <a:t>0.46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Rotation the residual block 180 degrees would make the scans more effective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111-F329-4F78-8318-CBDBE6103071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82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B0D-650C-44F2-B009-903631FB8AEB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684" name="Rectangle 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grpSp>
        <p:nvGrpSpPr>
          <p:cNvPr id="685" name="Group 26"/>
          <p:cNvGrpSpPr/>
          <p:nvPr/>
        </p:nvGrpSpPr>
        <p:grpSpPr>
          <a:xfrm>
            <a:off x="1719360" y="2178000"/>
            <a:ext cx="4933800" cy="1824120"/>
            <a:chOff x="1719360" y="2178000"/>
            <a:chExt cx="4933800" cy="1824120"/>
          </a:xfrm>
        </p:grpSpPr>
        <p:sp>
          <p:nvSpPr>
            <p:cNvPr id="686" name="AutoShape 40"/>
            <p:cNvSpPr/>
            <p:nvPr/>
          </p:nvSpPr>
          <p:spPr>
            <a:xfrm>
              <a:off x="1719360" y="2178000"/>
              <a:ext cx="493380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5064120" y="2396520"/>
              <a:ext cx="3124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ade Gothic Next LT Pro Lt"/>
                </a:rPr>
                <a:t>NZ</a:t>
              </a:r>
              <a:endParaRPr b="0" lang="en-US" sz="12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sp>
          <p:nvSpPr>
            <p:cNvPr id="688" name="Text Box 38"/>
            <p:cNvSpPr/>
            <p:nvPr/>
          </p:nvSpPr>
          <p:spPr>
            <a:xfrm>
              <a:off x="4057920" y="2709360"/>
              <a:ext cx="90792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ade Gothic Next LT Pro Lt"/>
                </a:rPr>
                <a:t>180 degrees</a:t>
              </a:r>
              <a:endParaRPr b="0" lang="en-US" sz="12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sp>
          <p:nvSpPr>
            <p:cNvPr id="689" name="Text Box 37"/>
            <p:cNvSpPr/>
            <p:nvPr/>
          </p:nvSpPr>
          <p:spPr>
            <a:xfrm>
              <a:off x="3180960" y="3147840"/>
              <a:ext cx="311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ade Gothic Next LT Pro Lt"/>
                </a:rPr>
                <a:t>NZ</a:t>
              </a:r>
              <a:endParaRPr b="0" lang="en-US" sz="12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grpSp>
          <p:nvGrpSpPr>
            <p:cNvPr id="690" name="Group 34"/>
            <p:cNvGrpSpPr/>
            <p:nvPr/>
          </p:nvGrpSpPr>
          <p:grpSpPr>
            <a:xfrm>
              <a:off x="2230920" y="2382480"/>
              <a:ext cx="1261800" cy="1050480"/>
              <a:chOff x="2230920" y="2382480"/>
              <a:chExt cx="1261800" cy="1050480"/>
            </a:xfrm>
          </p:grpSpPr>
          <p:sp>
            <p:nvSpPr>
              <p:cNvPr id="691" name="Rectangle 36"/>
              <p:cNvSpPr/>
              <p:nvPr/>
            </p:nvSpPr>
            <p:spPr>
              <a:xfrm>
                <a:off x="2230920" y="2382480"/>
                <a:ext cx="1261800" cy="105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rade Gothic Next LT Pro Lt"/>
                </a:endParaRPr>
              </a:p>
            </p:txBody>
          </p:sp>
          <p:cxnSp>
            <p:nvCxnSpPr>
              <p:cNvPr id="692" name="AutoShape 35"/>
              <p:cNvCxnSpPr/>
              <p:nvPr/>
            </p:nvCxnSpPr>
            <p:spPr>
              <a:xfrm flipH="1">
                <a:off x="2861280" y="2907720"/>
                <a:ext cx="631080" cy="52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93" name="Text Box 33"/>
            <p:cNvSpPr/>
            <p:nvPr/>
          </p:nvSpPr>
          <p:spPr>
            <a:xfrm>
              <a:off x="2546280" y="2622960"/>
              <a:ext cx="134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ade Gothic Next LT Pro Lt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sp>
          <p:nvSpPr>
            <p:cNvPr id="694" name="Arc 32"/>
            <p:cNvSpPr/>
            <p:nvPr/>
          </p:nvSpPr>
          <p:spPr>
            <a:xfrm flipV="1">
              <a:off x="4156200" y="2396520"/>
              <a:ext cx="470520" cy="872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-360 h 872280"/>
                <a:gd name="textAreaBottom" fmla="*/ 872280 h 872280"/>
              </a:gdLst>
              <a:ahLst/>
              <a:rect l="textAreaLeft" t="textAreaTop" r="textAreaRight" b="textAreaBottom"/>
              <a:pathLst>
                <a:path fill="none" w="22201" h="43200">
                  <a:moveTo>
                    <a:pt x="600" y="0"/>
                  </a:moveTo>
                  <a:cubicBezTo>
                    <a:pt x="12530" y="0"/>
                    <a:pt x="22201" y="9670"/>
                    <a:pt x="22201" y="21600"/>
                  </a:cubicBezTo>
                  <a:cubicBezTo>
                    <a:pt x="22201" y="-32007"/>
                    <a:pt x="12530" y="-22336"/>
                    <a:pt x="601" y="-22336"/>
                  </a:cubicBezTo>
                  <a:cubicBezTo>
                    <a:pt x="400" y="-22336"/>
                    <a:pt x="200" y="-22339"/>
                    <a:pt x="0" y="-22345"/>
                  </a:cubicBezTo>
                </a:path>
                <a:path stroke="0" w="22201" h="43200">
                  <a:moveTo>
                    <a:pt x="600" y="0"/>
                  </a:moveTo>
                  <a:cubicBezTo>
                    <a:pt x="12530" y="0"/>
                    <a:pt x="22201" y="9670"/>
                    <a:pt x="22201" y="21600"/>
                  </a:cubicBezTo>
                  <a:cubicBezTo>
                    <a:pt x="22201" y="-32007"/>
                    <a:pt x="12530" y="-22336"/>
                    <a:pt x="601" y="-22336"/>
                  </a:cubicBezTo>
                  <a:cubicBezTo>
                    <a:pt x="400" y="-22336"/>
                    <a:pt x="200" y="-22339"/>
                    <a:pt x="0" y="-22345"/>
                  </a:cubicBezTo>
                  <a:lnTo>
                    <a:pt x="601" y="21600"/>
                  </a:lnTo>
                  <a:lnTo>
                    <a:pt x="60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grpSp>
          <p:nvGrpSpPr>
            <p:cNvPr id="695" name="Group 29"/>
            <p:cNvGrpSpPr/>
            <p:nvPr/>
          </p:nvGrpSpPr>
          <p:grpSpPr>
            <a:xfrm>
              <a:off x="5028480" y="2382480"/>
              <a:ext cx="1262160" cy="1050480"/>
              <a:chOff x="5028480" y="2382480"/>
              <a:chExt cx="1262160" cy="1050480"/>
            </a:xfrm>
          </p:grpSpPr>
          <p:sp>
            <p:nvSpPr>
              <p:cNvPr id="696" name="Rectangle 31"/>
              <p:cNvSpPr/>
              <p:nvPr/>
            </p:nvSpPr>
            <p:spPr>
              <a:xfrm rot="10800000">
                <a:off x="5028480" y="2382480"/>
                <a:ext cx="1262160" cy="105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rade Gothic Next LT Pro Lt"/>
                </a:endParaRPr>
              </a:p>
            </p:txBody>
          </p:sp>
          <p:cxnSp>
            <p:nvCxnSpPr>
              <p:cNvPr id="697" name="AutoShape 30"/>
              <p:cNvCxnSpPr/>
              <p:nvPr/>
            </p:nvCxnSpPr>
            <p:spPr>
              <a:xfrm flipV="1">
                <a:off x="5028480" y="2382840"/>
                <a:ext cx="631440" cy="52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98" name="Text Box 28"/>
            <p:cNvSpPr/>
            <p:nvPr/>
          </p:nvSpPr>
          <p:spPr>
            <a:xfrm>
              <a:off x="5705640" y="2960280"/>
              <a:ext cx="134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ade Gothic Next LT Pro Lt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</p:grpSp>
      <p:grpSp>
        <p:nvGrpSpPr>
          <p:cNvPr id="699" name="Group 5"/>
          <p:cNvGrpSpPr/>
          <p:nvPr/>
        </p:nvGrpSpPr>
        <p:grpSpPr>
          <a:xfrm>
            <a:off x="2309760" y="3828960"/>
            <a:ext cx="895320" cy="876240"/>
            <a:chOff x="2309760" y="3828960"/>
            <a:chExt cx="895320" cy="876240"/>
          </a:xfrm>
        </p:grpSpPr>
        <p:sp>
          <p:nvSpPr>
            <p:cNvPr id="700" name="Rectangle 1"/>
            <p:cNvSpPr/>
            <p:nvPr/>
          </p:nvSpPr>
          <p:spPr>
            <a:xfrm>
              <a:off x="2309760" y="3828960"/>
              <a:ext cx="89532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01" name="Straight Arrow Connector 3"/>
            <p:cNvCxnSpPr/>
            <p:nvPr/>
          </p:nvCxnSpPr>
          <p:spPr>
            <a:xfrm>
              <a:off x="2452320" y="3933360"/>
              <a:ext cx="1080" cy="648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02" name="Straight Arrow Connector 24"/>
            <p:cNvCxnSpPr/>
            <p:nvPr/>
          </p:nvCxnSpPr>
          <p:spPr>
            <a:xfrm>
              <a:off x="2642760" y="3942720"/>
              <a:ext cx="1080" cy="648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03" name="Straight Arrow Connector 25"/>
            <p:cNvCxnSpPr/>
            <p:nvPr/>
          </p:nvCxnSpPr>
          <p:spPr>
            <a:xfrm>
              <a:off x="2814120" y="3942720"/>
              <a:ext cx="1080" cy="6483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04" name="Straight Arrow Connector 26"/>
            <p:cNvCxnSpPr/>
            <p:nvPr/>
          </p:nvCxnSpPr>
          <p:spPr>
            <a:xfrm>
              <a:off x="2999880" y="3942720"/>
              <a:ext cx="1080" cy="64836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705" name="Group 34"/>
          <p:cNvGrpSpPr/>
          <p:nvPr/>
        </p:nvGrpSpPr>
        <p:grpSpPr>
          <a:xfrm>
            <a:off x="2309400" y="4933440"/>
            <a:ext cx="895320" cy="876600"/>
            <a:chOff x="2309400" y="4933440"/>
            <a:chExt cx="895320" cy="876600"/>
          </a:xfrm>
        </p:grpSpPr>
        <p:sp>
          <p:nvSpPr>
            <p:cNvPr id="706" name="Rectangle 35"/>
            <p:cNvSpPr/>
            <p:nvPr/>
          </p:nvSpPr>
          <p:spPr>
            <a:xfrm rot="10800000">
              <a:off x="2309400" y="4933440"/>
              <a:ext cx="895320" cy="87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07" name="Straight Arrow Connector 36"/>
            <p:cNvCxnSpPr/>
            <p:nvPr/>
          </p:nvCxnSpPr>
          <p:spPr>
            <a:xfrm flipH="1" flipV="1">
              <a:off x="3061440" y="5057280"/>
              <a:ext cx="1080" cy="648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08" name="Straight Arrow Connector 37"/>
            <p:cNvCxnSpPr/>
            <p:nvPr/>
          </p:nvCxnSpPr>
          <p:spPr>
            <a:xfrm flipH="1" flipV="1">
              <a:off x="2871000" y="5047920"/>
              <a:ext cx="1080" cy="648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09" name="Straight Arrow Connector 38"/>
            <p:cNvCxnSpPr/>
            <p:nvPr/>
          </p:nvCxnSpPr>
          <p:spPr>
            <a:xfrm flipH="1" flipV="1">
              <a:off x="2699640" y="5047920"/>
              <a:ext cx="1080" cy="6483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0" name="Straight Arrow Connector 39"/>
            <p:cNvCxnSpPr/>
            <p:nvPr/>
          </p:nvCxnSpPr>
          <p:spPr>
            <a:xfrm flipH="1" flipV="1">
              <a:off x="2513880" y="5047920"/>
              <a:ext cx="1080" cy="64836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711" name="Group 40"/>
          <p:cNvGrpSpPr/>
          <p:nvPr/>
        </p:nvGrpSpPr>
        <p:grpSpPr>
          <a:xfrm>
            <a:off x="4003560" y="3828600"/>
            <a:ext cx="876240" cy="895320"/>
            <a:chOff x="4003560" y="3828600"/>
            <a:chExt cx="876240" cy="895320"/>
          </a:xfrm>
        </p:grpSpPr>
        <p:sp>
          <p:nvSpPr>
            <p:cNvPr id="712" name="Rectangle 41"/>
            <p:cNvSpPr/>
            <p:nvPr/>
          </p:nvSpPr>
          <p:spPr>
            <a:xfrm rot="16200000">
              <a:off x="3993840" y="3837960"/>
              <a:ext cx="89532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13" name="Straight Arrow Connector 42"/>
            <p:cNvCxnSpPr/>
            <p:nvPr/>
          </p:nvCxnSpPr>
          <p:spPr>
            <a:xfrm flipV="1">
              <a:off x="4107960" y="4580640"/>
              <a:ext cx="648360" cy="10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14" name="Straight Arrow Connector 43"/>
            <p:cNvCxnSpPr/>
            <p:nvPr/>
          </p:nvCxnSpPr>
          <p:spPr>
            <a:xfrm flipV="1">
              <a:off x="4117320" y="4390200"/>
              <a:ext cx="648360" cy="108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15" name="Straight Arrow Connector 44"/>
            <p:cNvCxnSpPr/>
            <p:nvPr/>
          </p:nvCxnSpPr>
          <p:spPr>
            <a:xfrm flipV="1">
              <a:off x="4117320" y="4218840"/>
              <a:ext cx="648360" cy="10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6" name="Straight Arrow Connector 45"/>
            <p:cNvCxnSpPr/>
            <p:nvPr/>
          </p:nvCxnSpPr>
          <p:spPr>
            <a:xfrm flipV="1">
              <a:off x="4117320" y="4033080"/>
              <a:ext cx="64836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717" name="Group 46"/>
          <p:cNvGrpSpPr/>
          <p:nvPr/>
        </p:nvGrpSpPr>
        <p:grpSpPr>
          <a:xfrm>
            <a:off x="4005360" y="4971960"/>
            <a:ext cx="876240" cy="895320"/>
            <a:chOff x="4005360" y="4971960"/>
            <a:chExt cx="876240" cy="895320"/>
          </a:xfrm>
        </p:grpSpPr>
        <p:sp>
          <p:nvSpPr>
            <p:cNvPr id="718" name="Rectangle 47"/>
            <p:cNvSpPr/>
            <p:nvPr/>
          </p:nvSpPr>
          <p:spPr>
            <a:xfrm rot="5400000">
              <a:off x="3995640" y="4981320"/>
              <a:ext cx="89532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19" name="Straight Arrow Connector 48"/>
            <p:cNvCxnSpPr/>
            <p:nvPr/>
          </p:nvCxnSpPr>
          <p:spPr>
            <a:xfrm flipH="1">
              <a:off x="4129200" y="5114520"/>
              <a:ext cx="648360" cy="10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20" name="Straight Arrow Connector 49"/>
            <p:cNvCxnSpPr/>
            <p:nvPr/>
          </p:nvCxnSpPr>
          <p:spPr>
            <a:xfrm flipH="1">
              <a:off x="4119840" y="5304960"/>
              <a:ext cx="648360" cy="108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21" name="Straight Arrow Connector 50"/>
            <p:cNvCxnSpPr/>
            <p:nvPr/>
          </p:nvCxnSpPr>
          <p:spPr>
            <a:xfrm flipH="1">
              <a:off x="4119840" y="5476320"/>
              <a:ext cx="648360" cy="10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51"/>
            <p:cNvCxnSpPr/>
            <p:nvPr/>
          </p:nvCxnSpPr>
          <p:spPr>
            <a:xfrm flipH="1">
              <a:off x="4119840" y="5662080"/>
              <a:ext cx="64836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723" name="Group 52"/>
          <p:cNvGrpSpPr/>
          <p:nvPr/>
        </p:nvGrpSpPr>
        <p:grpSpPr>
          <a:xfrm>
            <a:off x="5796000" y="3828600"/>
            <a:ext cx="876240" cy="895320"/>
            <a:chOff x="5796000" y="3828600"/>
            <a:chExt cx="876240" cy="895320"/>
          </a:xfrm>
        </p:grpSpPr>
        <p:sp>
          <p:nvSpPr>
            <p:cNvPr id="724" name="Rectangle 53"/>
            <p:cNvSpPr/>
            <p:nvPr/>
          </p:nvSpPr>
          <p:spPr>
            <a:xfrm rot="16200000">
              <a:off x="5786280" y="3837960"/>
              <a:ext cx="89532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25" name="Straight Arrow Connector 54"/>
            <p:cNvCxnSpPr/>
            <p:nvPr/>
          </p:nvCxnSpPr>
          <p:spPr>
            <a:xfrm flipV="1">
              <a:off x="6355800" y="4462560"/>
              <a:ext cx="218880" cy="2055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26" name="Straight Arrow Connector 55"/>
            <p:cNvCxnSpPr/>
            <p:nvPr/>
          </p:nvCxnSpPr>
          <p:spPr>
            <a:xfrm flipV="1">
              <a:off x="6111360" y="4142880"/>
              <a:ext cx="436680" cy="43884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56"/>
            <p:cNvCxnSpPr/>
            <p:nvPr/>
          </p:nvCxnSpPr>
          <p:spPr>
            <a:xfrm flipV="1">
              <a:off x="5825880" y="3952440"/>
              <a:ext cx="573840" cy="5482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8" name="Straight Arrow Connector 57"/>
            <p:cNvCxnSpPr/>
            <p:nvPr/>
          </p:nvCxnSpPr>
          <p:spPr>
            <a:xfrm flipV="1">
              <a:off x="5910120" y="3933000"/>
              <a:ext cx="203040" cy="2102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729" name="Group 69"/>
          <p:cNvGrpSpPr/>
          <p:nvPr/>
        </p:nvGrpSpPr>
        <p:grpSpPr>
          <a:xfrm>
            <a:off x="5796000" y="4971960"/>
            <a:ext cx="876240" cy="895320"/>
            <a:chOff x="5796000" y="4971960"/>
            <a:chExt cx="876240" cy="895320"/>
          </a:xfrm>
        </p:grpSpPr>
        <p:sp>
          <p:nvSpPr>
            <p:cNvPr id="730" name="Rectangle 70"/>
            <p:cNvSpPr/>
            <p:nvPr/>
          </p:nvSpPr>
          <p:spPr>
            <a:xfrm rot="5400000">
              <a:off x="5786280" y="4981320"/>
              <a:ext cx="89532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rade Gothic Next LT Pro Lt"/>
              </a:endParaRPr>
            </a:p>
          </p:txBody>
        </p:sp>
        <p:cxnSp>
          <p:nvCxnSpPr>
            <p:cNvPr id="731" name="Straight Arrow Connector 71"/>
            <p:cNvCxnSpPr/>
            <p:nvPr/>
          </p:nvCxnSpPr>
          <p:spPr>
            <a:xfrm flipH="1">
              <a:off x="5919840" y="5047920"/>
              <a:ext cx="218520" cy="2109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732" name="Straight Arrow Connector 72"/>
            <p:cNvCxnSpPr/>
            <p:nvPr/>
          </p:nvCxnSpPr>
          <p:spPr>
            <a:xfrm flipH="1">
              <a:off x="5920560" y="5114520"/>
              <a:ext cx="436680" cy="43884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733" name="Straight Arrow Connector 73"/>
            <p:cNvCxnSpPr/>
            <p:nvPr/>
          </p:nvCxnSpPr>
          <p:spPr>
            <a:xfrm flipH="1">
              <a:off x="6068880" y="5195520"/>
              <a:ext cx="573840" cy="5482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34" name="Straight Arrow Connector 74"/>
            <p:cNvCxnSpPr/>
            <p:nvPr/>
          </p:nvCxnSpPr>
          <p:spPr>
            <a:xfrm flipH="1">
              <a:off x="6331320" y="5495760"/>
              <a:ext cx="311760" cy="25776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735" name="TextBox 17"/>
          <p:cNvSpPr/>
          <p:nvPr/>
        </p:nvSpPr>
        <p:spPr>
          <a:xfrm>
            <a:off x="806400" y="425772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Before rotation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36" name="TextBox 76"/>
          <p:cNvSpPr/>
          <p:nvPr/>
        </p:nvSpPr>
        <p:spPr>
          <a:xfrm>
            <a:off x="836280" y="525780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After rotation 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by 180 degrees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59688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Proposal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8520" indent="-21852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Rotate the residual block 180 degrees when transform is skipped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43160" indent="-22140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73bc"/>
                </a:solidFill>
                <a:latin typeface="Trade Gothic Next LT Pro Lt"/>
              </a:rPr>
              <a:t>Was proposed in JCTVC-J0093 and JCTVC-J0053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443160" indent="-221400">
              <a:spcBef>
                <a:spcPts val="10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70c0"/>
                </a:solidFill>
                <a:latin typeface="Trade Gothic Next LT Pro Lt"/>
              </a:rPr>
              <a:t>Simple to implement: minor changes in both HEVC text and HM software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646920" indent="-203760">
              <a:spcBef>
                <a:spcPts val="10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70c0"/>
                </a:solidFill>
                <a:latin typeface="Trade Gothic Next LT Pro Lt"/>
              </a:rPr>
              <a:t>no change to entropy coding, loop filtering, and intra prediction. 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76F-A0FB-4788-8FE4-28A22C1B6111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40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C3BC-642D-49B7-ABF5-294CD3CE2A51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1876320" y="547704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tra Prediction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742" name="Rectangle 19" descr=""/>
          <p:cNvPicPr/>
          <p:nvPr/>
        </p:nvPicPr>
        <p:blipFill>
          <a:blip r:embed="rId1"/>
          <a:stretch/>
        </p:blipFill>
        <p:spPr>
          <a:xfrm>
            <a:off x="3578400" y="5450040"/>
            <a:ext cx="1255680" cy="72540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0"/>
          <p:cNvSpPr/>
          <p:nvPr/>
        </p:nvSpPr>
        <p:spPr>
          <a:xfrm>
            <a:off x="5276880" y="547704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Entropy Coding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cxnSp>
        <p:nvCxnSpPr>
          <p:cNvPr id="744" name="Straight Arrow Connector 21"/>
          <p:cNvCxnSpPr>
            <a:stCxn id="741" idx="3"/>
            <a:endCxn id="742" idx="1"/>
          </p:cNvCxnSpPr>
          <p:nvPr/>
        </p:nvCxnSpPr>
        <p:spPr>
          <a:xfrm>
            <a:off x="3105000" y="5819400"/>
            <a:ext cx="4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5" name="Straight Arrow Connector 22"/>
          <p:cNvCxnSpPr>
            <a:stCxn id="742" idx="3"/>
            <a:endCxn id="743" idx="1"/>
          </p:cNvCxnSpPr>
          <p:nvPr/>
        </p:nvCxnSpPr>
        <p:spPr>
          <a:xfrm>
            <a:off x="4819680" y="5819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6" name="Straight Arrow Connector 23"/>
          <p:cNvCxnSpPr/>
          <p:nvPr/>
        </p:nvCxnSpPr>
        <p:spPr>
          <a:xfrm>
            <a:off x="6505560" y="5819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Straight Arrow Connector 24"/>
          <p:cNvCxnSpPr/>
          <p:nvPr/>
        </p:nvCxnSpPr>
        <p:spPr>
          <a:xfrm>
            <a:off x="1390320" y="581940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8" name="Rectangle 1"/>
          <p:cNvSpPr/>
          <p:nvPr/>
        </p:nvSpPr>
        <p:spPr>
          <a:xfrm>
            <a:off x="1469880" y="3470400"/>
            <a:ext cx="6129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rade Gothic Next LT Pro Lt"/>
              </a:rPr>
              <a:t>r</a:t>
            </a:r>
            <a:r>
              <a:rPr b="0" lang="en-GB" sz="1600" spc="-1" strike="noStrike" baseline="-25000">
                <a:solidFill>
                  <a:srgbClr val="ff0000"/>
                </a:solidFill>
                <a:latin typeface="Trade Gothic Next LT Pro Lt"/>
              </a:rPr>
              <a:t>(nW-1-i), (nH-1-j)</a:t>
            </a:r>
            <a:r>
              <a:rPr b="0" lang="en-GB" sz="1600" spc="-1" strike="noStrike">
                <a:solidFill>
                  <a:srgbClr val="ff0000"/>
                </a:solidFill>
                <a:latin typeface="Trade Gothic Next LT Pro Lt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= d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rade Gothic Next LT Pro Lt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&lt;&lt;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−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shift )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(8‑252)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 Gothic Next LT Pro Lt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587960" y="2781360"/>
            <a:ext cx="442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rade Gothic Next LT Pro Lt"/>
              </a:rPr>
              <a:t>ij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 = d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rade Gothic Next LT Pro Lt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&lt;&lt;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 −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shift )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ade Gothic Next LT Pro Lt"/>
              </a:rPr>
              <a:t>                (8‑252)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1876320" y="447192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tra Prediction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pic>
        <p:nvPicPr>
          <p:cNvPr id="751" name="Rectangle 15" descr=""/>
          <p:cNvPicPr/>
          <p:nvPr/>
        </p:nvPicPr>
        <p:blipFill>
          <a:blip r:embed="rId2"/>
          <a:stretch/>
        </p:blipFill>
        <p:spPr>
          <a:xfrm>
            <a:off x="3578400" y="4443480"/>
            <a:ext cx="1255680" cy="72540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16"/>
          <p:cNvSpPr/>
          <p:nvPr/>
        </p:nvSpPr>
        <p:spPr>
          <a:xfrm>
            <a:off x="5276880" y="4471920"/>
            <a:ext cx="1228680" cy="685800"/>
          </a:xfrm>
          <a:prstGeom prst="rect">
            <a:avLst/>
          </a:prstGeom>
          <a:solidFill>
            <a:srgbClr val="bf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Entropy Coding</a:t>
            </a:r>
            <a:endParaRPr b="0" lang="en-US" sz="16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cxnSp>
        <p:nvCxnSpPr>
          <p:cNvPr id="753" name="Straight Arrow Connector 21"/>
          <p:cNvCxnSpPr>
            <a:stCxn id="750" idx="3"/>
            <a:endCxn id="751" idx="1"/>
          </p:cNvCxnSpPr>
          <p:nvPr/>
        </p:nvCxnSpPr>
        <p:spPr>
          <a:xfrm>
            <a:off x="3105000" y="4814640"/>
            <a:ext cx="4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4" name="Straight Arrow Connector 22"/>
          <p:cNvCxnSpPr>
            <a:stCxn id="751" idx="3"/>
            <a:endCxn id="752" idx="1"/>
          </p:cNvCxnSpPr>
          <p:nvPr/>
        </p:nvCxnSpPr>
        <p:spPr>
          <a:xfrm>
            <a:off x="4819680" y="4814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5" name="Straight Arrow Connector 23"/>
          <p:cNvCxnSpPr/>
          <p:nvPr/>
        </p:nvCxnSpPr>
        <p:spPr>
          <a:xfrm>
            <a:off x="6505560" y="4814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6" name="Straight Arrow Connector 24"/>
          <p:cNvCxnSpPr/>
          <p:nvPr/>
        </p:nvCxnSpPr>
        <p:spPr>
          <a:xfrm>
            <a:off x="1390320" y="481464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7" name="Down Arrow 3"/>
          <p:cNvSpPr/>
          <p:nvPr/>
        </p:nvSpPr>
        <p:spPr>
          <a:xfrm>
            <a:off x="1962000" y="3191040"/>
            <a:ext cx="152640" cy="2793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rade Gothic Next LT Pro Lt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Results (Common conditions)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CF5D-C089-4540-A8F5-27070FBDF1CE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60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62B-7A8A-4414-B856-28B83816926E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714240" y="1378080"/>
          <a:ext cx="7448760" cy="3155760"/>
        </p:xfrm>
        <a:graphic>
          <a:graphicData uri="http://schemas.openxmlformats.org/drawingml/2006/table">
            <a:tbl>
              <a:tblPr/>
              <a:tblGrid>
                <a:gridCol w="744840"/>
                <a:gridCol w="744480"/>
                <a:gridCol w="745920"/>
                <a:gridCol w="744480"/>
                <a:gridCol w="744840"/>
                <a:gridCol w="744480"/>
                <a:gridCol w="744480"/>
                <a:gridCol w="745920"/>
                <a:gridCol w="744840"/>
                <a:gridCol w="744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All Intra M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Random Access M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Low delay B M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6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1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3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5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7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9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Results (Common conditions)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8D94-D8D3-4FB0-95DC-2B75957B7DF2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64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02A-DB70-4A65-ABB8-AF44A48D508D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714240" y="1378080"/>
          <a:ext cx="7448760" cy="3155760"/>
        </p:xfrm>
        <a:graphic>
          <a:graphicData uri="http://schemas.openxmlformats.org/drawingml/2006/table">
            <a:tbl>
              <a:tblPr/>
              <a:tblGrid>
                <a:gridCol w="744840"/>
                <a:gridCol w="744480"/>
                <a:gridCol w="745920"/>
                <a:gridCol w="744480"/>
                <a:gridCol w="744840"/>
                <a:gridCol w="744480"/>
                <a:gridCol w="744480"/>
                <a:gridCol w="745920"/>
                <a:gridCol w="744840"/>
                <a:gridCol w="744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All Intra HE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Random Access HE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Low delay B HE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6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8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4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1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5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7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9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6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6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3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64008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Results (Lossless)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7F9-9599-4AE0-BB67-4EC5AE25F9D1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68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2C3-03A9-4F1E-83E8-CE8395948924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971640" y="1739880"/>
          <a:ext cx="7391160" cy="4195800"/>
        </p:xfrm>
        <a:graphic>
          <a:graphicData uri="http://schemas.openxmlformats.org/drawingml/2006/table">
            <a:tbl>
              <a:tblPr/>
              <a:tblGrid>
                <a:gridCol w="952560"/>
                <a:gridCol w="2003400"/>
                <a:gridCol w="739800"/>
                <a:gridCol w="739800"/>
                <a:gridCol w="738000"/>
                <a:gridCol w="2217600"/>
              </a:tblGrid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All Intra 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(w/o 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(w/ 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2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57780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 Gothic Next LT Pro Lt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38120" y="10569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172440" indent="-17244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Rotate the residual block by 180 degrees when transform is skipped and in lossless mode. 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349920" indent="-17496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Logical as supported by statistics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349920" indent="-17496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Simple to implement: minor changes in both HEVC text and in HM software.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349920" indent="-17496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Effective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510840" indent="-160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 AI-Main, </a:t>
            </a:r>
            <a:r>
              <a:rPr b="0" lang="en-US" sz="1600" spc="-1" strike="noStrike">
                <a:solidFill>
                  <a:srgbClr val="ff0000"/>
                </a:solidFill>
                <a:latin typeface="Trade Gothic Next LT Pro Lt"/>
              </a:rPr>
              <a:t>-1.4% 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for Class F, </a:t>
            </a:r>
            <a:r>
              <a:rPr b="0" lang="en-US" sz="1600" spc="-1" strike="noStrike">
                <a:solidFill>
                  <a:srgbClr val="ff0000"/>
                </a:solidFill>
                <a:latin typeface="Trade Gothic Next LT Pro Lt"/>
              </a:rPr>
              <a:t>-0.4% 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for Class D, </a:t>
            </a:r>
            <a:r>
              <a:rPr b="0" lang="en-US" sz="1600" spc="-1" strike="noStrike">
                <a:solidFill>
                  <a:srgbClr val="ff0000"/>
                </a:solidFill>
                <a:latin typeface="Trade Gothic Next LT Pro Lt"/>
              </a:rPr>
              <a:t>-0.3% 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for Class C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2" marL="510840" indent="-160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In Lossless, </a:t>
            </a:r>
            <a:r>
              <a:rPr b="0" lang="en-US" sz="1600" spc="-1" strike="noStrike">
                <a:solidFill>
                  <a:srgbClr val="ff0000"/>
                </a:solidFill>
                <a:latin typeface="Trade Gothic Next LT Pro Lt"/>
              </a:rPr>
              <a:t>-1.9% </a:t>
            </a:r>
            <a:r>
              <a:rPr b="0" lang="en-US" sz="1600" spc="-1" strike="noStrike">
                <a:solidFill>
                  <a:srgbClr val="000000"/>
                </a:solidFill>
                <a:latin typeface="Trade Gothic Next LT Pro Lt"/>
              </a:rPr>
              <a:t>for all Classes in AI-Main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  <a:p>
            <a:pPr lvl="1" marL="349920" indent="-174960">
              <a:spcBef>
                <a:spcPts val="1001"/>
              </a:spcBef>
              <a:buClr>
                <a:srgbClr val="0073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3bc"/>
                </a:solidFill>
                <a:latin typeface="Trade Gothic Next LT Pro Lt"/>
              </a:rPr>
              <a:t>Recommended to be adopted into HEVC. </a:t>
            </a:r>
            <a:endParaRPr b="0" lang="en-US" sz="1600" spc="-1" strike="noStrike">
              <a:solidFill>
                <a:srgbClr val="96999a"/>
              </a:solidFill>
              <a:latin typeface="Trade Gothic Next LT Pro Lt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8226360" y="1904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BDB-914C-4E45-9608-8D143D11BC27}" type="slidenum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sp>
        <p:nvSpPr>
          <p:cNvPr id="773" name="Date Placeholder 4"/>
          <p:cNvSpPr/>
          <p:nvPr/>
        </p:nvSpPr>
        <p:spPr>
          <a:xfrm>
            <a:off x="6858000" y="19224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616B-21ED-4494-81B5-9BFA55899FFE}" type="datetime3">
              <a:rPr b="0" lang="en-US" sz="900" spc="-1" strike="noStrike">
                <a:solidFill>
                  <a:srgbClr val="96999a"/>
                </a:solidFill>
                <a:latin typeface="Trade Gothic Next LT Pro Lt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rade Gothic Next LT Pro Lt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1162080" y="4016520"/>
          <a:ext cx="6095880" cy="1112760"/>
        </p:xfrm>
        <a:graphic>
          <a:graphicData uri="http://schemas.openxmlformats.org/drawingml/2006/table">
            <a:tbl>
              <a:tblPr/>
              <a:tblGrid>
                <a:gridCol w="1819080"/>
                <a:gridCol w="1229040"/>
                <a:gridCol w="1523880"/>
                <a:gridCol w="152388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Luma BD-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es A-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1190520" y="5235480"/>
          <a:ext cx="6096240" cy="1011240"/>
        </p:xfrm>
        <a:graphic>
          <a:graphicData uri="http://schemas.openxmlformats.org/drawingml/2006/table">
            <a:tbl>
              <a:tblPr/>
              <a:tblGrid>
                <a:gridCol w="1819440"/>
                <a:gridCol w="1228680"/>
                <a:gridCol w="1523880"/>
                <a:gridCol w="1524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Lossless Rate Sa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ade Gothic Next LT Pro Lt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3bc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Classes A-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1.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ade Gothic Next LT Pro Lt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ade Gothic Next LT Pro L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4:50:09Z</dcterms:created>
  <dc:creator>Yves Lepage</dc:creator>
  <dc:description/>
  <dc:language>en-US</dc:language>
  <cp:lastModifiedBy>Jing Wang</cp:lastModifiedBy>
  <dcterms:modified xsi:type="dcterms:W3CDTF">2012-10-12T02:54:26Z</dcterms:modified>
  <cp:revision>137</cp:revision>
  <dc:subject/>
  <dc:title>A few tips for using  this template </dc:title>
</cp:coreProperties>
</file>